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439-BCD7-4276-AF2A-A76D0566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A43-6BA0-4944-A778-955E708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75E-7D1D-4812-A8CE-6C310932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7BD-4F9D-4425-AA90-64556412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A92-33B0-49F5-801D-7E4F24A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6D3-DA34-48A1-A4F3-F260B02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E19-A50A-4669-B00F-322347D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120-2FD7-47E6-96B7-64A43DB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E95-0F1C-4317-95B8-99962358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151-38F1-480B-9ADD-9310CEF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518-33C3-4C87-8B53-F147B8F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162-7EA4-4D8D-92E4-01A3B0A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5DD-E4DE-4A90-9530-8E965DF0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esday, April 6,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 each fr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/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3920" y="1857240"/>
            <a:ext cx="231840" cy="258840"/>
          </a:xfrm>
          <a:custGeom>
            <a:avLst/>
            <a:gdLst/>
            <a:ahLst/>
            <a:rect l="l" t="t" r="r" b="b"/>
            <a:pathLst>
              <a:path w="645" h="721">
                <a:moveTo>
                  <a:pt x="3969" y="5804"/>
                </a:moveTo>
                <a:cubicBezTo>
                  <a:pt x="4010" y="5763"/>
                  <a:pt x="4052" y="5721"/>
                  <a:pt x="4093" y="5680"/>
                </a:cubicBezTo>
              </a:path>
              <a:path w="645" h="721">
                <a:moveTo>
                  <a:pt x="3870" y="5432"/>
                </a:moveTo>
                <a:cubicBezTo>
                  <a:pt x="3870" y="5440"/>
                  <a:pt x="3870" y="5449"/>
                  <a:pt x="3870" y="5457"/>
                </a:cubicBezTo>
              </a:path>
              <a:path w="645" h="721">
                <a:moveTo>
                  <a:pt x="4118" y="5879"/>
                </a:moveTo>
                <a:lnTo>
                  <a:pt x="4118" y="5879"/>
                </a:lnTo>
              </a:path>
              <a:path w="645" h="721">
                <a:moveTo>
                  <a:pt x="4043" y="5209"/>
                </a:moveTo>
                <a:cubicBezTo>
                  <a:pt x="4124" y="5199"/>
                  <a:pt x="4235" y="5129"/>
                  <a:pt x="4316" y="5159"/>
                </a:cubicBezTo>
                <a:cubicBezTo>
                  <a:pt x="4341" y="5168"/>
                  <a:pt x="4294" y="5293"/>
                  <a:pt x="4291" y="5308"/>
                </a:cubicBezTo>
                <a:cubicBezTo>
                  <a:pt x="4372" y="5308"/>
                  <a:pt x="4446" y="5303"/>
                  <a:pt x="4514" y="5333"/>
                </a:cubicBezTo>
                <a:cubicBezTo>
                  <a:pt x="4477" y="5482"/>
                  <a:pt x="4413" y="5507"/>
                  <a:pt x="4266" y="555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3800" y="1830240"/>
            <a:ext cx="1411200" cy="920880"/>
          </a:xfrm>
          <a:custGeom>
            <a:avLst/>
            <a:gdLst/>
            <a:ahLst/>
            <a:rect l="l" t="t" r="r" b="b"/>
            <a:pathLst>
              <a:path w="3920" h="2556">
                <a:moveTo>
                  <a:pt x="7863" y="5829"/>
                </a:moveTo>
                <a:cubicBezTo>
                  <a:pt x="7846" y="5897"/>
                  <a:pt x="7800" y="5974"/>
                  <a:pt x="7789" y="6052"/>
                </a:cubicBezTo>
                <a:cubicBezTo>
                  <a:pt x="7789" y="6110"/>
                  <a:pt x="7789" y="6119"/>
                  <a:pt x="7789" y="6152"/>
                </a:cubicBezTo>
                <a:cubicBezTo>
                  <a:pt x="7906" y="6177"/>
                  <a:pt x="8020" y="6119"/>
                  <a:pt x="8111" y="6028"/>
                </a:cubicBezTo>
                <a:cubicBezTo>
                  <a:pt x="8128" y="6003"/>
                  <a:pt x="8144" y="5978"/>
                  <a:pt x="8161" y="5953"/>
                </a:cubicBezTo>
              </a:path>
              <a:path w="3920" h="2556">
                <a:moveTo>
                  <a:pt x="8111" y="5680"/>
                </a:moveTo>
                <a:cubicBezTo>
                  <a:pt x="8101" y="5916"/>
                  <a:pt x="8051" y="6142"/>
                  <a:pt x="8037" y="6375"/>
                </a:cubicBezTo>
                <a:cubicBezTo>
                  <a:pt x="8037" y="6391"/>
                  <a:pt x="8037" y="6408"/>
                  <a:pt x="8037" y="6424"/>
                </a:cubicBezTo>
              </a:path>
              <a:path w="3920" h="2556">
                <a:moveTo>
                  <a:pt x="5457" y="6127"/>
                </a:moveTo>
                <a:cubicBezTo>
                  <a:pt x="5477" y="6066"/>
                  <a:pt x="5589" y="6018"/>
                  <a:pt x="5655" y="5978"/>
                </a:cubicBezTo>
              </a:path>
              <a:path w="3920" h="2556">
                <a:moveTo>
                  <a:pt x="5507" y="5829"/>
                </a:moveTo>
                <a:lnTo>
                  <a:pt x="5507" y="5829"/>
                </a:lnTo>
              </a:path>
              <a:path w="3920" h="2556">
                <a:moveTo>
                  <a:pt x="5879" y="5581"/>
                </a:moveTo>
                <a:cubicBezTo>
                  <a:pt x="5937" y="5564"/>
                  <a:pt x="5992" y="5543"/>
                  <a:pt x="6052" y="5531"/>
                </a:cubicBezTo>
                <a:cubicBezTo>
                  <a:pt x="6038" y="5605"/>
                  <a:pt x="5990" y="5664"/>
                  <a:pt x="5953" y="5730"/>
                </a:cubicBezTo>
                <a:cubicBezTo>
                  <a:pt x="5988" y="5730"/>
                  <a:pt x="6091" y="5736"/>
                  <a:pt x="6102" y="5755"/>
                </a:cubicBezTo>
                <a:cubicBezTo>
                  <a:pt x="6150" y="5842"/>
                  <a:pt x="6002" y="5901"/>
                  <a:pt x="5953" y="5928"/>
                </a:cubicBezTo>
              </a:path>
              <a:path w="3920" h="2556">
                <a:moveTo>
                  <a:pt x="7367" y="6672"/>
                </a:moveTo>
                <a:cubicBezTo>
                  <a:pt x="7623" y="6628"/>
                  <a:pt x="7902" y="6591"/>
                  <a:pt x="8161" y="6598"/>
                </a:cubicBezTo>
                <a:cubicBezTo>
                  <a:pt x="8295" y="6617"/>
                  <a:pt x="8317" y="6608"/>
                  <a:pt x="8384" y="6648"/>
                </a:cubicBezTo>
              </a:path>
              <a:path w="3920" h="2556">
                <a:moveTo>
                  <a:pt x="8012" y="6821"/>
                </a:moveTo>
                <a:cubicBezTo>
                  <a:pt x="7957" y="6821"/>
                  <a:pt x="7770" y="6794"/>
                  <a:pt x="7764" y="6846"/>
                </a:cubicBezTo>
                <a:cubicBezTo>
                  <a:pt x="7756" y="6923"/>
                  <a:pt x="7763" y="6972"/>
                  <a:pt x="7739" y="7045"/>
                </a:cubicBezTo>
                <a:cubicBezTo>
                  <a:pt x="7850" y="7045"/>
                  <a:pt x="7952" y="7028"/>
                  <a:pt x="8062" y="7020"/>
                </a:cubicBezTo>
                <a:cubicBezTo>
                  <a:pt x="8151" y="7020"/>
                  <a:pt x="8177" y="7013"/>
                  <a:pt x="8210" y="7069"/>
                </a:cubicBezTo>
                <a:cubicBezTo>
                  <a:pt x="8110" y="7221"/>
                  <a:pt x="8012" y="7230"/>
                  <a:pt x="7838" y="7268"/>
                </a:cubicBezTo>
              </a:path>
              <a:path w="3920" h="2556">
                <a:moveTo>
                  <a:pt x="7094" y="7491"/>
                </a:moveTo>
                <a:cubicBezTo>
                  <a:pt x="7414" y="7638"/>
                  <a:pt x="7653" y="7674"/>
                  <a:pt x="8012" y="7615"/>
                </a:cubicBezTo>
                <a:cubicBezTo>
                  <a:pt x="8380" y="7555"/>
                  <a:pt x="8786" y="7465"/>
                  <a:pt x="9054" y="7193"/>
                </a:cubicBezTo>
                <a:cubicBezTo>
                  <a:pt x="9311" y="6932"/>
                  <a:pt x="9383" y="6576"/>
                  <a:pt x="9376" y="6226"/>
                </a:cubicBezTo>
                <a:cubicBezTo>
                  <a:pt x="9370" y="5954"/>
                  <a:pt x="9351" y="5663"/>
                  <a:pt x="9153" y="5457"/>
                </a:cubicBezTo>
                <a:cubicBezTo>
                  <a:pt x="8939" y="5234"/>
                  <a:pt x="8614" y="5116"/>
                  <a:pt x="8310" y="5085"/>
                </a:cubicBezTo>
                <a:cubicBezTo>
                  <a:pt x="7986" y="5052"/>
                  <a:pt x="7562" y="5143"/>
                  <a:pt x="7293" y="5333"/>
                </a:cubicBezTo>
                <a:cubicBezTo>
                  <a:pt x="6930" y="5590"/>
                  <a:pt x="6874" y="6248"/>
                  <a:pt x="6821" y="6648"/>
                </a:cubicBezTo>
                <a:cubicBezTo>
                  <a:pt x="6766" y="7064"/>
                  <a:pt x="6849" y="7418"/>
                  <a:pt x="7317" y="7441"/>
                </a:cubicBezTo>
                <a:cubicBezTo>
                  <a:pt x="7425" y="7433"/>
                  <a:pt x="7532" y="7425"/>
                  <a:pt x="7640" y="74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3120" y="2820960"/>
            <a:ext cx="277920" cy="358920"/>
          </a:xfrm>
          <a:custGeom>
            <a:avLst/>
            <a:gdLst/>
            <a:ahLst/>
            <a:rect l="l" t="t" r="r" b="b"/>
            <a:pathLst>
              <a:path w="770" h="993">
                <a:moveTo>
                  <a:pt x="4093" y="8781"/>
                </a:moveTo>
                <a:cubicBezTo>
                  <a:pt x="4200" y="8738"/>
                  <a:pt x="4302" y="8617"/>
                  <a:pt x="4390" y="8533"/>
                </a:cubicBezTo>
                <a:cubicBezTo>
                  <a:pt x="4398" y="8525"/>
                  <a:pt x="4407" y="8516"/>
                  <a:pt x="4415" y="8508"/>
                </a:cubicBezTo>
              </a:path>
              <a:path w="770" h="993">
                <a:moveTo>
                  <a:pt x="4118" y="8458"/>
                </a:moveTo>
                <a:cubicBezTo>
                  <a:pt x="4118" y="8483"/>
                  <a:pt x="4118" y="8508"/>
                  <a:pt x="4118" y="8533"/>
                </a:cubicBezTo>
              </a:path>
              <a:path w="770" h="993">
                <a:moveTo>
                  <a:pt x="4415" y="8806"/>
                </a:moveTo>
                <a:cubicBezTo>
                  <a:pt x="4415" y="8814"/>
                  <a:pt x="4415" y="8822"/>
                  <a:pt x="4415" y="8830"/>
                </a:cubicBezTo>
              </a:path>
              <a:path w="770" h="993">
                <a:moveTo>
                  <a:pt x="4738" y="7863"/>
                </a:moveTo>
                <a:cubicBezTo>
                  <a:pt x="4659" y="7804"/>
                  <a:pt x="4605" y="7940"/>
                  <a:pt x="4589" y="8012"/>
                </a:cubicBezTo>
                <a:cubicBezTo>
                  <a:pt x="4554" y="8168"/>
                  <a:pt x="4657" y="8119"/>
                  <a:pt x="4713" y="8037"/>
                </a:cubicBezTo>
                <a:cubicBezTo>
                  <a:pt x="4839" y="7855"/>
                  <a:pt x="4830" y="8114"/>
                  <a:pt x="4862" y="826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00160" y="2919240"/>
            <a:ext cx="393840" cy="243000"/>
          </a:xfrm>
          <a:custGeom>
            <a:avLst/>
            <a:gdLst/>
            <a:ahLst/>
            <a:rect l="l" t="t" r="r" b="b"/>
            <a:pathLst>
              <a:path w="1093" h="671">
                <a:moveTo>
                  <a:pt x="5556" y="8731"/>
                </a:moveTo>
                <a:cubicBezTo>
                  <a:pt x="5642" y="8710"/>
                  <a:pt x="5729" y="8611"/>
                  <a:pt x="5804" y="8558"/>
                </a:cubicBezTo>
                <a:cubicBezTo>
                  <a:pt x="5829" y="8541"/>
                  <a:pt x="5854" y="8525"/>
                  <a:pt x="5879" y="8508"/>
                </a:cubicBezTo>
              </a:path>
              <a:path w="1093" h="671">
                <a:moveTo>
                  <a:pt x="5556" y="8384"/>
                </a:moveTo>
                <a:cubicBezTo>
                  <a:pt x="5556" y="8392"/>
                  <a:pt x="5556" y="8401"/>
                  <a:pt x="5556" y="8409"/>
                </a:cubicBezTo>
              </a:path>
              <a:path w="1093" h="671">
                <a:moveTo>
                  <a:pt x="5953" y="8756"/>
                </a:moveTo>
                <a:cubicBezTo>
                  <a:pt x="5953" y="8764"/>
                  <a:pt x="5953" y="8773"/>
                  <a:pt x="5953" y="8781"/>
                </a:cubicBezTo>
              </a:path>
              <a:path w="1093" h="671">
                <a:moveTo>
                  <a:pt x="6424" y="8111"/>
                </a:moveTo>
                <a:cubicBezTo>
                  <a:pt x="6299" y="8153"/>
                  <a:pt x="6274" y="8234"/>
                  <a:pt x="6226" y="8359"/>
                </a:cubicBezTo>
                <a:cubicBezTo>
                  <a:pt x="6355" y="8337"/>
                  <a:pt x="6394" y="8241"/>
                  <a:pt x="6499" y="8186"/>
                </a:cubicBezTo>
                <a:cubicBezTo>
                  <a:pt x="6515" y="8186"/>
                  <a:pt x="6532" y="8186"/>
                  <a:pt x="6548" y="8186"/>
                </a:cubicBezTo>
                <a:cubicBezTo>
                  <a:pt x="6593" y="8321"/>
                  <a:pt x="6617" y="8448"/>
                  <a:pt x="6648" y="858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670120"/>
            <a:ext cx="1214280" cy="2411640"/>
          </a:xfrm>
          <a:custGeom>
            <a:avLst/>
            <a:gdLst/>
            <a:ahLst/>
            <a:rect l="l" t="t" r="r" b="b"/>
            <a:pathLst>
              <a:path w="3374" h="6698">
                <a:moveTo>
                  <a:pt x="7938" y="8657"/>
                </a:moveTo>
                <a:cubicBezTo>
                  <a:pt x="7915" y="8780"/>
                  <a:pt x="7865" y="8941"/>
                  <a:pt x="8062" y="8905"/>
                </a:cubicBezTo>
                <a:cubicBezTo>
                  <a:pt x="8222" y="8851"/>
                  <a:pt x="8281" y="8826"/>
                  <a:pt x="8359" y="8731"/>
                </a:cubicBezTo>
              </a:path>
              <a:path w="3374" h="6698">
                <a:moveTo>
                  <a:pt x="8310" y="8458"/>
                </a:moveTo>
                <a:cubicBezTo>
                  <a:pt x="8283" y="8723"/>
                  <a:pt x="8247" y="8987"/>
                  <a:pt x="8235" y="9252"/>
                </a:cubicBezTo>
              </a:path>
              <a:path w="3374" h="6698">
                <a:moveTo>
                  <a:pt x="7665" y="9475"/>
                </a:moveTo>
                <a:cubicBezTo>
                  <a:pt x="7925" y="9389"/>
                  <a:pt x="8192" y="9289"/>
                  <a:pt x="8458" y="9227"/>
                </a:cubicBezTo>
                <a:cubicBezTo>
                  <a:pt x="8600" y="9207"/>
                  <a:pt x="8627" y="9189"/>
                  <a:pt x="8706" y="9227"/>
                </a:cubicBezTo>
              </a:path>
              <a:path w="3374" h="6698">
                <a:moveTo>
                  <a:pt x="8359" y="9649"/>
                </a:moveTo>
                <a:cubicBezTo>
                  <a:pt x="8285" y="9664"/>
                  <a:pt x="8213" y="9705"/>
                  <a:pt x="8136" y="9723"/>
                </a:cubicBezTo>
                <a:cubicBezTo>
                  <a:pt x="8080" y="9736"/>
                  <a:pt x="8047" y="9884"/>
                  <a:pt x="8037" y="9947"/>
                </a:cubicBezTo>
                <a:cubicBezTo>
                  <a:pt x="8037" y="10005"/>
                  <a:pt x="8037" y="10013"/>
                  <a:pt x="8037" y="10046"/>
                </a:cubicBezTo>
                <a:cubicBezTo>
                  <a:pt x="8189" y="10024"/>
                  <a:pt x="8325" y="9947"/>
                  <a:pt x="8483" y="9947"/>
                </a:cubicBezTo>
                <a:cubicBezTo>
                  <a:pt x="8533" y="9955"/>
                  <a:pt x="8582" y="9963"/>
                  <a:pt x="8632" y="9971"/>
                </a:cubicBezTo>
                <a:cubicBezTo>
                  <a:pt x="8647" y="10180"/>
                  <a:pt x="8505" y="10298"/>
                  <a:pt x="8285" y="10344"/>
                </a:cubicBezTo>
                <a:cubicBezTo>
                  <a:pt x="8227" y="10344"/>
                  <a:pt x="8169" y="10344"/>
                  <a:pt x="8111" y="10344"/>
                </a:cubicBezTo>
              </a:path>
              <a:path w="3374" h="6698">
                <a:moveTo>
                  <a:pt x="7615" y="10691"/>
                </a:moveTo>
                <a:cubicBezTo>
                  <a:pt x="8093" y="10609"/>
                  <a:pt x="8530" y="10466"/>
                  <a:pt x="8954" y="10220"/>
                </a:cubicBezTo>
                <a:cubicBezTo>
                  <a:pt x="9441" y="9937"/>
                  <a:pt x="9925" y="9534"/>
                  <a:pt x="9872" y="8905"/>
                </a:cubicBezTo>
                <a:cubicBezTo>
                  <a:pt x="9820" y="8290"/>
                  <a:pt x="9186" y="7738"/>
                  <a:pt x="8657" y="7516"/>
                </a:cubicBezTo>
                <a:cubicBezTo>
                  <a:pt x="7904" y="7201"/>
                  <a:pt x="7306" y="7783"/>
                  <a:pt x="7020" y="8434"/>
                </a:cubicBezTo>
                <a:cubicBezTo>
                  <a:pt x="6755" y="9038"/>
                  <a:pt x="6620" y="10096"/>
                  <a:pt x="7392" y="10393"/>
                </a:cubicBezTo>
                <a:cubicBezTo>
                  <a:pt x="7833" y="10421"/>
                  <a:pt x="8009" y="10421"/>
                  <a:pt x="8310" y="10319"/>
                </a:cubicBezTo>
              </a:path>
              <a:path w="3374" h="6698">
                <a:moveTo>
                  <a:pt x="8037" y="12328"/>
                </a:moveTo>
                <a:cubicBezTo>
                  <a:pt x="7991" y="12373"/>
                  <a:pt x="7962" y="12435"/>
                  <a:pt x="7962" y="12353"/>
                </a:cubicBezTo>
                <a:cubicBezTo>
                  <a:pt x="7962" y="12345"/>
                  <a:pt x="7962" y="12336"/>
                  <a:pt x="7962" y="12328"/>
                </a:cubicBezTo>
                <a:cubicBezTo>
                  <a:pt x="7962" y="12275"/>
                  <a:pt x="7931" y="12355"/>
                  <a:pt x="7962" y="12328"/>
                </a:cubicBezTo>
                <a:cubicBezTo>
                  <a:pt x="8038" y="12261"/>
                  <a:pt x="8296" y="12079"/>
                  <a:pt x="8359" y="12278"/>
                </a:cubicBezTo>
                <a:cubicBezTo>
                  <a:pt x="8432" y="12510"/>
                  <a:pt x="8173" y="12747"/>
                  <a:pt x="7987" y="12824"/>
                </a:cubicBezTo>
                <a:cubicBezTo>
                  <a:pt x="7886" y="12844"/>
                  <a:pt x="7866" y="12863"/>
                  <a:pt x="7813" y="12824"/>
                </a:cubicBezTo>
                <a:cubicBezTo>
                  <a:pt x="7788" y="12670"/>
                  <a:pt x="7840" y="12615"/>
                  <a:pt x="8012" y="12626"/>
                </a:cubicBezTo>
                <a:cubicBezTo>
                  <a:pt x="8122" y="12633"/>
                  <a:pt x="8216" y="12676"/>
                  <a:pt x="8310" y="12700"/>
                </a:cubicBezTo>
              </a:path>
              <a:path w="3374" h="6698">
                <a:moveTo>
                  <a:pt x="8582" y="12229"/>
                </a:moveTo>
                <a:cubicBezTo>
                  <a:pt x="8591" y="12358"/>
                  <a:pt x="8629" y="12510"/>
                  <a:pt x="8806" y="12402"/>
                </a:cubicBezTo>
                <a:cubicBezTo>
                  <a:pt x="8906" y="12302"/>
                  <a:pt x="8940" y="12268"/>
                  <a:pt x="8979" y="12179"/>
                </a:cubicBezTo>
              </a:path>
              <a:path w="3374" h="6698">
                <a:moveTo>
                  <a:pt x="8880" y="11906"/>
                </a:moveTo>
                <a:cubicBezTo>
                  <a:pt x="8831" y="12100"/>
                  <a:pt x="8838" y="12322"/>
                  <a:pt x="8806" y="12526"/>
                </a:cubicBezTo>
                <a:cubicBezTo>
                  <a:pt x="8798" y="12567"/>
                  <a:pt x="8789" y="12609"/>
                  <a:pt x="8781" y="12650"/>
                </a:cubicBezTo>
              </a:path>
              <a:path w="3374" h="6698">
                <a:moveTo>
                  <a:pt x="7367" y="13047"/>
                </a:moveTo>
                <a:cubicBezTo>
                  <a:pt x="7323" y="12861"/>
                  <a:pt x="7315" y="12667"/>
                  <a:pt x="7268" y="12477"/>
                </a:cubicBezTo>
                <a:cubicBezTo>
                  <a:pt x="7244" y="12379"/>
                  <a:pt x="7202" y="12222"/>
                  <a:pt x="7169" y="12154"/>
                </a:cubicBezTo>
                <a:cubicBezTo>
                  <a:pt x="7540" y="12071"/>
                  <a:pt x="7933" y="12042"/>
                  <a:pt x="8310" y="11981"/>
                </a:cubicBezTo>
                <a:cubicBezTo>
                  <a:pt x="8565" y="11940"/>
                  <a:pt x="8956" y="11889"/>
                  <a:pt x="9178" y="11881"/>
                </a:cubicBezTo>
              </a:path>
              <a:path w="3374" h="6698">
                <a:moveTo>
                  <a:pt x="6499" y="12526"/>
                </a:moveTo>
                <a:cubicBezTo>
                  <a:pt x="6570" y="12456"/>
                  <a:pt x="6755" y="12382"/>
                  <a:pt x="6871" y="12452"/>
                </a:cubicBezTo>
                <a:cubicBezTo>
                  <a:pt x="6888" y="12477"/>
                  <a:pt x="6904" y="12501"/>
                  <a:pt x="6921" y="12526"/>
                </a:cubicBezTo>
                <a:cubicBezTo>
                  <a:pt x="6860" y="12608"/>
                  <a:pt x="6794" y="12677"/>
                  <a:pt x="6722" y="12750"/>
                </a:cubicBezTo>
                <a:cubicBezTo>
                  <a:pt x="6780" y="12744"/>
                  <a:pt x="7028" y="12674"/>
                  <a:pt x="6995" y="12824"/>
                </a:cubicBezTo>
                <a:cubicBezTo>
                  <a:pt x="6960" y="12987"/>
                  <a:pt x="6717" y="13052"/>
                  <a:pt x="6573" y="13047"/>
                </a:cubicBezTo>
                <a:cubicBezTo>
                  <a:pt x="6526" y="13023"/>
                  <a:pt x="6509" y="13017"/>
                  <a:pt x="6524" y="12973"/>
                </a:cubicBezTo>
              </a:path>
              <a:path w="3374" h="6698">
                <a:moveTo>
                  <a:pt x="8582" y="11038"/>
                </a:moveTo>
                <a:cubicBezTo>
                  <a:pt x="8450" y="11038"/>
                  <a:pt x="8272" y="11154"/>
                  <a:pt x="8186" y="11286"/>
                </a:cubicBezTo>
                <a:cubicBezTo>
                  <a:pt x="8186" y="11303"/>
                  <a:pt x="8186" y="11319"/>
                  <a:pt x="8186" y="11336"/>
                </a:cubicBezTo>
                <a:cubicBezTo>
                  <a:pt x="8404" y="11411"/>
                  <a:pt x="8608" y="11465"/>
                  <a:pt x="8806" y="11584"/>
                </a:cubicBezTo>
                <a:cubicBezTo>
                  <a:pt x="8758" y="11698"/>
                  <a:pt x="8593" y="11839"/>
                  <a:pt x="8434" y="11733"/>
                </a:cubicBezTo>
                <a:cubicBezTo>
                  <a:pt x="8276" y="11627"/>
                  <a:pt x="8372" y="11484"/>
                  <a:pt x="8483" y="11410"/>
                </a:cubicBezTo>
                <a:cubicBezTo>
                  <a:pt x="8523" y="11390"/>
                  <a:pt x="8540" y="11392"/>
                  <a:pt x="8533" y="11361"/>
                </a:cubicBezTo>
              </a:path>
              <a:path w="3374" h="6698">
                <a:moveTo>
                  <a:pt x="8508" y="11460"/>
                </a:moveTo>
                <a:cubicBezTo>
                  <a:pt x="8471" y="11367"/>
                  <a:pt x="8584" y="11308"/>
                  <a:pt x="8607" y="11212"/>
                </a:cubicBezTo>
                <a:cubicBezTo>
                  <a:pt x="8609" y="11205"/>
                  <a:pt x="8642" y="11032"/>
                  <a:pt x="8607" y="11112"/>
                </a:cubicBezTo>
                <a:cubicBezTo>
                  <a:pt x="8607" y="11120"/>
                  <a:pt x="8607" y="11129"/>
                  <a:pt x="8607" y="11137"/>
                </a:cubicBezTo>
              </a:path>
              <a:path w="3374" h="6698">
                <a:moveTo>
                  <a:pt x="7838" y="11658"/>
                </a:moveTo>
                <a:cubicBezTo>
                  <a:pt x="7859" y="11784"/>
                  <a:pt x="7880" y="11891"/>
                  <a:pt x="7987" y="11981"/>
                </a:cubicBezTo>
                <a:cubicBezTo>
                  <a:pt x="8277" y="12223"/>
                  <a:pt x="8744" y="12124"/>
                  <a:pt x="9054" y="11981"/>
                </a:cubicBezTo>
                <a:cubicBezTo>
                  <a:pt x="9418" y="11813"/>
                  <a:pt x="9766" y="11428"/>
                  <a:pt x="9451" y="11038"/>
                </a:cubicBezTo>
                <a:cubicBezTo>
                  <a:pt x="9147" y="10662"/>
                  <a:pt x="8387" y="10803"/>
                  <a:pt x="8062" y="11063"/>
                </a:cubicBezTo>
                <a:cubicBezTo>
                  <a:pt x="7705" y="11348"/>
                  <a:pt x="7571" y="11980"/>
                  <a:pt x="8086" y="12179"/>
                </a:cubicBezTo>
                <a:cubicBezTo>
                  <a:pt x="8467" y="12230"/>
                  <a:pt x="8601" y="12245"/>
                  <a:pt x="8855" y="12154"/>
                </a:cubicBezTo>
              </a:path>
              <a:path w="3374" h="6698">
                <a:moveTo>
                  <a:pt x="7913" y="13097"/>
                </a:moveTo>
                <a:cubicBezTo>
                  <a:pt x="8054" y="13054"/>
                  <a:pt x="8149" y="13073"/>
                  <a:pt x="8285" y="13122"/>
                </a:cubicBezTo>
                <a:cubicBezTo>
                  <a:pt x="8297" y="13358"/>
                  <a:pt x="8220" y="13497"/>
                  <a:pt x="7962" y="13568"/>
                </a:cubicBezTo>
                <a:cubicBezTo>
                  <a:pt x="7921" y="13568"/>
                  <a:pt x="7879" y="13568"/>
                  <a:pt x="7838" y="13568"/>
                </a:cubicBezTo>
                <a:cubicBezTo>
                  <a:pt x="7723" y="13384"/>
                  <a:pt x="8059" y="13382"/>
                  <a:pt x="8186" y="13370"/>
                </a:cubicBezTo>
                <a:cubicBezTo>
                  <a:pt x="8319" y="13370"/>
                  <a:pt x="8354" y="13374"/>
                  <a:pt x="8434" y="13345"/>
                </a:cubicBezTo>
              </a:path>
              <a:path w="3374" h="6698">
                <a:moveTo>
                  <a:pt x="8483" y="13097"/>
                </a:moveTo>
                <a:cubicBezTo>
                  <a:pt x="8586" y="13112"/>
                  <a:pt x="8748" y="13148"/>
                  <a:pt x="8830" y="13047"/>
                </a:cubicBezTo>
                <a:cubicBezTo>
                  <a:pt x="8903" y="12958"/>
                  <a:pt x="8829" y="12887"/>
                  <a:pt x="8781" y="12824"/>
                </a:cubicBezTo>
                <a:cubicBezTo>
                  <a:pt x="8660" y="12944"/>
                  <a:pt x="8722" y="13102"/>
                  <a:pt x="8706" y="13271"/>
                </a:cubicBezTo>
                <a:cubicBezTo>
                  <a:pt x="8698" y="13312"/>
                  <a:pt x="8690" y="13354"/>
                  <a:pt x="8682" y="13395"/>
                </a:cubicBezTo>
              </a:path>
              <a:path w="3374" h="6698">
                <a:moveTo>
                  <a:pt x="7789" y="13667"/>
                </a:moveTo>
                <a:cubicBezTo>
                  <a:pt x="8120" y="13623"/>
                  <a:pt x="8452" y="13531"/>
                  <a:pt x="8781" y="13494"/>
                </a:cubicBezTo>
                <a:cubicBezTo>
                  <a:pt x="8839" y="13494"/>
                  <a:pt x="8896" y="13494"/>
                  <a:pt x="8954" y="13494"/>
                </a:cubicBezTo>
              </a:path>
              <a:path w="3374" h="6698">
                <a:moveTo>
                  <a:pt x="8830" y="13742"/>
                </a:moveTo>
                <a:cubicBezTo>
                  <a:pt x="8775" y="13822"/>
                  <a:pt x="8579" y="14009"/>
                  <a:pt x="8632" y="14114"/>
                </a:cubicBezTo>
                <a:cubicBezTo>
                  <a:pt x="8649" y="14114"/>
                  <a:pt x="8665" y="14114"/>
                  <a:pt x="8682" y="14114"/>
                </a:cubicBezTo>
                <a:cubicBezTo>
                  <a:pt x="8861" y="14020"/>
                  <a:pt x="8944" y="13976"/>
                  <a:pt x="8930" y="13767"/>
                </a:cubicBezTo>
                <a:cubicBezTo>
                  <a:pt x="8815" y="13738"/>
                  <a:pt x="8766" y="13732"/>
                  <a:pt x="8682" y="137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7000" y="5313240"/>
            <a:ext cx="401760" cy="561960"/>
          </a:xfrm>
          <a:custGeom>
            <a:avLst/>
            <a:gdLst/>
            <a:ahLst/>
            <a:rect l="l" t="t" r="r" b="b"/>
            <a:pathLst>
              <a:path w="1117" h="1563">
                <a:moveTo>
                  <a:pt x="6821" y="14982"/>
                </a:moveTo>
                <a:cubicBezTo>
                  <a:pt x="6826" y="15165"/>
                  <a:pt x="6846" y="15345"/>
                  <a:pt x="6846" y="15528"/>
                </a:cubicBezTo>
              </a:path>
              <a:path w="1117" h="1563">
                <a:moveTo>
                  <a:pt x="7342" y="14759"/>
                </a:moveTo>
                <a:cubicBezTo>
                  <a:pt x="7258" y="14834"/>
                  <a:pt x="7126" y="14916"/>
                  <a:pt x="7094" y="15032"/>
                </a:cubicBezTo>
                <a:cubicBezTo>
                  <a:pt x="7043" y="15219"/>
                  <a:pt x="7299" y="15253"/>
                  <a:pt x="7417" y="15304"/>
                </a:cubicBezTo>
                <a:cubicBezTo>
                  <a:pt x="7465" y="15328"/>
                  <a:pt x="7481" y="15335"/>
                  <a:pt x="7466" y="15379"/>
                </a:cubicBezTo>
                <a:cubicBezTo>
                  <a:pt x="7375" y="15443"/>
                  <a:pt x="7179" y="15509"/>
                  <a:pt x="7193" y="15304"/>
                </a:cubicBezTo>
                <a:cubicBezTo>
                  <a:pt x="7202" y="15176"/>
                  <a:pt x="7301" y="15060"/>
                  <a:pt x="7367" y="14957"/>
                </a:cubicBezTo>
              </a:path>
              <a:path w="1117" h="1563">
                <a:moveTo>
                  <a:pt x="6573" y="15900"/>
                </a:moveTo>
                <a:cubicBezTo>
                  <a:pt x="6863" y="15813"/>
                  <a:pt x="7148" y="15768"/>
                  <a:pt x="7441" y="15701"/>
                </a:cubicBezTo>
                <a:cubicBezTo>
                  <a:pt x="7567" y="15672"/>
                  <a:pt x="7728" y="15574"/>
                  <a:pt x="7640" y="15751"/>
                </a:cubicBezTo>
              </a:path>
              <a:path w="1117" h="1563">
                <a:moveTo>
                  <a:pt x="7094" y="16024"/>
                </a:moveTo>
                <a:cubicBezTo>
                  <a:pt x="7094" y="16102"/>
                  <a:pt x="7077" y="16172"/>
                  <a:pt x="7069" y="16247"/>
                </a:cubicBezTo>
                <a:cubicBezTo>
                  <a:pt x="7069" y="16304"/>
                  <a:pt x="7069" y="16346"/>
                  <a:pt x="7069" y="1629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7280" y="5973840"/>
            <a:ext cx="1017720" cy="687240"/>
          </a:xfrm>
          <a:custGeom>
            <a:avLst/>
            <a:gdLst/>
            <a:ahLst/>
            <a:rect l="l" t="t" r="r" b="b"/>
            <a:pathLst>
              <a:path w="2829" h="1911">
                <a:moveTo>
                  <a:pt x="6548" y="17959"/>
                </a:moveTo>
                <a:cubicBezTo>
                  <a:pt x="6615" y="17959"/>
                  <a:pt x="6656" y="17922"/>
                  <a:pt x="6722" y="17909"/>
                </a:cubicBezTo>
                <a:cubicBezTo>
                  <a:pt x="6790" y="17909"/>
                  <a:pt x="6820" y="17922"/>
                  <a:pt x="6846" y="17983"/>
                </a:cubicBezTo>
              </a:path>
              <a:path w="2829" h="1911">
                <a:moveTo>
                  <a:pt x="6548" y="18331"/>
                </a:moveTo>
                <a:cubicBezTo>
                  <a:pt x="6632" y="18293"/>
                  <a:pt x="6729" y="18248"/>
                  <a:pt x="6821" y="18231"/>
                </a:cubicBezTo>
                <a:cubicBezTo>
                  <a:pt x="6838" y="18231"/>
                  <a:pt x="6854" y="18231"/>
                  <a:pt x="6871" y="18231"/>
                </a:cubicBezTo>
              </a:path>
              <a:path w="2829" h="1911">
                <a:moveTo>
                  <a:pt x="7913" y="17239"/>
                </a:moveTo>
                <a:cubicBezTo>
                  <a:pt x="7913" y="17416"/>
                  <a:pt x="7978" y="17588"/>
                  <a:pt x="8012" y="17760"/>
                </a:cubicBezTo>
                <a:cubicBezTo>
                  <a:pt x="8051" y="17957"/>
                  <a:pt x="8072" y="18202"/>
                  <a:pt x="8161" y="18380"/>
                </a:cubicBezTo>
              </a:path>
              <a:path w="2829" h="1911">
                <a:moveTo>
                  <a:pt x="7293" y="17562"/>
                </a:moveTo>
                <a:cubicBezTo>
                  <a:pt x="7302" y="17704"/>
                  <a:pt x="7319" y="17842"/>
                  <a:pt x="7342" y="17983"/>
                </a:cubicBezTo>
                <a:cubicBezTo>
                  <a:pt x="7376" y="18191"/>
                  <a:pt x="7419" y="18345"/>
                  <a:pt x="7615" y="18455"/>
                </a:cubicBezTo>
                <a:cubicBezTo>
                  <a:pt x="7809" y="18564"/>
                  <a:pt x="8079" y="18480"/>
                  <a:pt x="8285" y="18455"/>
                </a:cubicBezTo>
                <a:cubicBezTo>
                  <a:pt x="8487" y="18431"/>
                  <a:pt x="8759" y="18407"/>
                  <a:pt x="8930" y="18281"/>
                </a:cubicBezTo>
                <a:cubicBezTo>
                  <a:pt x="9104" y="18153"/>
                  <a:pt x="9224" y="17929"/>
                  <a:pt x="9302" y="17735"/>
                </a:cubicBezTo>
                <a:cubicBezTo>
                  <a:pt x="9386" y="17526"/>
                  <a:pt x="9403" y="17275"/>
                  <a:pt x="9302" y="17066"/>
                </a:cubicBezTo>
                <a:cubicBezTo>
                  <a:pt x="9122" y="16694"/>
                  <a:pt x="8728" y="16616"/>
                  <a:pt x="8359" y="16594"/>
                </a:cubicBezTo>
                <a:cubicBezTo>
                  <a:pt x="7962" y="16571"/>
                  <a:pt x="7497" y="16626"/>
                  <a:pt x="7317" y="17041"/>
                </a:cubicBezTo>
                <a:cubicBezTo>
                  <a:pt x="7169" y="17381"/>
                  <a:pt x="7057" y="18096"/>
                  <a:pt x="7466" y="18331"/>
                </a:cubicBezTo>
                <a:cubicBezTo>
                  <a:pt x="7557" y="18347"/>
                  <a:pt x="7648" y="18364"/>
                  <a:pt x="7739" y="1838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0840" y="4643280"/>
            <a:ext cx="1090440" cy="1135080"/>
          </a:xfrm>
          <a:custGeom>
            <a:avLst/>
            <a:gdLst/>
            <a:ahLst/>
            <a:rect l="l" t="t" r="r" b="b"/>
            <a:pathLst>
              <a:path w="3027" h="3152">
                <a:moveTo>
                  <a:pt x="11534" y="14957"/>
                </a:moveTo>
                <a:cubicBezTo>
                  <a:pt x="11574" y="14898"/>
                  <a:pt x="11578" y="14886"/>
                  <a:pt x="11609" y="14858"/>
                </a:cubicBezTo>
                <a:cubicBezTo>
                  <a:pt x="11609" y="15153"/>
                  <a:pt x="11584" y="15462"/>
                  <a:pt x="11633" y="15751"/>
                </a:cubicBezTo>
              </a:path>
              <a:path w="3027" h="3152">
                <a:moveTo>
                  <a:pt x="12204" y="14982"/>
                </a:moveTo>
                <a:cubicBezTo>
                  <a:pt x="11992" y="15181"/>
                  <a:pt x="12019" y="15200"/>
                  <a:pt x="12204" y="15429"/>
                </a:cubicBezTo>
                <a:cubicBezTo>
                  <a:pt x="12332" y="15587"/>
                  <a:pt x="12389" y="15590"/>
                  <a:pt x="12353" y="15751"/>
                </a:cubicBezTo>
                <a:cubicBezTo>
                  <a:pt x="12176" y="15786"/>
                  <a:pt x="12094" y="15670"/>
                  <a:pt x="12105" y="15478"/>
                </a:cubicBezTo>
                <a:cubicBezTo>
                  <a:pt x="12108" y="15424"/>
                  <a:pt x="12296" y="14923"/>
                  <a:pt x="12179" y="14883"/>
                </a:cubicBezTo>
                <a:cubicBezTo>
                  <a:pt x="12146" y="14891"/>
                  <a:pt x="12113" y="14900"/>
                  <a:pt x="12080" y="14908"/>
                </a:cubicBezTo>
              </a:path>
              <a:path w="3027" h="3152">
                <a:moveTo>
                  <a:pt x="10914" y="16049"/>
                </a:moveTo>
                <a:cubicBezTo>
                  <a:pt x="10922" y="15841"/>
                  <a:pt x="10947" y="15638"/>
                  <a:pt x="10939" y="15429"/>
                </a:cubicBezTo>
                <a:cubicBezTo>
                  <a:pt x="10929" y="15172"/>
                  <a:pt x="10885" y="14930"/>
                  <a:pt x="10815" y="14684"/>
                </a:cubicBezTo>
                <a:cubicBezTo>
                  <a:pt x="11037" y="14714"/>
                  <a:pt x="11258" y="14700"/>
                  <a:pt x="11485" y="14709"/>
                </a:cubicBezTo>
                <a:cubicBezTo>
                  <a:pt x="11968" y="14727"/>
                  <a:pt x="12465" y="14782"/>
                  <a:pt x="12948" y="14759"/>
                </a:cubicBezTo>
                <a:cubicBezTo>
                  <a:pt x="13056" y="14754"/>
                  <a:pt x="13222" y="14685"/>
                  <a:pt x="13146" y="14784"/>
                </a:cubicBezTo>
              </a:path>
              <a:path w="3027" h="3152">
                <a:moveTo>
                  <a:pt x="10195" y="15156"/>
                </a:moveTo>
                <a:cubicBezTo>
                  <a:pt x="10171" y="15397"/>
                  <a:pt x="10170" y="15633"/>
                  <a:pt x="10170" y="15875"/>
                </a:cubicBezTo>
                <a:cubicBezTo>
                  <a:pt x="10170" y="15943"/>
                  <a:pt x="10151" y="15959"/>
                  <a:pt x="10195" y="15974"/>
                </a:cubicBezTo>
              </a:path>
              <a:path w="3027" h="3152">
                <a:moveTo>
                  <a:pt x="11261" y="13469"/>
                </a:moveTo>
                <a:cubicBezTo>
                  <a:pt x="11281" y="13443"/>
                  <a:pt x="11286" y="13376"/>
                  <a:pt x="11286" y="13419"/>
                </a:cubicBezTo>
                <a:cubicBezTo>
                  <a:pt x="11298" y="13615"/>
                  <a:pt x="11290" y="13820"/>
                  <a:pt x="11311" y="14015"/>
                </a:cubicBezTo>
                <a:cubicBezTo>
                  <a:pt x="11322" y="14111"/>
                  <a:pt x="11318" y="14143"/>
                  <a:pt x="11361" y="14114"/>
                </a:cubicBezTo>
              </a:path>
              <a:path w="3027" h="3152">
                <a:moveTo>
                  <a:pt x="11956" y="13295"/>
                </a:moveTo>
                <a:cubicBezTo>
                  <a:pt x="11828" y="13412"/>
                  <a:pt x="11488" y="13626"/>
                  <a:pt x="11733" y="13791"/>
                </a:cubicBezTo>
                <a:cubicBezTo>
                  <a:pt x="11903" y="13906"/>
                  <a:pt x="12069" y="13955"/>
                  <a:pt x="12229" y="14089"/>
                </a:cubicBezTo>
                <a:cubicBezTo>
                  <a:pt x="12158" y="14122"/>
                  <a:pt x="11710" y="14261"/>
                  <a:pt x="11733" y="14039"/>
                </a:cubicBezTo>
                <a:cubicBezTo>
                  <a:pt x="11761" y="13774"/>
                  <a:pt x="12182" y="13566"/>
                  <a:pt x="12204" y="13345"/>
                </a:cubicBezTo>
                <a:cubicBezTo>
                  <a:pt x="12187" y="13337"/>
                  <a:pt x="12171" y="13328"/>
                  <a:pt x="12154" y="13320"/>
                </a:cubicBezTo>
              </a:path>
              <a:path w="3027" h="3152">
                <a:moveTo>
                  <a:pt x="10765" y="14486"/>
                </a:moveTo>
                <a:cubicBezTo>
                  <a:pt x="11079" y="14695"/>
                  <a:pt x="11426" y="14648"/>
                  <a:pt x="11807" y="14610"/>
                </a:cubicBezTo>
                <a:cubicBezTo>
                  <a:pt x="12309" y="14560"/>
                  <a:pt x="12718" y="14349"/>
                  <a:pt x="12973" y="13891"/>
                </a:cubicBezTo>
                <a:cubicBezTo>
                  <a:pt x="13270" y="13357"/>
                  <a:pt x="12753" y="13024"/>
                  <a:pt x="12278" y="12923"/>
                </a:cubicBezTo>
                <a:cubicBezTo>
                  <a:pt x="11645" y="12788"/>
                  <a:pt x="10900" y="13073"/>
                  <a:pt x="10567" y="13643"/>
                </a:cubicBezTo>
                <a:cubicBezTo>
                  <a:pt x="10174" y="14316"/>
                  <a:pt x="10902" y="14479"/>
                  <a:pt x="11385" y="14511"/>
                </a:cubicBezTo>
                <a:cubicBezTo>
                  <a:pt x="11526" y="14511"/>
                  <a:pt x="11666" y="14511"/>
                  <a:pt x="11807" y="1451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98760" y="660708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440" y="18380"/>
                </a:moveTo>
                <a:cubicBezTo>
                  <a:pt x="4440" y="18372"/>
                  <a:pt x="4440" y="18363"/>
                  <a:pt x="4440" y="1835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 Fractions must have like (same) denominators in order to be added to or subtracted from one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ahead and add or subt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y are not the s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 common denominator and convert one or both fractions so that they do have the same denomin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160" y="2697120"/>
            <a:ext cx="2187720" cy="392040"/>
          </a:xfrm>
          <a:custGeom>
            <a:avLst/>
            <a:gdLst/>
            <a:ahLst/>
            <a:rect l="l" t="t" r="r" b="b"/>
            <a:pathLst>
              <a:path w="6078" h="1092">
                <a:moveTo>
                  <a:pt x="6573" y="8558"/>
                </a:moveTo>
                <a:cubicBezTo>
                  <a:pt x="6573" y="8566"/>
                  <a:pt x="6573" y="8574"/>
                  <a:pt x="6573" y="8582"/>
                </a:cubicBezTo>
              </a:path>
              <a:path w="6078" h="1092">
                <a:moveTo>
                  <a:pt x="2307" y="7590"/>
                </a:moveTo>
                <a:cubicBezTo>
                  <a:pt x="2517" y="7590"/>
                  <a:pt x="2731" y="7570"/>
                  <a:pt x="2927" y="7565"/>
                </a:cubicBezTo>
                <a:cubicBezTo>
                  <a:pt x="3044" y="7562"/>
                  <a:pt x="3165" y="7549"/>
                  <a:pt x="3274" y="7541"/>
                </a:cubicBezTo>
                <a:cubicBezTo>
                  <a:pt x="3350" y="7536"/>
                  <a:pt x="3433" y="7541"/>
                  <a:pt x="3522" y="7541"/>
                </a:cubicBezTo>
                <a:cubicBezTo>
                  <a:pt x="3633" y="7541"/>
                  <a:pt x="3733" y="7519"/>
                  <a:pt x="3845" y="7516"/>
                </a:cubicBezTo>
                <a:cubicBezTo>
                  <a:pt x="3980" y="7513"/>
                  <a:pt x="4110" y="7501"/>
                  <a:pt x="4242" y="7491"/>
                </a:cubicBezTo>
                <a:cubicBezTo>
                  <a:pt x="4682" y="7459"/>
                  <a:pt x="5144" y="7487"/>
                  <a:pt x="5581" y="7516"/>
                </a:cubicBezTo>
                <a:cubicBezTo>
                  <a:pt x="5901" y="7537"/>
                  <a:pt x="6228" y="7525"/>
                  <a:pt x="6548" y="7541"/>
                </a:cubicBezTo>
                <a:cubicBezTo>
                  <a:pt x="6755" y="7552"/>
                  <a:pt x="6963" y="7555"/>
                  <a:pt x="7169" y="7565"/>
                </a:cubicBezTo>
                <a:cubicBezTo>
                  <a:pt x="7571" y="7584"/>
                  <a:pt x="7981" y="7565"/>
                  <a:pt x="8384" y="75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8080" y="2276640"/>
            <a:ext cx="1733760" cy="661680"/>
          </a:xfrm>
          <a:custGeom>
            <a:avLst/>
            <a:gdLst/>
            <a:ahLst/>
            <a:rect l="l" t="t" r="r" b="b"/>
            <a:pathLst>
              <a:path w="4813" h="1837">
                <a:moveTo>
                  <a:pt x="16222" y="8161"/>
                </a:moveTo>
                <a:lnTo>
                  <a:pt x="16222" y="8161"/>
                </a:lnTo>
              </a:path>
              <a:path w="4813" h="1837">
                <a:moveTo>
                  <a:pt x="15329" y="6325"/>
                </a:moveTo>
                <a:cubicBezTo>
                  <a:pt x="15430" y="6369"/>
                  <a:pt x="15534" y="6413"/>
                  <a:pt x="15652" y="6424"/>
                </a:cubicBezTo>
                <a:cubicBezTo>
                  <a:pt x="15820" y="6439"/>
                  <a:pt x="15983" y="6411"/>
                  <a:pt x="16148" y="6400"/>
                </a:cubicBezTo>
                <a:cubicBezTo>
                  <a:pt x="16281" y="6391"/>
                  <a:pt x="16414" y="6379"/>
                  <a:pt x="16545" y="6375"/>
                </a:cubicBezTo>
                <a:cubicBezTo>
                  <a:pt x="16687" y="6371"/>
                  <a:pt x="16822" y="6350"/>
                  <a:pt x="16966" y="6350"/>
                </a:cubicBezTo>
                <a:cubicBezTo>
                  <a:pt x="17209" y="6350"/>
                  <a:pt x="17446" y="6357"/>
                  <a:pt x="17686" y="6375"/>
                </a:cubicBezTo>
                <a:cubicBezTo>
                  <a:pt x="17850" y="6387"/>
                  <a:pt x="18019" y="6382"/>
                  <a:pt x="18182" y="6400"/>
                </a:cubicBezTo>
                <a:cubicBezTo>
                  <a:pt x="18357" y="6419"/>
                  <a:pt x="18525" y="6424"/>
                  <a:pt x="18703" y="6424"/>
                </a:cubicBezTo>
                <a:cubicBezTo>
                  <a:pt x="19011" y="6424"/>
                  <a:pt x="19315" y="6416"/>
                  <a:pt x="19621" y="6400"/>
                </a:cubicBezTo>
                <a:cubicBezTo>
                  <a:pt x="19793" y="6391"/>
                  <a:pt x="19968" y="6400"/>
                  <a:pt x="20141" y="64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do some toge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19320" y="2306520"/>
                <a:ext cx="914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57360" y="344160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3510000"/>
                <a:ext cx="9144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286000" y="4110120"/>
            <a:ext cx="23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7360" y="459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95280" y="48006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84120" y="1108080"/>
            <a:ext cx="3197160" cy="401760"/>
          </a:xfrm>
          <a:custGeom>
            <a:avLst/>
            <a:gdLst/>
            <a:ahLst/>
            <a:rect l="l" t="t" r="r" b="b"/>
            <a:pathLst>
              <a:path w="8881" h="1117">
                <a:moveTo>
                  <a:pt x="1265" y="3349"/>
                </a:moveTo>
                <a:lnTo>
                  <a:pt x="1265" y="3349"/>
                </a:lnTo>
              </a:path>
              <a:path w="8881" h="1117">
                <a:moveTo>
                  <a:pt x="1315" y="3324"/>
                </a:moveTo>
                <a:cubicBezTo>
                  <a:pt x="1282" y="3313"/>
                  <a:pt x="1271" y="3280"/>
                  <a:pt x="1215" y="3274"/>
                </a:cubicBezTo>
                <a:cubicBezTo>
                  <a:pt x="1207" y="3274"/>
                  <a:pt x="1199" y="3274"/>
                  <a:pt x="1191" y="3274"/>
                </a:cubicBezTo>
                <a:cubicBezTo>
                  <a:pt x="1083" y="3403"/>
                  <a:pt x="1057" y="3526"/>
                  <a:pt x="1067" y="3696"/>
                </a:cubicBezTo>
                <a:cubicBezTo>
                  <a:pt x="1091" y="3796"/>
                  <a:pt x="1100" y="3830"/>
                  <a:pt x="1166" y="3870"/>
                </a:cubicBezTo>
                <a:cubicBezTo>
                  <a:pt x="1359" y="3792"/>
                  <a:pt x="1384" y="3691"/>
                  <a:pt x="1364" y="3473"/>
                </a:cubicBezTo>
                <a:cubicBezTo>
                  <a:pt x="1356" y="3440"/>
                  <a:pt x="1347" y="3406"/>
                  <a:pt x="1339" y="3373"/>
                </a:cubicBezTo>
                <a:cubicBezTo>
                  <a:pt x="1204" y="3306"/>
                  <a:pt x="1327" y="3666"/>
                  <a:pt x="1339" y="3696"/>
                </a:cubicBezTo>
                <a:cubicBezTo>
                  <a:pt x="1376" y="3787"/>
                  <a:pt x="1431" y="3869"/>
                  <a:pt x="1488" y="3870"/>
                </a:cubicBezTo>
              </a:path>
              <a:path w="8881" h="1117">
                <a:moveTo>
                  <a:pt x="1538" y="3448"/>
                </a:moveTo>
                <a:cubicBezTo>
                  <a:pt x="1538" y="3602"/>
                  <a:pt x="1621" y="3723"/>
                  <a:pt x="1662" y="3870"/>
                </a:cubicBezTo>
                <a:cubicBezTo>
                  <a:pt x="1681" y="3964"/>
                  <a:pt x="1711" y="3984"/>
                  <a:pt x="1662" y="4018"/>
                </a:cubicBezTo>
              </a:path>
              <a:path w="8881" h="1117">
                <a:moveTo>
                  <a:pt x="1389" y="3448"/>
                </a:moveTo>
                <a:cubicBezTo>
                  <a:pt x="1507" y="3431"/>
                  <a:pt x="1792" y="3352"/>
                  <a:pt x="1811" y="3547"/>
                </a:cubicBezTo>
                <a:cubicBezTo>
                  <a:pt x="1820" y="3640"/>
                  <a:pt x="1554" y="3887"/>
                  <a:pt x="1513" y="3795"/>
                </a:cubicBezTo>
                <a:cubicBezTo>
                  <a:pt x="1521" y="3762"/>
                  <a:pt x="1530" y="3729"/>
                  <a:pt x="1538" y="3696"/>
                </a:cubicBezTo>
              </a:path>
              <a:path w="8881" h="1117">
                <a:moveTo>
                  <a:pt x="1910" y="3522"/>
                </a:moveTo>
                <a:cubicBezTo>
                  <a:pt x="1967" y="3664"/>
                  <a:pt x="2022" y="3805"/>
                  <a:pt x="2084" y="3944"/>
                </a:cubicBezTo>
              </a:path>
              <a:path w="8881" h="1117">
                <a:moveTo>
                  <a:pt x="1836" y="3349"/>
                </a:moveTo>
                <a:cubicBezTo>
                  <a:pt x="1970" y="3381"/>
                  <a:pt x="2231" y="3393"/>
                  <a:pt x="2183" y="3597"/>
                </a:cubicBezTo>
                <a:cubicBezTo>
                  <a:pt x="2146" y="3754"/>
                  <a:pt x="2017" y="3721"/>
                  <a:pt x="1910" y="3721"/>
                </a:cubicBezTo>
              </a:path>
              <a:path w="8881" h="1117">
                <a:moveTo>
                  <a:pt x="2133" y="3150"/>
                </a:moveTo>
                <a:cubicBezTo>
                  <a:pt x="2231" y="3316"/>
                  <a:pt x="2326" y="3472"/>
                  <a:pt x="2406" y="3646"/>
                </a:cubicBezTo>
              </a:path>
              <a:path w="8881" h="1117">
                <a:moveTo>
                  <a:pt x="2406" y="3373"/>
                </a:moveTo>
                <a:cubicBezTo>
                  <a:pt x="2441" y="3478"/>
                  <a:pt x="2464" y="3613"/>
                  <a:pt x="2604" y="3597"/>
                </a:cubicBezTo>
                <a:cubicBezTo>
                  <a:pt x="2724" y="3583"/>
                  <a:pt x="2737" y="3446"/>
                  <a:pt x="2753" y="3349"/>
                </a:cubicBezTo>
                <a:cubicBezTo>
                  <a:pt x="2781" y="3458"/>
                  <a:pt x="2853" y="3569"/>
                  <a:pt x="2853" y="3696"/>
                </a:cubicBezTo>
                <a:cubicBezTo>
                  <a:pt x="2853" y="4055"/>
                  <a:pt x="2565" y="3949"/>
                  <a:pt x="2332" y="3894"/>
                </a:cubicBezTo>
              </a:path>
              <a:path w="8881" h="1117">
                <a:moveTo>
                  <a:pt x="3572" y="3076"/>
                </a:moveTo>
                <a:cubicBezTo>
                  <a:pt x="3655" y="3255"/>
                  <a:pt x="3722" y="3438"/>
                  <a:pt x="3795" y="3621"/>
                </a:cubicBezTo>
                <a:cubicBezTo>
                  <a:pt x="3815" y="3662"/>
                  <a:pt x="3834" y="3678"/>
                  <a:pt x="3795" y="3671"/>
                </a:cubicBezTo>
              </a:path>
              <a:path w="8881" h="1117">
                <a:moveTo>
                  <a:pt x="3324" y="3547"/>
                </a:moveTo>
                <a:cubicBezTo>
                  <a:pt x="3506" y="3627"/>
                  <a:pt x="3682" y="3665"/>
                  <a:pt x="3820" y="3473"/>
                </a:cubicBezTo>
                <a:cubicBezTo>
                  <a:pt x="3869" y="3351"/>
                  <a:pt x="3885" y="3312"/>
                  <a:pt x="3894" y="3225"/>
                </a:cubicBezTo>
                <a:cubicBezTo>
                  <a:pt x="3871" y="3297"/>
                  <a:pt x="3925" y="3378"/>
                  <a:pt x="3969" y="3497"/>
                </a:cubicBezTo>
                <a:cubicBezTo>
                  <a:pt x="4010" y="3621"/>
                  <a:pt x="4018" y="3646"/>
                  <a:pt x="4043" y="3721"/>
                </a:cubicBezTo>
                <a:cubicBezTo>
                  <a:pt x="4019" y="3630"/>
                  <a:pt x="4005" y="3565"/>
                  <a:pt x="3994" y="3473"/>
                </a:cubicBezTo>
                <a:cubicBezTo>
                  <a:pt x="4085" y="3518"/>
                  <a:pt x="4165" y="3565"/>
                  <a:pt x="4217" y="3671"/>
                </a:cubicBezTo>
                <a:cubicBezTo>
                  <a:pt x="4238" y="3714"/>
                  <a:pt x="4249" y="3777"/>
                  <a:pt x="4266" y="3820"/>
                </a:cubicBezTo>
                <a:cubicBezTo>
                  <a:pt x="4344" y="3768"/>
                  <a:pt x="4459" y="3729"/>
                  <a:pt x="4490" y="3621"/>
                </a:cubicBezTo>
                <a:cubicBezTo>
                  <a:pt x="4520" y="3516"/>
                  <a:pt x="4483" y="3477"/>
                  <a:pt x="4415" y="3448"/>
                </a:cubicBezTo>
                <a:cubicBezTo>
                  <a:pt x="4316" y="3521"/>
                  <a:pt x="4212" y="3666"/>
                  <a:pt x="4341" y="3795"/>
                </a:cubicBezTo>
                <a:cubicBezTo>
                  <a:pt x="4374" y="3812"/>
                  <a:pt x="4407" y="3828"/>
                  <a:pt x="4440" y="3845"/>
                </a:cubicBezTo>
              </a:path>
              <a:path w="8881" h="1117">
                <a:moveTo>
                  <a:pt x="5308" y="3473"/>
                </a:moveTo>
                <a:cubicBezTo>
                  <a:pt x="5228" y="3520"/>
                  <a:pt x="5135" y="3464"/>
                  <a:pt x="5060" y="3547"/>
                </a:cubicBezTo>
                <a:cubicBezTo>
                  <a:pt x="4911" y="3712"/>
                  <a:pt x="4944" y="3865"/>
                  <a:pt x="5085" y="3994"/>
                </a:cubicBezTo>
                <a:cubicBezTo>
                  <a:pt x="5235" y="3893"/>
                  <a:pt x="5327" y="3795"/>
                  <a:pt x="5234" y="3597"/>
                </a:cubicBezTo>
                <a:cubicBezTo>
                  <a:pt x="5217" y="3580"/>
                  <a:pt x="5201" y="3564"/>
                  <a:pt x="5184" y="3547"/>
                </a:cubicBezTo>
              </a:path>
              <a:path w="8881" h="1117">
                <a:moveTo>
                  <a:pt x="5606" y="3795"/>
                </a:moveTo>
                <a:cubicBezTo>
                  <a:pt x="5652" y="3930"/>
                  <a:pt x="5892" y="4232"/>
                  <a:pt x="5755" y="4192"/>
                </a:cubicBezTo>
                <a:cubicBezTo>
                  <a:pt x="5730" y="4175"/>
                  <a:pt x="5705" y="4159"/>
                  <a:pt x="5680" y="4142"/>
                </a:cubicBezTo>
              </a:path>
              <a:path w="8881" h="1117">
                <a:moveTo>
                  <a:pt x="5606" y="3547"/>
                </a:moveTo>
                <a:cubicBezTo>
                  <a:pt x="5684" y="3588"/>
                  <a:pt x="5979" y="3717"/>
                  <a:pt x="5804" y="3845"/>
                </a:cubicBezTo>
                <a:cubicBezTo>
                  <a:pt x="5675" y="3896"/>
                  <a:pt x="5629" y="3912"/>
                  <a:pt x="5531" y="3894"/>
                </a:cubicBezTo>
              </a:path>
              <a:path w="8881" h="1117">
                <a:moveTo>
                  <a:pt x="6028" y="3646"/>
                </a:moveTo>
                <a:cubicBezTo>
                  <a:pt x="6043" y="3802"/>
                  <a:pt x="6136" y="3988"/>
                  <a:pt x="6127" y="4142"/>
                </a:cubicBezTo>
                <a:cubicBezTo>
                  <a:pt x="6073" y="4142"/>
                  <a:pt x="6052" y="4116"/>
                  <a:pt x="6052" y="4043"/>
                </a:cubicBezTo>
              </a:path>
              <a:path w="8881" h="1117">
                <a:moveTo>
                  <a:pt x="6028" y="3448"/>
                </a:moveTo>
                <a:cubicBezTo>
                  <a:pt x="6137" y="3484"/>
                  <a:pt x="6465" y="3577"/>
                  <a:pt x="6375" y="3770"/>
                </a:cubicBezTo>
                <a:cubicBezTo>
                  <a:pt x="6290" y="3950"/>
                  <a:pt x="6137" y="3877"/>
                  <a:pt x="6003" y="3845"/>
                </a:cubicBezTo>
              </a:path>
              <a:path w="8881" h="1117">
                <a:moveTo>
                  <a:pt x="6648" y="3721"/>
                </a:moveTo>
                <a:cubicBezTo>
                  <a:pt x="6640" y="3721"/>
                  <a:pt x="6631" y="3721"/>
                  <a:pt x="6623" y="3721"/>
                </a:cubicBezTo>
              </a:path>
              <a:path w="8881" h="1117">
                <a:moveTo>
                  <a:pt x="6028" y="3919"/>
                </a:moveTo>
                <a:cubicBezTo>
                  <a:pt x="6083" y="3885"/>
                  <a:pt x="6143" y="3898"/>
                  <a:pt x="6201" y="3870"/>
                </a:cubicBezTo>
                <a:cubicBezTo>
                  <a:pt x="6129" y="3870"/>
                  <a:pt x="6068" y="3881"/>
                  <a:pt x="6028" y="3820"/>
                </a:cubicBezTo>
                <a:cubicBezTo>
                  <a:pt x="6028" y="3812"/>
                  <a:pt x="6028" y="3803"/>
                  <a:pt x="6028" y="3795"/>
                </a:cubicBezTo>
                <a:cubicBezTo>
                  <a:pt x="5985" y="3795"/>
                  <a:pt x="6033" y="3818"/>
                  <a:pt x="6052" y="3820"/>
                </a:cubicBezTo>
                <a:cubicBezTo>
                  <a:pt x="6121" y="3829"/>
                  <a:pt x="6214" y="3791"/>
                  <a:pt x="6276" y="3770"/>
                </a:cubicBezTo>
                <a:cubicBezTo>
                  <a:pt x="6333" y="3750"/>
                  <a:pt x="6428" y="3729"/>
                  <a:pt x="6449" y="3696"/>
                </a:cubicBezTo>
                <a:cubicBezTo>
                  <a:pt x="6345" y="3638"/>
                  <a:pt x="6265" y="3585"/>
                  <a:pt x="6152" y="3547"/>
                </a:cubicBezTo>
                <a:cubicBezTo>
                  <a:pt x="6046" y="3512"/>
                  <a:pt x="5928" y="3539"/>
                  <a:pt x="5904" y="3671"/>
                </a:cubicBezTo>
                <a:cubicBezTo>
                  <a:pt x="5865" y="3880"/>
                  <a:pt x="5976" y="4076"/>
                  <a:pt x="6201" y="4093"/>
                </a:cubicBezTo>
                <a:cubicBezTo>
                  <a:pt x="6354" y="4105"/>
                  <a:pt x="6478" y="4017"/>
                  <a:pt x="6598" y="3944"/>
                </a:cubicBezTo>
              </a:path>
              <a:path w="8881" h="1117">
                <a:moveTo>
                  <a:pt x="6747" y="3696"/>
                </a:moveTo>
                <a:cubicBezTo>
                  <a:pt x="6779" y="3817"/>
                  <a:pt x="6794" y="3873"/>
                  <a:pt x="6871" y="3969"/>
                </a:cubicBezTo>
                <a:cubicBezTo>
                  <a:pt x="6816" y="3874"/>
                  <a:pt x="6747" y="3761"/>
                  <a:pt x="6747" y="3646"/>
                </a:cubicBezTo>
                <a:cubicBezTo>
                  <a:pt x="6747" y="3581"/>
                  <a:pt x="6887" y="3539"/>
                  <a:pt x="6921" y="3522"/>
                </a:cubicBezTo>
              </a:path>
              <a:path w="8881" h="1117">
                <a:moveTo>
                  <a:pt x="7069" y="3621"/>
                </a:moveTo>
                <a:cubicBezTo>
                  <a:pt x="6953" y="3647"/>
                  <a:pt x="6860" y="3728"/>
                  <a:pt x="6896" y="3870"/>
                </a:cubicBezTo>
                <a:cubicBezTo>
                  <a:pt x="6939" y="3935"/>
                  <a:pt x="6945" y="3955"/>
                  <a:pt x="6995" y="3969"/>
                </a:cubicBezTo>
                <a:cubicBezTo>
                  <a:pt x="7060" y="3888"/>
                  <a:pt x="7079" y="3847"/>
                  <a:pt x="7094" y="3746"/>
                </a:cubicBezTo>
                <a:cubicBezTo>
                  <a:pt x="7140" y="3809"/>
                  <a:pt x="7201" y="3995"/>
                  <a:pt x="7317" y="3944"/>
                </a:cubicBezTo>
                <a:cubicBezTo>
                  <a:pt x="7403" y="3859"/>
                  <a:pt x="7430" y="3820"/>
                  <a:pt x="7417" y="3721"/>
                </a:cubicBezTo>
              </a:path>
              <a:path w="8881" h="1117">
                <a:moveTo>
                  <a:pt x="7293" y="3299"/>
                </a:moveTo>
                <a:cubicBezTo>
                  <a:pt x="7319" y="3488"/>
                  <a:pt x="7409" y="3650"/>
                  <a:pt x="7491" y="3820"/>
                </a:cubicBezTo>
                <a:cubicBezTo>
                  <a:pt x="7551" y="3940"/>
                  <a:pt x="7552" y="3967"/>
                  <a:pt x="7615" y="4018"/>
                </a:cubicBezTo>
              </a:path>
              <a:path w="8881" h="1117">
                <a:moveTo>
                  <a:pt x="7193" y="3671"/>
                </a:moveTo>
                <a:cubicBezTo>
                  <a:pt x="7380" y="3644"/>
                  <a:pt x="7561" y="3607"/>
                  <a:pt x="7714" y="3746"/>
                </a:cubicBezTo>
                <a:cubicBezTo>
                  <a:pt x="7783" y="3809"/>
                  <a:pt x="7800" y="3861"/>
                  <a:pt x="7813" y="3944"/>
                </a:cubicBezTo>
              </a:path>
              <a:path w="8881" h="1117">
                <a:moveTo>
                  <a:pt x="7689" y="3448"/>
                </a:moveTo>
                <a:cubicBezTo>
                  <a:pt x="7689" y="3440"/>
                  <a:pt x="7689" y="3431"/>
                  <a:pt x="7689" y="3423"/>
                </a:cubicBezTo>
              </a:path>
              <a:path w="8881" h="1117">
                <a:moveTo>
                  <a:pt x="8086" y="3646"/>
                </a:moveTo>
                <a:cubicBezTo>
                  <a:pt x="8018" y="3710"/>
                  <a:pt x="7855" y="3828"/>
                  <a:pt x="7962" y="3944"/>
                </a:cubicBezTo>
                <a:cubicBezTo>
                  <a:pt x="7979" y="3952"/>
                  <a:pt x="7995" y="3961"/>
                  <a:pt x="8012" y="3969"/>
                </a:cubicBezTo>
                <a:cubicBezTo>
                  <a:pt x="8122" y="3896"/>
                  <a:pt x="8235" y="3794"/>
                  <a:pt x="8161" y="3646"/>
                </a:cubicBezTo>
                <a:cubicBezTo>
                  <a:pt x="8151" y="3626"/>
                  <a:pt x="8060" y="3590"/>
                  <a:pt x="8037" y="3572"/>
                </a:cubicBezTo>
                <a:cubicBezTo>
                  <a:pt x="8136" y="3647"/>
                  <a:pt x="8229" y="3674"/>
                  <a:pt x="8334" y="3770"/>
                </a:cubicBezTo>
                <a:cubicBezTo>
                  <a:pt x="8397" y="3833"/>
                  <a:pt x="8414" y="3843"/>
                  <a:pt x="8434" y="3894"/>
                </a:cubicBezTo>
                <a:cubicBezTo>
                  <a:pt x="8427" y="3870"/>
                  <a:pt x="8329" y="3641"/>
                  <a:pt x="8458" y="3646"/>
                </a:cubicBezTo>
                <a:cubicBezTo>
                  <a:pt x="8597" y="3651"/>
                  <a:pt x="8735" y="3888"/>
                  <a:pt x="8830" y="3969"/>
                </a:cubicBezTo>
              </a:path>
              <a:path w="8881" h="1117">
                <a:moveTo>
                  <a:pt x="9227" y="3448"/>
                </a:moveTo>
                <a:cubicBezTo>
                  <a:pt x="9288" y="3641"/>
                  <a:pt x="9347" y="3832"/>
                  <a:pt x="9426" y="4018"/>
                </a:cubicBezTo>
                <a:cubicBezTo>
                  <a:pt x="9446" y="4059"/>
                  <a:pt x="9465" y="4075"/>
                  <a:pt x="9426" y="4068"/>
                </a:cubicBezTo>
              </a:path>
              <a:path w="8881" h="1117">
                <a:moveTo>
                  <a:pt x="9128" y="3845"/>
                </a:moveTo>
                <a:cubicBezTo>
                  <a:pt x="9300" y="3864"/>
                  <a:pt x="9433" y="3816"/>
                  <a:pt x="9599" y="3820"/>
                </a:cubicBezTo>
                <a:cubicBezTo>
                  <a:pt x="9624" y="3828"/>
                  <a:pt x="9649" y="3837"/>
                  <a:pt x="9674" y="3845"/>
                </a:cubicBezTo>
                <a:cubicBezTo>
                  <a:pt x="9687" y="3908"/>
                  <a:pt x="9635" y="4069"/>
                  <a:pt x="9699" y="4118"/>
                </a:cubicBezTo>
                <a:cubicBezTo>
                  <a:pt x="9827" y="4217"/>
                  <a:pt x="9991" y="4057"/>
                  <a:pt x="9947" y="3919"/>
                </a:cubicBezTo>
                <a:cubicBezTo>
                  <a:pt x="9897" y="3762"/>
                  <a:pt x="9748" y="3765"/>
                  <a:pt x="9624" y="37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68840" y="1295280"/>
            <a:ext cx="2438280" cy="241560"/>
          </a:xfrm>
          <a:custGeom>
            <a:avLst/>
            <a:gdLst/>
            <a:ahLst/>
            <a:rect l="l" t="t" r="r" b="b"/>
            <a:pathLst>
              <a:path w="6772" h="670">
                <a:moveTo>
                  <a:pt x="10666" y="3621"/>
                </a:moveTo>
                <a:cubicBezTo>
                  <a:pt x="10694" y="3786"/>
                  <a:pt x="10730" y="3959"/>
                  <a:pt x="10790" y="4118"/>
                </a:cubicBezTo>
                <a:cubicBezTo>
                  <a:pt x="10815" y="4167"/>
                  <a:pt x="10823" y="4183"/>
                  <a:pt x="10790" y="4118"/>
                </a:cubicBezTo>
              </a:path>
              <a:path w="6772" h="670">
                <a:moveTo>
                  <a:pt x="10468" y="3944"/>
                </a:moveTo>
                <a:cubicBezTo>
                  <a:pt x="10597" y="4021"/>
                  <a:pt x="10818" y="4074"/>
                  <a:pt x="10964" y="3944"/>
                </a:cubicBezTo>
                <a:cubicBezTo>
                  <a:pt x="11031" y="3832"/>
                  <a:pt x="11052" y="3804"/>
                  <a:pt x="11063" y="3721"/>
                </a:cubicBezTo>
                <a:cubicBezTo>
                  <a:pt x="11073" y="3825"/>
                  <a:pt x="11069" y="3942"/>
                  <a:pt x="11088" y="4043"/>
                </a:cubicBezTo>
                <a:cubicBezTo>
                  <a:pt x="11096" y="4060"/>
                  <a:pt x="11104" y="4076"/>
                  <a:pt x="11112" y="4093"/>
                </a:cubicBezTo>
                <a:cubicBezTo>
                  <a:pt x="11120" y="3979"/>
                  <a:pt x="11081" y="3861"/>
                  <a:pt x="11162" y="3919"/>
                </a:cubicBezTo>
                <a:cubicBezTo>
                  <a:pt x="11219" y="3960"/>
                  <a:pt x="11286" y="4016"/>
                  <a:pt x="11361" y="3944"/>
                </a:cubicBezTo>
                <a:cubicBezTo>
                  <a:pt x="11377" y="3919"/>
                  <a:pt x="11394" y="3895"/>
                  <a:pt x="11410" y="3870"/>
                </a:cubicBezTo>
                <a:cubicBezTo>
                  <a:pt x="11410" y="3975"/>
                  <a:pt x="11388" y="4068"/>
                  <a:pt x="11534" y="4068"/>
                </a:cubicBezTo>
                <a:cubicBezTo>
                  <a:pt x="11640" y="4041"/>
                  <a:pt x="11679" y="4028"/>
                  <a:pt x="11733" y="3969"/>
                </a:cubicBezTo>
              </a:path>
              <a:path w="6772" h="670">
                <a:moveTo>
                  <a:pt x="12204" y="3944"/>
                </a:moveTo>
                <a:cubicBezTo>
                  <a:pt x="12204" y="3858"/>
                  <a:pt x="12241" y="4057"/>
                  <a:pt x="12254" y="4142"/>
                </a:cubicBezTo>
                <a:cubicBezTo>
                  <a:pt x="12254" y="4220"/>
                  <a:pt x="12238" y="4238"/>
                  <a:pt x="12278" y="4266"/>
                </a:cubicBezTo>
                <a:cubicBezTo>
                  <a:pt x="12258" y="4143"/>
                  <a:pt x="12246" y="4030"/>
                  <a:pt x="12328" y="3919"/>
                </a:cubicBezTo>
                <a:cubicBezTo>
                  <a:pt x="12410" y="3808"/>
                  <a:pt x="12576" y="4090"/>
                  <a:pt x="12601" y="4142"/>
                </a:cubicBezTo>
                <a:cubicBezTo>
                  <a:pt x="12647" y="4236"/>
                  <a:pt x="12650" y="4239"/>
                  <a:pt x="12650" y="4142"/>
                </a:cubicBezTo>
                <a:cubicBezTo>
                  <a:pt x="12650" y="4026"/>
                  <a:pt x="12650" y="3993"/>
                  <a:pt x="12650" y="3919"/>
                </a:cubicBezTo>
                <a:cubicBezTo>
                  <a:pt x="12650" y="3894"/>
                  <a:pt x="12650" y="3886"/>
                  <a:pt x="12650" y="3919"/>
                </a:cubicBezTo>
                <a:cubicBezTo>
                  <a:pt x="12656" y="4040"/>
                  <a:pt x="12646" y="4235"/>
                  <a:pt x="12824" y="4242"/>
                </a:cubicBezTo>
                <a:cubicBezTo>
                  <a:pt x="12966" y="4247"/>
                  <a:pt x="12981" y="4077"/>
                  <a:pt x="13022" y="3994"/>
                </a:cubicBezTo>
                <a:cubicBezTo>
                  <a:pt x="12998" y="4107"/>
                  <a:pt x="13037" y="4235"/>
                  <a:pt x="13196" y="4217"/>
                </a:cubicBezTo>
                <a:cubicBezTo>
                  <a:pt x="13302" y="4164"/>
                  <a:pt x="13338" y="4140"/>
                  <a:pt x="13345" y="4043"/>
                </a:cubicBezTo>
              </a:path>
              <a:path w="6772" h="670">
                <a:moveTo>
                  <a:pt x="13320" y="4093"/>
                </a:moveTo>
                <a:cubicBezTo>
                  <a:pt x="13320" y="4223"/>
                  <a:pt x="13343" y="3982"/>
                  <a:pt x="13370" y="3944"/>
                </a:cubicBezTo>
                <a:cubicBezTo>
                  <a:pt x="13378" y="3944"/>
                  <a:pt x="13387" y="3944"/>
                  <a:pt x="13395" y="3944"/>
                </a:cubicBezTo>
                <a:cubicBezTo>
                  <a:pt x="13514" y="4014"/>
                  <a:pt x="13565" y="4077"/>
                  <a:pt x="13593" y="4217"/>
                </a:cubicBezTo>
                <a:cubicBezTo>
                  <a:pt x="13629" y="4097"/>
                  <a:pt x="13608" y="3920"/>
                  <a:pt x="13767" y="3870"/>
                </a:cubicBezTo>
                <a:cubicBezTo>
                  <a:pt x="13953" y="3811"/>
                  <a:pt x="13925" y="4117"/>
                  <a:pt x="13891" y="4192"/>
                </a:cubicBezTo>
                <a:cubicBezTo>
                  <a:pt x="13883" y="4200"/>
                  <a:pt x="13874" y="4209"/>
                  <a:pt x="13866" y="4217"/>
                </a:cubicBezTo>
              </a:path>
              <a:path w="6772" h="670">
                <a:moveTo>
                  <a:pt x="14263" y="3919"/>
                </a:moveTo>
                <a:lnTo>
                  <a:pt x="14288" y="3919"/>
                </a:lnTo>
                <a:lnTo>
                  <a:pt x="14288" y="3919"/>
                </a:lnTo>
                <a:lnTo>
                  <a:pt x="14362" y="3919"/>
                </a:lnTo>
                <a:lnTo>
                  <a:pt x="14436" y="3919"/>
                </a:lnTo>
                <a:lnTo>
                  <a:pt x="14486" y="3894"/>
                </a:lnTo>
                <a:lnTo>
                  <a:pt x="14511" y="3894"/>
                </a:lnTo>
                <a:lnTo>
                  <a:pt x="14486" y="3894"/>
                </a:lnTo>
                <a:lnTo>
                  <a:pt x="14461" y="3894"/>
                </a:lnTo>
                <a:lnTo>
                  <a:pt x="14387" y="3870"/>
                </a:lnTo>
                <a:lnTo>
                  <a:pt x="14263" y="3870"/>
                </a:lnTo>
                <a:lnTo>
                  <a:pt x="14163" y="3969"/>
                </a:lnTo>
                <a:lnTo>
                  <a:pt x="14139" y="4068"/>
                </a:lnTo>
                <a:lnTo>
                  <a:pt x="14163" y="4167"/>
                </a:lnTo>
                <a:lnTo>
                  <a:pt x="14288" y="4242"/>
                </a:lnTo>
                <a:lnTo>
                  <a:pt x="14436" y="4242"/>
                </a:lnTo>
                <a:lnTo>
                  <a:pt x="14560" y="4192"/>
                </a:lnTo>
                <a:lnTo>
                  <a:pt x="14635" y="4093"/>
                </a:lnTo>
                <a:lnTo>
                  <a:pt x="14660" y="3994"/>
                </a:lnTo>
                <a:lnTo>
                  <a:pt x="14684" y="3944"/>
                </a:lnTo>
                <a:lnTo>
                  <a:pt x="14684" y="3969"/>
                </a:lnTo>
                <a:lnTo>
                  <a:pt x="14709" y="4018"/>
                </a:lnTo>
                <a:lnTo>
                  <a:pt x="14709" y="4093"/>
                </a:lnTo>
                <a:lnTo>
                  <a:pt x="14709" y="4093"/>
                </a:lnTo>
                <a:lnTo>
                  <a:pt x="14709" y="4068"/>
                </a:lnTo>
                <a:lnTo>
                  <a:pt x="14734" y="4043"/>
                </a:lnTo>
                <a:lnTo>
                  <a:pt x="14784" y="3969"/>
                </a:lnTo>
                <a:lnTo>
                  <a:pt x="14858" y="3845"/>
                </a:lnTo>
                <a:lnTo>
                  <a:pt x="14932" y="3795"/>
                </a:lnTo>
                <a:lnTo>
                  <a:pt x="15032" y="3795"/>
                </a:lnTo>
              </a:path>
              <a:path w="6772" h="670">
                <a:moveTo>
                  <a:pt x="15304" y="3944"/>
                </a:moveTo>
                <a:cubicBezTo>
                  <a:pt x="15282" y="3876"/>
                  <a:pt x="15156" y="3988"/>
                  <a:pt x="15131" y="4018"/>
                </a:cubicBezTo>
                <a:cubicBezTo>
                  <a:pt x="15051" y="4114"/>
                  <a:pt x="15036" y="4152"/>
                  <a:pt x="15081" y="4242"/>
                </a:cubicBezTo>
                <a:cubicBezTo>
                  <a:pt x="15208" y="4196"/>
                  <a:pt x="15186" y="4138"/>
                  <a:pt x="15255" y="4018"/>
                </a:cubicBezTo>
                <a:cubicBezTo>
                  <a:pt x="15292" y="4131"/>
                  <a:pt x="15374" y="4192"/>
                  <a:pt x="15503" y="4192"/>
                </a:cubicBezTo>
                <a:cubicBezTo>
                  <a:pt x="15724" y="4192"/>
                  <a:pt x="15713" y="3898"/>
                  <a:pt x="15701" y="3746"/>
                </a:cubicBezTo>
                <a:cubicBezTo>
                  <a:pt x="15683" y="3651"/>
                  <a:pt x="15697" y="3631"/>
                  <a:pt x="15652" y="3597"/>
                </a:cubicBezTo>
                <a:cubicBezTo>
                  <a:pt x="15652" y="3764"/>
                  <a:pt x="15647" y="3927"/>
                  <a:pt x="15677" y="4093"/>
                </a:cubicBezTo>
                <a:cubicBezTo>
                  <a:pt x="15685" y="4118"/>
                  <a:pt x="15693" y="4142"/>
                  <a:pt x="15701" y="4167"/>
                </a:cubicBezTo>
              </a:path>
              <a:path w="6772" h="670">
                <a:moveTo>
                  <a:pt x="15429" y="3795"/>
                </a:moveTo>
                <a:cubicBezTo>
                  <a:pt x="15594" y="3818"/>
                  <a:pt x="15812" y="3850"/>
                  <a:pt x="15974" y="3795"/>
                </a:cubicBezTo>
                <a:cubicBezTo>
                  <a:pt x="15974" y="3787"/>
                  <a:pt x="15974" y="3778"/>
                  <a:pt x="15974" y="3770"/>
                </a:cubicBezTo>
                <a:cubicBezTo>
                  <a:pt x="15958" y="3883"/>
                  <a:pt x="15814" y="3940"/>
                  <a:pt x="15825" y="4068"/>
                </a:cubicBezTo>
                <a:cubicBezTo>
                  <a:pt x="15839" y="4242"/>
                  <a:pt x="16077" y="4217"/>
                  <a:pt x="16173" y="4142"/>
                </a:cubicBezTo>
                <a:cubicBezTo>
                  <a:pt x="16286" y="4054"/>
                  <a:pt x="16196" y="3853"/>
                  <a:pt x="16123" y="3770"/>
                </a:cubicBezTo>
                <a:cubicBezTo>
                  <a:pt x="16098" y="3754"/>
                  <a:pt x="16074" y="3737"/>
                  <a:pt x="16049" y="3721"/>
                </a:cubicBezTo>
              </a:path>
              <a:path w="6772" h="670">
                <a:moveTo>
                  <a:pt x="16446" y="3919"/>
                </a:moveTo>
                <a:cubicBezTo>
                  <a:pt x="16446" y="3980"/>
                  <a:pt x="16462" y="4011"/>
                  <a:pt x="16470" y="4068"/>
                </a:cubicBezTo>
                <a:cubicBezTo>
                  <a:pt x="16470" y="3993"/>
                  <a:pt x="16495" y="3887"/>
                  <a:pt x="16520" y="3820"/>
                </a:cubicBezTo>
                <a:cubicBezTo>
                  <a:pt x="16576" y="3668"/>
                  <a:pt x="16656" y="3665"/>
                  <a:pt x="16793" y="3621"/>
                </a:cubicBezTo>
              </a:path>
              <a:path w="6772" h="670">
                <a:moveTo>
                  <a:pt x="17090" y="3597"/>
                </a:moveTo>
                <a:cubicBezTo>
                  <a:pt x="16997" y="3634"/>
                  <a:pt x="16950" y="3665"/>
                  <a:pt x="16867" y="3721"/>
                </a:cubicBezTo>
                <a:cubicBezTo>
                  <a:pt x="16964" y="3798"/>
                  <a:pt x="17195" y="3850"/>
                  <a:pt x="17239" y="3969"/>
                </a:cubicBezTo>
                <a:cubicBezTo>
                  <a:pt x="17300" y="4134"/>
                  <a:pt x="16936" y="4186"/>
                  <a:pt x="16867" y="4167"/>
                </a:cubicBezTo>
                <a:cubicBezTo>
                  <a:pt x="16688" y="4077"/>
                  <a:pt x="16638" y="4057"/>
                  <a:pt x="16545" y="396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1465200"/>
            <a:ext cx="3278160" cy="1320840"/>
          </a:xfrm>
          <a:custGeom>
            <a:avLst/>
            <a:gdLst/>
            <a:ahLst/>
            <a:rect l="l" t="t" r="r" b="b"/>
            <a:pathLst>
              <a:path w="9104" h="3672">
                <a:moveTo>
                  <a:pt x="1439" y="4068"/>
                </a:moveTo>
                <a:cubicBezTo>
                  <a:pt x="1472" y="4072"/>
                  <a:pt x="1480" y="4090"/>
                  <a:pt x="1513" y="4093"/>
                </a:cubicBezTo>
                <a:cubicBezTo>
                  <a:pt x="1701" y="4108"/>
                  <a:pt x="1897" y="4114"/>
                  <a:pt x="2084" y="4118"/>
                </a:cubicBezTo>
                <a:cubicBezTo>
                  <a:pt x="2465" y="4126"/>
                  <a:pt x="2847" y="4125"/>
                  <a:pt x="3225" y="4142"/>
                </a:cubicBezTo>
                <a:cubicBezTo>
                  <a:pt x="3473" y="4153"/>
                  <a:pt x="3698" y="4173"/>
                  <a:pt x="3944" y="4217"/>
                </a:cubicBezTo>
                <a:cubicBezTo>
                  <a:pt x="4111" y="4247"/>
                  <a:pt x="4296" y="4278"/>
                  <a:pt x="4465" y="4291"/>
                </a:cubicBezTo>
                <a:cubicBezTo>
                  <a:pt x="4697" y="4309"/>
                  <a:pt x="4927" y="4316"/>
                  <a:pt x="5159" y="4341"/>
                </a:cubicBezTo>
                <a:cubicBezTo>
                  <a:pt x="5445" y="4371"/>
                  <a:pt x="5719" y="4450"/>
                  <a:pt x="6003" y="4490"/>
                </a:cubicBezTo>
                <a:cubicBezTo>
                  <a:pt x="6460" y="4554"/>
                  <a:pt x="6910" y="4647"/>
                  <a:pt x="7367" y="4713"/>
                </a:cubicBezTo>
                <a:cubicBezTo>
                  <a:pt x="7696" y="4760"/>
                  <a:pt x="8027" y="4828"/>
                  <a:pt x="8359" y="4837"/>
                </a:cubicBezTo>
                <a:cubicBezTo>
                  <a:pt x="8401" y="4837"/>
                  <a:pt x="8409" y="4837"/>
                  <a:pt x="8434" y="4837"/>
                </a:cubicBezTo>
              </a:path>
              <a:path w="9104" h="3672">
                <a:moveTo>
                  <a:pt x="9947" y="7565"/>
                </a:moveTo>
                <a:cubicBezTo>
                  <a:pt x="9984" y="7594"/>
                  <a:pt x="10008" y="7587"/>
                  <a:pt x="10046" y="7615"/>
                </a:cubicBezTo>
                <a:cubicBezTo>
                  <a:pt x="10046" y="7590"/>
                  <a:pt x="10046" y="7582"/>
                  <a:pt x="10071" y="7590"/>
                </a:cubicBezTo>
              </a:path>
              <a:path w="9104" h="3672">
                <a:moveTo>
                  <a:pt x="10071" y="7590"/>
                </a:moveTo>
                <a:lnTo>
                  <a:pt x="10071" y="7590"/>
                </a:lnTo>
              </a:path>
              <a:path w="9104" h="3672">
                <a:moveTo>
                  <a:pt x="10071" y="7565"/>
                </a:moveTo>
                <a:cubicBezTo>
                  <a:pt x="10063" y="7565"/>
                  <a:pt x="10054" y="7565"/>
                  <a:pt x="10046" y="7565"/>
                </a:cubicBezTo>
              </a:path>
              <a:path w="9104" h="3672">
                <a:moveTo>
                  <a:pt x="10046" y="7565"/>
                </a:moveTo>
                <a:cubicBezTo>
                  <a:pt x="10075" y="7523"/>
                  <a:pt x="10199" y="7486"/>
                  <a:pt x="10269" y="7466"/>
                </a:cubicBezTo>
                <a:cubicBezTo>
                  <a:pt x="10370" y="7437"/>
                  <a:pt x="10415" y="7411"/>
                  <a:pt x="10468" y="7491"/>
                </a:cubicBezTo>
              </a:path>
              <a:path w="9104" h="3672">
                <a:moveTo>
                  <a:pt x="10120" y="7739"/>
                </a:moveTo>
                <a:cubicBezTo>
                  <a:pt x="10247" y="7729"/>
                  <a:pt x="10364" y="7695"/>
                  <a:pt x="10492" y="7689"/>
                </a:cubicBezTo>
                <a:cubicBezTo>
                  <a:pt x="10534" y="7687"/>
                  <a:pt x="10530" y="7701"/>
                  <a:pt x="10542" y="766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87680"/>
            <a:ext cx="982800" cy="241200"/>
          </a:xfrm>
          <a:custGeom>
            <a:avLst/>
            <a:gdLst/>
            <a:ahLst/>
            <a:rect l="l" t="t" r="r" b="b"/>
            <a:pathLst>
              <a:path w="2729" h="671">
                <a:moveTo>
                  <a:pt x="1439" y="4738"/>
                </a:moveTo>
                <a:cubicBezTo>
                  <a:pt x="1439" y="4779"/>
                  <a:pt x="1439" y="4787"/>
                  <a:pt x="1439" y="4812"/>
                </a:cubicBezTo>
                <a:cubicBezTo>
                  <a:pt x="1430" y="4794"/>
                  <a:pt x="1354" y="4670"/>
                  <a:pt x="1339" y="4688"/>
                </a:cubicBezTo>
                <a:cubicBezTo>
                  <a:pt x="1245" y="4797"/>
                  <a:pt x="1157" y="5041"/>
                  <a:pt x="1166" y="5184"/>
                </a:cubicBezTo>
                <a:cubicBezTo>
                  <a:pt x="1180" y="5389"/>
                  <a:pt x="1525" y="5157"/>
                  <a:pt x="1563" y="5135"/>
                </a:cubicBezTo>
              </a:path>
              <a:path w="2729" h="671">
                <a:moveTo>
                  <a:pt x="1563" y="4887"/>
                </a:moveTo>
                <a:cubicBezTo>
                  <a:pt x="1503" y="4970"/>
                  <a:pt x="1381" y="5121"/>
                  <a:pt x="1513" y="5209"/>
                </a:cubicBezTo>
                <a:cubicBezTo>
                  <a:pt x="1629" y="5286"/>
                  <a:pt x="1724" y="5138"/>
                  <a:pt x="1712" y="5035"/>
                </a:cubicBezTo>
                <a:cubicBezTo>
                  <a:pt x="1702" y="4949"/>
                  <a:pt x="1652" y="4926"/>
                  <a:pt x="1588" y="4887"/>
                </a:cubicBezTo>
              </a:path>
              <a:path w="2729" h="671">
                <a:moveTo>
                  <a:pt x="1836" y="4961"/>
                </a:moveTo>
                <a:lnTo>
                  <a:pt x="1860" y="5060"/>
                </a:lnTo>
                <a:lnTo>
                  <a:pt x="1885" y="5135"/>
                </a:lnTo>
                <a:lnTo>
                  <a:pt x="1885" y="5159"/>
                </a:lnTo>
                <a:lnTo>
                  <a:pt x="1885" y="5184"/>
                </a:lnTo>
                <a:lnTo>
                  <a:pt x="1860" y="5135"/>
                </a:lnTo>
                <a:lnTo>
                  <a:pt x="1860" y="5035"/>
                </a:lnTo>
                <a:lnTo>
                  <a:pt x="1910" y="4961"/>
                </a:lnTo>
                <a:lnTo>
                  <a:pt x="1984" y="4911"/>
                </a:lnTo>
                <a:lnTo>
                  <a:pt x="2059" y="4911"/>
                </a:lnTo>
                <a:lnTo>
                  <a:pt x="2133" y="4961"/>
                </a:lnTo>
                <a:lnTo>
                  <a:pt x="2183" y="5060"/>
                </a:lnTo>
                <a:lnTo>
                  <a:pt x="2183" y="5135"/>
                </a:lnTo>
                <a:lnTo>
                  <a:pt x="2183" y="5135"/>
                </a:lnTo>
                <a:lnTo>
                  <a:pt x="2183" y="5110"/>
                </a:lnTo>
                <a:lnTo>
                  <a:pt x="2183" y="5011"/>
                </a:lnTo>
                <a:lnTo>
                  <a:pt x="2208" y="4936"/>
                </a:lnTo>
                <a:lnTo>
                  <a:pt x="2232" y="4911"/>
                </a:lnTo>
                <a:lnTo>
                  <a:pt x="2282" y="4936"/>
                </a:lnTo>
                <a:lnTo>
                  <a:pt x="2356" y="4986"/>
                </a:lnTo>
                <a:lnTo>
                  <a:pt x="2406" y="5085"/>
                </a:lnTo>
                <a:lnTo>
                  <a:pt x="2406" y="5159"/>
                </a:lnTo>
                <a:lnTo>
                  <a:pt x="2381" y="5184"/>
                </a:lnTo>
                <a:lnTo>
                  <a:pt x="2332" y="5209"/>
                </a:lnTo>
              </a:path>
              <a:path w="2729" h="671">
                <a:moveTo>
                  <a:pt x="2282" y="5035"/>
                </a:moveTo>
                <a:cubicBezTo>
                  <a:pt x="2303" y="5110"/>
                  <a:pt x="2338" y="5194"/>
                  <a:pt x="2381" y="5259"/>
                </a:cubicBezTo>
                <a:cubicBezTo>
                  <a:pt x="2381" y="5188"/>
                  <a:pt x="2370" y="5070"/>
                  <a:pt x="2456" y="5035"/>
                </a:cubicBezTo>
                <a:cubicBezTo>
                  <a:pt x="2544" y="4999"/>
                  <a:pt x="2679" y="5165"/>
                  <a:pt x="2679" y="5234"/>
                </a:cubicBezTo>
                <a:cubicBezTo>
                  <a:pt x="2671" y="5234"/>
                  <a:pt x="2662" y="5234"/>
                  <a:pt x="2654" y="5234"/>
                </a:cubicBezTo>
                <a:cubicBezTo>
                  <a:pt x="2572" y="5193"/>
                  <a:pt x="2576" y="5094"/>
                  <a:pt x="2679" y="5035"/>
                </a:cubicBezTo>
                <a:cubicBezTo>
                  <a:pt x="2814" y="4957"/>
                  <a:pt x="2881" y="5095"/>
                  <a:pt x="2902" y="5209"/>
                </a:cubicBezTo>
                <a:cubicBezTo>
                  <a:pt x="2907" y="5239"/>
                  <a:pt x="2900" y="5373"/>
                  <a:pt x="2877" y="5259"/>
                </a:cubicBezTo>
              </a:path>
              <a:path w="2729" h="671">
                <a:moveTo>
                  <a:pt x="3051" y="5035"/>
                </a:moveTo>
                <a:cubicBezTo>
                  <a:pt x="2947" y="5113"/>
                  <a:pt x="2917" y="5162"/>
                  <a:pt x="2927" y="5283"/>
                </a:cubicBezTo>
                <a:cubicBezTo>
                  <a:pt x="3052" y="5302"/>
                  <a:pt x="3214" y="5300"/>
                  <a:pt x="3249" y="5135"/>
                </a:cubicBezTo>
                <a:cubicBezTo>
                  <a:pt x="3263" y="5067"/>
                  <a:pt x="3139" y="5057"/>
                  <a:pt x="3101" y="5035"/>
                </a:cubicBezTo>
              </a:path>
              <a:path w="2729" h="671">
                <a:moveTo>
                  <a:pt x="3547" y="5209"/>
                </a:moveTo>
                <a:cubicBezTo>
                  <a:pt x="3547" y="5234"/>
                  <a:pt x="3547" y="5242"/>
                  <a:pt x="3547" y="5259"/>
                </a:cubicBezTo>
                <a:cubicBezTo>
                  <a:pt x="3483" y="5211"/>
                  <a:pt x="3488" y="5105"/>
                  <a:pt x="3597" y="5085"/>
                </a:cubicBezTo>
                <a:cubicBezTo>
                  <a:pt x="3723" y="5062"/>
                  <a:pt x="3894" y="5131"/>
                  <a:pt x="3894" y="5283"/>
                </a:cubicBezTo>
                <a:cubicBezTo>
                  <a:pt x="3886" y="5308"/>
                  <a:pt x="3878" y="5333"/>
                  <a:pt x="3870" y="535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8120" y="1741320"/>
            <a:ext cx="1919160" cy="857520"/>
          </a:xfrm>
          <a:custGeom>
            <a:avLst/>
            <a:gdLst/>
            <a:ahLst/>
            <a:rect l="l" t="t" r="r" b="b"/>
            <a:pathLst>
              <a:path w="5334" h="2382">
                <a:moveTo>
                  <a:pt x="4961" y="5259"/>
                </a:moveTo>
                <a:cubicBezTo>
                  <a:pt x="4899" y="5196"/>
                  <a:pt x="4814" y="5085"/>
                  <a:pt x="4713" y="5085"/>
                </a:cubicBezTo>
                <a:cubicBezTo>
                  <a:pt x="4525" y="5085"/>
                  <a:pt x="4481" y="5249"/>
                  <a:pt x="4490" y="5383"/>
                </a:cubicBezTo>
                <a:cubicBezTo>
                  <a:pt x="4726" y="5511"/>
                  <a:pt x="4785" y="5348"/>
                  <a:pt x="4911" y="5159"/>
                </a:cubicBezTo>
              </a:path>
              <a:path w="5334" h="2382">
                <a:moveTo>
                  <a:pt x="4887" y="4837"/>
                </a:moveTo>
                <a:cubicBezTo>
                  <a:pt x="4887" y="5013"/>
                  <a:pt x="4892" y="5146"/>
                  <a:pt x="4961" y="5308"/>
                </a:cubicBezTo>
                <a:cubicBezTo>
                  <a:pt x="4969" y="5325"/>
                  <a:pt x="4978" y="5341"/>
                  <a:pt x="4986" y="5358"/>
                </a:cubicBezTo>
              </a:path>
              <a:path w="5334" h="2382">
                <a:moveTo>
                  <a:pt x="5085" y="5209"/>
                </a:moveTo>
                <a:cubicBezTo>
                  <a:pt x="5181" y="5185"/>
                  <a:pt x="5328" y="5184"/>
                  <a:pt x="5308" y="5085"/>
                </a:cubicBezTo>
                <a:cubicBezTo>
                  <a:pt x="5146" y="5105"/>
                  <a:pt x="5076" y="5123"/>
                  <a:pt x="5035" y="5283"/>
                </a:cubicBezTo>
                <a:cubicBezTo>
                  <a:pt x="5204" y="5357"/>
                  <a:pt x="5253" y="5344"/>
                  <a:pt x="5432" y="5308"/>
                </a:cubicBezTo>
              </a:path>
              <a:path w="5334" h="2382">
                <a:moveTo>
                  <a:pt x="5556" y="5184"/>
                </a:moveTo>
                <a:cubicBezTo>
                  <a:pt x="5535" y="5232"/>
                  <a:pt x="5560" y="5285"/>
                  <a:pt x="5507" y="5283"/>
                </a:cubicBezTo>
                <a:cubicBezTo>
                  <a:pt x="5516" y="5196"/>
                  <a:pt x="5544" y="5035"/>
                  <a:pt x="5680" y="5060"/>
                </a:cubicBezTo>
                <a:cubicBezTo>
                  <a:pt x="5788" y="5080"/>
                  <a:pt x="5874" y="5236"/>
                  <a:pt x="5854" y="5333"/>
                </a:cubicBezTo>
                <a:cubicBezTo>
                  <a:pt x="5846" y="5333"/>
                  <a:pt x="5837" y="5333"/>
                  <a:pt x="5829" y="5333"/>
                </a:cubicBezTo>
              </a:path>
              <a:path w="5334" h="2382">
                <a:moveTo>
                  <a:pt x="5978" y="5060"/>
                </a:moveTo>
                <a:cubicBezTo>
                  <a:pt x="5881" y="5173"/>
                  <a:pt x="5843" y="5221"/>
                  <a:pt x="5854" y="5358"/>
                </a:cubicBezTo>
                <a:cubicBezTo>
                  <a:pt x="5975" y="5423"/>
                  <a:pt x="6111" y="5429"/>
                  <a:pt x="6201" y="5283"/>
                </a:cubicBezTo>
                <a:cubicBezTo>
                  <a:pt x="6254" y="5197"/>
                  <a:pt x="6066" y="5133"/>
                  <a:pt x="6028" y="5110"/>
                </a:cubicBezTo>
              </a:path>
              <a:path w="5334" h="2382">
                <a:moveTo>
                  <a:pt x="6276" y="5184"/>
                </a:moveTo>
                <a:cubicBezTo>
                  <a:pt x="6297" y="5293"/>
                  <a:pt x="6300" y="5319"/>
                  <a:pt x="6325" y="5383"/>
                </a:cubicBezTo>
                <a:cubicBezTo>
                  <a:pt x="6325" y="5255"/>
                  <a:pt x="6346" y="5208"/>
                  <a:pt x="6424" y="5110"/>
                </a:cubicBezTo>
                <a:cubicBezTo>
                  <a:pt x="6528" y="5168"/>
                  <a:pt x="6607" y="5240"/>
                  <a:pt x="6648" y="5358"/>
                </a:cubicBezTo>
                <a:cubicBezTo>
                  <a:pt x="6677" y="5440"/>
                  <a:pt x="6656" y="5320"/>
                  <a:pt x="6672" y="5259"/>
                </a:cubicBezTo>
                <a:cubicBezTo>
                  <a:pt x="6685" y="5208"/>
                  <a:pt x="6739" y="5172"/>
                  <a:pt x="6796" y="5159"/>
                </a:cubicBezTo>
                <a:cubicBezTo>
                  <a:pt x="6916" y="5132"/>
                  <a:pt x="6936" y="5306"/>
                  <a:pt x="6945" y="5383"/>
                </a:cubicBezTo>
                <a:cubicBezTo>
                  <a:pt x="6945" y="5407"/>
                  <a:pt x="6945" y="5416"/>
                  <a:pt x="6945" y="5432"/>
                </a:cubicBezTo>
              </a:path>
              <a:path w="5334" h="2382">
                <a:moveTo>
                  <a:pt x="7069" y="5159"/>
                </a:moveTo>
                <a:cubicBezTo>
                  <a:pt x="7106" y="5243"/>
                  <a:pt x="7135" y="5323"/>
                  <a:pt x="7169" y="5407"/>
                </a:cubicBezTo>
              </a:path>
              <a:path w="5334" h="2382">
                <a:moveTo>
                  <a:pt x="7615" y="5234"/>
                </a:moveTo>
                <a:cubicBezTo>
                  <a:pt x="7570" y="5286"/>
                  <a:pt x="7574" y="5287"/>
                  <a:pt x="7541" y="5333"/>
                </a:cubicBezTo>
                <a:cubicBezTo>
                  <a:pt x="7530" y="5270"/>
                  <a:pt x="7502" y="5169"/>
                  <a:pt x="7541" y="5110"/>
                </a:cubicBezTo>
                <a:cubicBezTo>
                  <a:pt x="7606" y="5010"/>
                  <a:pt x="7772" y="5163"/>
                  <a:pt x="7813" y="5209"/>
                </a:cubicBezTo>
                <a:cubicBezTo>
                  <a:pt x="7866" y="5269"/>
                  <a:pt x="7931" y="5371"/>
                  <a:pt x="7838" y="5432"/>
                </a:cubicBezTo>
                <a:cubicBezTo>
                  <a:pt x="7830" y="5432"/>
                  <a:pt x="7821" y="5432"/>
                  <a:pt x="7813" y="5432"/>
                </a:cubicBezTo>
              </a:path>
              <a:path w="5334" h="2382">
                <a:moveTo>
                  <a:pt x="8161" y="5184"/>
                </a:moveTo>
                <a:cubicBezTo>
                  <a:pt x="8006" y="5244"/>
                  <a:pt x="7963" y="5266"/>
                  <a:pt x="7938" y="5432"/>
                </a:cubicBezTo>
                <a:cubicBezTo>
                  <a:pt x="8059" y="5506"/>
                  <a:pt x="8140" y="5485"/>
                  <a:pt x="8235" y="5358"/>
                </a:cubicBezTo>
                <a:cubicBezTo>
                  <a:pt x="8235" y="5350"/>
                  <a:pt x="8235" y="5341"/>
                  <a:pt x="8235" y="5333"/>
                </a:cubicBezTo>
                <a:cubicBezTo>
                  <a:pt x="8257" y="5445"/>
                  <a:pt x="8350" y="5466"/>
                  <a:pt x="8458" y="5457"/>
                </a:cubicBezTo>
                <a:cubicBezTo>
                  <a:pt x="8576" y="5428"/>
                  <a:pt x="8621" y="5405"/>
                  <a:pt x="8657" y="5308"/>
                </a:cubicBezTo>
              </a:path>
              <a:path w="5334" h="2382">
                <a:moveTo>
                  <a:pt x="8682" y="5035"/>
                </a:moveTo>
                <a:cubicBezTo>
                  <a:pt x="8649" y="5177"/>
                  <a:pt x="8666" y="5288"/>
                  <a:pt x="8682" y="5432"/>
                </a:cubicBezTo>
                <a:cubicBezTo>
                  <a:pt x="8682" y="5449"/>
                  <a:pt x="8682" y="5465"/>
                  <a:pt x="8682" y="5482"/>
                </a:cubicBezTo>
              </a:path>
              <a:path w="5334" h="2382">
                <a:moveTo>
                  <a:pt x="8384" y="5085"/>
                </a:moveTo>
                <a:cubicBezTo>
                  <a:pt x="8582" y="5085"/>
                  <a:pt x="8781" y="5085"/>
                  <a:pt x="8979" y="5085"/>
                </a:cubicBezTo>
                <a:cubicBezTo>
                  <a:pt x="8922" y="5147"/>
                  <a:pt x="8767" y="5273"/>
                  <a:pt x="8905" y="5358"/>
                </a:cubicBezTo>
                <a:cubicBezTo>
                  <a:pt x="9025" y="5432"/>
                  <a:pt x="9199" y="5349"/>
                  <a:pt x="9203" y="5209"/>
                </a:cubicBezTo>
                <a:cubicBezTo>
                  <a:pt x="9205" y="5141"/>
                  <a:pt x="9163" y="5063"/>
                  <a:pt x="9128" y="5011"/>
                </a:cubicBezTo>
              </a:path>
              <a:path w="5334" h="2382">
                <a:moveTo>
                  <a:pt x="9426" y="5209"/>
                </a:moveTo>
                <a:cubicBezTo>
                  <a:pt x="9446" y="5088"/>
                  <a:pt x="9509" y="5032"/>
                  <a:pt x="9624" y="4986"/>
                </a:cubicBezTo>
                <a:cubicBezTo>
                  <a:pt x="9716" y="4963"/>
                  <a:pt x="9741" y="4957"/>
                  <a:pt x="9798" y="4936"/>
                </a:cubicBezTo>
              </a:path>
              <a:path w="5334" h="2382">
                <a:moveTo>
                  <a:pt x="7863" y="6524"/>
                </a:moveTo>
                <a:cubicBezTo>
                  <a:pt x="7928" y="6571"/>
                  <a:pt x="8061" y="6554"/>
                  <a:pt x="8136" y="6548"/>
                </a:cubicBezTo>
                <a:cubicBezTo>
                  <a:pt x="8251" y="6538"/>
                  <a:pt x="8520" y="6536"/>
                  <a:pt x="8607" y="6449"/>
                </a:cubicBezTo>
                <a:cubicBezTo>
                  <a:pt x="8607" y="6424"/>
                  <a:pt x="8607" y="6416"/>
                  <a:pt x="8632" y="6424"/>
                </a:cubicBezTo>
                <a:cubicBezTo>
                  <a:pt x="8614" y="6637"/>
                  <a:pt x="8559" y="6821"/>
                  <a:pt x="8483" y="7020"/>
                </a:cubicBezTo>
                <a:cubicBezTo>
                  <a:pt x="8455" y="7093"/>
                  <a:pt x="8444" y="7160"/>
                  <a:pt x="8409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4200" y="1990800"/>
            <a:ext cx="749520" cy="768240"/>
          </a:xfrm>
          <a:custGeom>
            <a:avLst/>
            <a:gdLst/>
            <a:ahLst/>
            <a:rect l="l" t="t" r="r" b="b"/>
            <a:pathLst>
              <a:path w="2085" h="2135">
                <a:moveTo>
                  <a:pt x="15354" y="7466"/>
                </a:moveTo>
                <a:cubicBezTo>
                  <a:pt x="15378" y="7418"/>
                  <a:pt x="15517" y="7357"/>
                  <a:pt x="15577" y="7342"/>
                </a:cubicBezTo>
                <a:cubicBezTo>
                  <a:pt x="15602" y="7342"/>
                  <a:pt x="15627" y="7342"/>
                  <a:pt x="15652" y="7342"/>
                </a:cubicBezTo>
              </a:path>
              <a:path w="2085" h="2135">
                <a:moveTo>
                  <a:pt x="15404" y="7665"/>
                </a:moveTo>
                <a:cubicBezTo>
                  <a:pt x="15536" y="7638"/>
                  <a:pt x="15585" y="7629"/>
                  <a:pt x="15677" y="7615"/>
                </a:cubicBezTo>
              </a:path>
              <a:path w="2085" h="2135">
                <a:moveTo>
                  <a:pt x="13816" y="6524"/>
                </a:moveTo>
                <a:cubicBezTo>
                  <a:pt x="13896" y="6643"/>
                  <a:pt x="13968" y="6769"/>
                  <a:pt x="14114" y="6821"/>
                </a:cubicBezTo>
                <a:cubicBezTo>
                  <a:pt x="14302" y="6887"/>
                  <a:pt x="14522" y="6898"/>
                  <a:pt x="14684" y="6772"/>
                </a:cubicBezTo>
                <a:cubicBezTo>
                  <a:pt x="14858" y="6637"/>
                  <a:pt x="14948" y="6516"/>
                  <a:pt x="14957" y="6300"/>
                </a:cubicBezTo>
                <a:cubicBezTo>
                  <a:pt x="14966" y="6076"/>
                  <a:pt x="14878" y="5898"/>
                  <a:pt x="14734" y="5730"/>
                </a:cubicBezTo>
                <a:cubicBezTo>
                  <a:pt x="14640" y="5620"/>
                  <a:pt x="14442" y="5502"/>
                  <a:pt x="14288" y="5531"/>
                </a:cubicBezTo>
                <a:cubicBezTo>
                  <a:pt x="14088" y="5569"/>
                  <a:pt x="13894" y="5709"/>
                  <a:pt x="13767" y="5854"/>
                </a:cubicBezTo>
                <a:cubicBezTo>
                  <a:pt x="13618" y="6025"/>
                  <a:pt x="13622" y="6235"/>
                  <a:pt x="13618" y="6449"/>
                </a:cubicBezTo>
                <a:cubicBezTo>
                  <a:pt x="13614" y="6665"/>
                  <a:pt x="13677" y="6811"/>
                  <a:pt x="13915" y="6846"/>
                </a:cubicBezTo>
                <a:cubicBezTo>
                  <a:pt x="14106" y="6874"/>
                  <a:pt x="14462" y="6853"/>
                  <a:pt x="14635" y="6747"/>
                </a:cubicBezTo>
                <a:cubicBezTo>
                  <a:pt x="14705" y="6704"/>
                  <a:pt x="14814" y="6606"/>
                  <a:pt x="14833" y="6524"/>
                </a:cubicBezTo>
                <a:cubicBezTo>
                  <a:pt x="14852" y="6441"/>
                  <a:pt x="14797" y="6411"/>
                  <a:pt x="14784" y="6350"/>
                </a:cubicBezTo>
                <a:cubicBezTo>
                  <a:pt x="14765" y="6264"/>
                  <a:pt x="14798" y="6187"/>
                  <a:pt x="14759" y="6102"/>
                </a:cubicBezTo>
                <a:cubicBezTo>
                  <a:pt x="14703" y="5979"/>
                  <a:pt x="14629" y="5876"/>
                  <a:pt x="14536" y="5779"/>
                </a:cubicBezTo>
                <a:cubicBezTo>
                  <a:pt x="14441" y="5681"/>
                  <a:pt x="14351" y="5614"/>
                  <a:pt x="14213" y="5606"/>
                </a:cubicBezTo>
                <a:cubicBezTo>
                  <a:pt x="14056" y="5597"/>
                  <a:pt x="13918" y="5691"/>
                  <a:pt x="13816" y="5804"/>
                </a:cubicBezTo>
                <a:cubicBezTo>
                  <a:pt x="13672" y="5963"/>
                  <a:pt x="13649" y="6199"/>
                  <a:pt x="13618" y="6400"/>
                </a:cubicBezTo>
                <a:cubicBezTo>
                  <a:pt x="13589" y="6589"/>
                  <a:pt x="13573" y="6757"/>
                  <a:pt x="13767" y="6846"/>
                </a:cubicBezTo>
                <a:cubicBezTo>
                  <a:pt x="13984" y="6945"/>
                  <a:pt x="14189" y="6872"/>
                  <a:pt x="14412" y="6846"/>
                </a:cubicBezTo>
                <a:cubicBezTo>
                  <a:pt x="14453" y="6846"/>
                  <a:pt x="14461" y="6846"/>
                  <a:pt x="14486" y="684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1920" y="2295360"/>
            <a:ext cx="517320" cy="606600"/>
          </a:xfrm>
          <a:custGeom>
            <a:avLst/>
            <a:gdLst/>
            <a:ahLst/>
            <a:rect l="l" t="t" r="r" b="b"/>
            <a:pathLst>
              <a:path w="1439" h="1688">
                <a:moveTo>
                  <a:pt x="16421" y="6449"/>
                </a:moveTo>
                <a:cubicBezTo>
                  <a:pt x="16509" y="6594"/>
                  <a:pt x="16456" y="6727"/>
                  <a:pt x="16470" y="6896"/>
                </a:cubicBezTo>
                <a:cubicBezTo>
                  <a:pt x="16499" y="7238"/>
                  <a:pt x="16564" y="7569"/>
                  <a:pt x="16570" y="7913"/>
                </a:cubicBezTo>
                <a:cubicBezTo>
                  <a:pt x="16571" y="7971"/>
                  <a:pt x="16570" y="7979"/>
                  <a:pt x="16570" y="8037"/>
                </a:cubicBezTo>
              </a:path>
              <a:path w="1439" h="1688">
                <a:moveTo>
                  <a:pt x="17289" y="6524"/>
                </a:moveTo>
                <a:cubicBezTo>
                  <a:pt x="17304" y="6462"/>
                  <a:pt x="17356" y="6432"/>
                  <a:pt x="17413" y="6400"/>
                </a:cubicBezTo>
                <a:cubicBezTo>
                  <a:pt x="17429" y="6392"/>
                  <a:pt x="17446" y="6383"/>
                  <a:pt x="17462" y="6375"/>
                </a:cubicBezTo>
                <a:cubicBezTo>
                  <a:pt x="17478" y="6499"/>
                  <a:pt x="17366" y="6648"/>
                  <a:pt x="17264" y="6747"/>
                </a:cubicBezTo>
                <a:cubicBezTo>
                  <a:pt x="17205" y="6804"/>
                  <a:pt x="17127" y="6834"/>
                  <a:pt x="17090" y="6896"/>
                </a:cubicBezTo>
                <a:cubicBezTo>
                  <a:pt x="17212" y="6876"/>
                  <a:pt x="17318" y="6796"/>
                  <a:pt x="17438" y="6772"/>
                </a:cubicBezTo>
                <a:cubicBezTo>
                  <a:pt x="17515" y="6757"/>
                  <a:pt x="17606" y="6747"/>
                  <a:pt x="17686" y="6747"/>
                </a:cubicBezTo>
              </a:path>
              <a:path w="1439" h="1688">
                <a:moveTo>
                  <a:pt x="17165" y="7169"/>
                </a:moveTo>
                <a:cubicBezTo>
                  <a:pt x="17314" y="7169"/>
                  <a:pt x="17418" y="7130"/>
                  <a:pt x="17562" y="7094"/>
                </a:cubicBezTo>
                <a:cubicBezTo>
                  <a:pt x="17640" y="7074"/>
                  <a:pt x="17729" y="7045"/>
                  <a:pt x="17810" y="7045"/>
                </a:cubicBezTo>
              </a:path>
              <a:path w="1439" h="1688">
                <a:moveTo>
                  <a:pt x="17661" y="7441"/>
                </a:moveTo>
                <a:cubicBezTo>
                  <a:pt x="17615" y="7441"/>
                  <a:pt x="17407" y="7405"/>
                  <a:pt x="17388" y="7466"/>
                </a:cubicBezTo>
                <a:cubicBezTo>
                  <a:pt x="17361" y="7554"/>
                  <a:pt x="17338" y="7643"/>
                  <a:pt x="17338" y="7739"/>
                </a:cubicBezTo>
                <a:cubicBezTo>
                  <a:pt x="17338" y="7747"/>
                  <a:pt x="17338" y="7756"/>
                  <a:pt x="17338" y="7764"/>
                </a:cubicBezTo>
                <a:cubicBezTo>
                  <a:pt x="17439" y="7739"/>
                  <a:pt x="17517" y="7657"/>
                  <a:pt x="17636" y="7640"/>
                </a:cubicBezTo>
                <a:cubicBezTo>
                  <a:pt x="17726" y="7628"/>
                  <a:pt x="17781" y="7655"/>
                  <a:pt x="17859" y="7689"/>
                </a:cubicBezTo>
                <a:cubicBezTo>
                  <a:pt x="17829" y="7870"/>
                  <a:pt x="17720" y="7952"/>
                  <a:pt x="17537" y="8012"/>
                </a:cubicBezTo>
                <a:cubicBezTo>
                  <a:pt x="17439" y="8044"/>
                  <a:pt x="17339" y="8037"/>
                  <a:pt x="17239" y="803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2027160"/>
            <a:ext cx="884520" cy="285840"/>
          </a:xfrm>
          <a:custGeom>
            <a:avLst/>
            <a:gdLst/>
            <a:ahLst/>
            <a:rect l="l" t="t" r="r" b="b"/>
            <a:pathLst>
              <a:path w="2457" h="794">
                <a:moveTo>
                  <a:pt x="3870" y="5779"/>
                </a:moveTo>
                <a:cubicBezTo>
                  <a:pt x="3857" y="5743"/>
                  <a:pt x="3843" y="5732"/>
                  <a:pt x="3795" y="5705"/>
                </a:cubicBezTo>
                <a:cubicBezTo>
                  <a:pt x="3707" y="5655"/>
                  <a:pt x="3592" y="5773"/>
                  <a:pt x="3522" y="5829"/>
                </a:cubicBezTo>
                <a:cubicBezTo>
                  <a:pt x="3612" y="5877"/>
                  <a:pt x="3871" y="5923"/>
                  <a:pt x="3919" y="6003"/>
                </a:cubicBezTo>
                <a:cubicBezTo>
                  <a:pt x="3919" y="6019"/>
                  <a:pt x="3919" y="6036"/>
                  <a:pt x="3919" y="6052"/>
                </a:cubicBezTo>
                <a:cubicBezTo>
                  <a:pt x="3849" y="6074"/>
                  <a:pt x="3550" y="6159"/>
                  <a:pt x="3522" y="6028"/>
                </a:cubicBezTo>
                <a:cubicBezTo>
                  <a:pt x="3539" y="5987"/>
                  <a:pt x="3555" y="5945"/>
                  <a:pt x="3572" y="5904"/>
                </a:cubicBezTo>
              </a:path>
              <a:path w="2457" h="794">
                <a:moveTo>
                  <a:pt x="4242" y="5631"/>
                </a:moveTo>
                <a:cubicBezTo>
                  <a:pt x="4266" y="5787"/>
                  <a:pt x="4320" y="5959"/>
                  <a:pt x="4266" y="6102"/>
                </a:cubicBezTo>
              </a:path>
              <a:path w="2457" h="794">
                <a:moveTo>
                  <a:pt x="4068" y="5779"/>
                </a:moveTo>
                <a:cubicBezTo>
                  <a:pt x="4279" y="5844"/>
                  <a:pt x="4492" y="5829"/>
                  <a:pt x="4713" y="5829"/>
                </a:cubicBezTo>
                <a:cubicBezTo>
                  <a:pt x="4787" y="5829"/>
                  <a:pt x="4796" y="5829"/>
                  <a:pt x="4837" y="5829"/>
                </a:cubicBezTo>
                <a:cubicBezTo>
                  <a:pt x="4685" y="5829"/>
                  <a:pt x="4628" y="5849"/>
                  <a:pt x="4514" y="5953"/>
                </a:cubicBezTo>
                <a:cubicBezTo>
                  <a:pt x="4498" y="5970"/>
                  <a:pt x="4481" y="5986"/>
                  <a:pt x="4465" y="6003"/>
                </a:cubicBezTo>
                <a:cubicBezTo>
                  <a:pt x="4630" y="6045"/>
                  <a:pt x="4685" y="5992"/>
                  <a:pt x="4812" y="5879"/>
                </a:cubicBezTo>
                <a:cubicBezTo>
                  <a:pt x="4820" y="5871"/>
                  <a:pt x="4829" y="5862"/>
                  <a:pt x="4837" y="5854"/>
                </a:cubicBezTo>
                <a:cubicBezTo>
                  <a:pt x="4805" y="5938"/>
                  <a:pt x="4795" y="5988"/>
                  <a:pt x="4911" y="6003"/>
                </a:cubicBezTo>
                <a:cubicBezTo>
                  <a:pt x="5065" y="6024"/>
                  <a:pt x="5093" y="5929"/>
                  <a:pt x="5159" y="5829"/>
                </a:cubicBezTo>
                <a:cubicBezTo>
                  <a:pt x="5183" y="5923"/>
                  <a:pt x="5193" y="6049"/>
                  <a:pt x="5259" y="6127"/>
                </a:cubicBezTo>
                <a:cubicBezTo>
                  <a:pt x="5330" y="6174"/>
                  <a:pt x="5351" y="6191"/>
                  <a:pt x="5407" y="6152"/>
                </a:cubicBezTo>
              </a:path>
              <a:path w="2457" h="794">
                <a:moveTo>
                  <a:pt x="5457" y="5928"/>
                </a:moveTo>
                <a:cubicBezTo>
                  <a:pt x="5424" y="6098"/>
                  <a:pt x="5407" y="6252"/>
                  <a:pt x="5407" y="6424"/>
                </a:cubicBezTo>
              </a:path>
              <a:path w="2457" h="794">
                <a:moveTo>
                  <a:pt x="5680" y="5705"/>
                </a:moveTo>
                <a:cubicBezTo>
                  <a:pt x="5633" y="5752"/>
                  <a:pt x="5583" y="5801"/>
                  <a:pt x="5556" y="5854"/>
                </a:cubicBezTo>
                <a:cubicBezTo>
                  <a:pt x="5670" y="5945"/>
                  <a:pt x="5881" y="5958"/>
                  <a:pt x="5978" y="6102"/>
                </a:cubicBezTo>
                <a:cubicBezTo>
                  <a:pt x="6067" y="6234"/>
                  <a:pt x="5758" y="6176"/>
                  <a:pt x="5755" y="617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33760" y="2768760"/>
            <a:ext cx="777600" cy="339480"/>
          </a:xfrm>
          <a:custGeom>
            <a:avLst/>
            <a:gdLst/>
            <a:ahLst/>
            <a:rect l="l" t="t" r="r" b="b"/>
            <a:pathLst>
              <a:path w="2159" h="944">
                <a:moveTo>
                  <a:pt x="7317" y="7689"/>
                </a:moveTo>
                <a:cubicBezTo>
                  <a:pt x="7523" y="7689"/>
                  <a:pt x="7710" y="7735"/>
                  <a:pt x="7913" y="7764"/>
                </a:cubicBezTo>
                <a:cubicBezTo>
                  <a:pt x="8373" y="7830"/>
                  <a:pt x="8838" y="7886"/>
                  <a:pt x="9302" y="7913"/>
                </a:cubicBezTo>
                <a:cubicBezTo>
                  <a:pt x="9358" y="7916"/>
                  <a:pt x="9418" y="7913"/>
                  <a:pt x="9475" y="7913"/>
                </a:cubicBezTo>
              </a:path>
              <a:path w="2159" h="944">
                <a:moveTo>
                  <a:pt x="8458" y="8037"/>
                </a:moveTo>
                <a:cubicBezTo>
                  <a:pt x="8396" y="8035"/>
                  <a:pt x="8119" y="7966"/>
                  <a:pt x="8062" y="7987"/>
                </a:cubicBezTo>
                <a:cubicBezTo>
                  <a:pt x="7961" y="8024"/>
                  <a:pt x="7966" y="8189"/>
                  <a:pt x="7938" y="8260"/>
                </a:cubicBezTo>
                <a:cubicBezTo>
                  <a:pt x="7930" y="8268"/>
                  <a:pt x="7921" y="8277"/>
                  <a:pt x="7913" y="8285"/>
                </a:cubicBezTo>
                <a:cubicBezTo>
                  <a:pt x="8015" y="8285"/>
                  <a:pt x="8108" y="8263"/>
                  <a:pt x="8210" y="8260"/>
                </a:cubicBezTo>
                <a:cubicBezTo>
                  <a:pt x="8334" y="8257"/>
                  <a:pt x="8583" y="8296"/>
                  <a:pt x="8558" y="8483"/>
                </a:cubicBezTo>
                <a:cubicBezTo>
                  <a:pt x="8530" y="8689"/>
                  <a:pt x="8249" y="8645"/>
                  <a:pt x="8111" y="8632"/>
                </a:cubicBezTo>
                <a:cubicBezTo>
                  <a:pt x="8033" y="8625"/>
                  <a:pt x="7963" y="8595"/>
                  <a:pt x="7888" y="858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09840" y="3143160"/>
            <a:ext cx="411120" cy="88920"/>
          </a:xfrm>
          <a:custGeom>
            <a:avLst/>
            <a:gdLst/>
            <a:ahLst/>
            <a:rect l="l" t="t" r="r" b="b"/>
            <a:pathLst>
              <a:path w="1142" h="249">
                <a:moveTo>
                  <a:pt x="4192" y="8731"/>
                </a:moveTo>
                <a:cubicBezTo>
                  <a:pt x="4223" y="8741"/>
                  <a:pt x="4233" y="8773"/>
                  <a:pt x="4266" y="8806"/>
                </a:cubicBezTo>
                <a:cubicBezTo>
                  <a:pt x="4312" y="8852"/>
                  <a:pt x="4357" y="8874"/>
                  <a:pt x="4415" y="8905"/>
                </a:cubicBezTo>
                <a:cubicBezTo>
                  <a:pt x="4476" y="8938"/>
                  <a:pt x="4548" y="8968"/>
                  <a:pt x="4614" y="8979"/>
                </a:cubicBezTo>
                <a:cubicBezTo>
                  <a:pt x="4739" y="9000"/>
                  <a:pt x="4927" y="8991"/>
                  <a:pt x="5035" y="8954"/>
                </a:cubicBezTo>
                <a:cubicBezTo>
                  <a:pt x="5085" y="8937"/>
                  <a:pt x="5106" y="8965"/>
                  <a:pt x="5159" y="8930"/>
                </a:cubicBezTo>
                <a:cubicBezTo>
                  <a:pt x="5190" y="8910"/>
                  <a:pt x="5211" y="8909"/>
                  <a:pt x="5234" y="8880"/>
                </a:cubicBezTo>
                <a:cubicBezTo>
                  <a:pt x="5257" y="8851"/>
                  <a:pt x="5298" y="8816"/>
                  <a:pt x="5333" y="8781"/>
                </a:cubicBezTo>
                <a:cubicBezTo>
                  <a:pt x="5292" y="8808"/>
                  <a:pt x="5277" y="8841"/>
                  <a:pt x="5234" y="8855"/>
                </a:cubicBezTo>
                <a:cubicBezTo>
                  <a:pt x="5194" y="8855"/>
                  <a:pt x="5175" y="8866"/>
                  <a:pt x="5159" y="89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51120"/>
            <a:ext cx="133200" cy="1238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6524" y="7714"/>
                </a:moveTo>
                <a:cubicBezTo>
                  <a:pt x="6511" y="7675"/>
                  <a:pt x="6512" y="7704"/>
                  <a:pt x="6499" y="7665"/>
                </a:cubicBezTo>
                <a:cubicBezTo>
                  <a:pt x="6554" y="7665"/>
                  <a:pt x="6748" y="7630"/>
                  <a:pt x="6772" y="7640"/>
                </a:cubicBezTo>
                <a:cubicBezTo>
                  <a:pt x="6772" y="7681"/>
                  <a:pt x="6772" y="7706"/>
                  <a:pt x="6772" y="7739"/>
                </a:cubicBezTo>
              </a:path>
              <a:path w="373" h="348">
                <a:moveTo>
                  <a:pt x="6598" y="7987"/>
                </a:moveTo>
                <a:cubicBezTo>
                  <a:pt x="6687" y="7987"/>
                  <a:pt x="6763" y="7980"/>
                  <a:pt x="6846" y="7962"/>
                </a:cubicBezTo>
                <a:cubicBezTo>
                  <a:pt x="6854" y="7962"/>
                  <a:pt x="6863" y="7962"/>
                  <a:pt x="6871" y="79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8880" y="3660840"/>
            <a:ext cx="1857240" cy="1930320"/>
          </a:xfrm>
          <a:custGeom>
            <a:avLst/>
            <a:gdLst/>
            <a:ahLst/>
            <a:rect l="l" t="t" r="r" b="b"/>
            <a:pathLst>
              <a:path w="5161" h="5359">
                <a:moveTo>
                  <a:pt x="4043" y="12129"/>
                </a:moveTo>
                <a:cubicBezTo>
                  <a:pt x="4087" y="12118"/>
                  <a:pt x="4049" y="12116"/>
                  <a:pt x="4093" y="12105"/>
                </a:cubicBezTo>
                <a:cubicBezTo>
                  <a:pt x="4137" y="12148"/>
                  <a:pt x="4191" y="12198"/>
                  <a:pt x="4242" y="12229"/>
                </a:cubicBezTo>
                <a:cubicBezTo>
                  <a:pt x="4377" y="12310"/>
                  <a:pt x="4467" y="12315"/>
                  <a:pt x="4614" y="12353"/>
                </a:cubicBezTo>
                <a:cubicBezTo>
                  <a:pt x="4729" y="12383"/>
                  <a:pt x="4866" y="12395"/>
                  <a:pt x="4986" y="12378"/>
                </a:cubicBezTo>
                <a:cubicBezTo>
                  <a:pt x="5077" y="12365"/>
                  <a:pt x="5204" y="12328"/>
                  <a:pt x="5283" y="12278"/>
                </a:cubicBezTo>
                <a:cubicBezTo>
                  <a:pt x="5324" y="12252"/>
                  <a:pt x="5345" y="12223"/>
                  <a:pt x="5383" y="12204"/>
                </a:cubicBezTo>
              </a:path>
              <a:path w="5161" h="5359">
                <a:moveTo>
                  <a:pt x="2381" y="11708"/>
                </a:moveTo>
                <a:cubicBezTo>
                  <a:pt x="2406" y="11708"/>
                  <a:pt x="2414" y="11708"/>
                  <a:pt x="2406" y="11683"/>
                </a:cubicBezTo>
                <a:cubicBezTo>
                  <a:pt x="2406" y="11802"/>
                  <a:pt x="2411" y="11938"/>
                  <a:pt x="2431" y="12055"/>
                </a:cubicBezTo>
                <a:cubicBezTo>
                  <a:pt x="2439" y="12080"/>
                  <a:pt x="2448" y="12104"/>
                  <a:pt x="2456" y="12129"/>
                </a:cubicBezTo>
              </a:path>
              <a:path w="5161" h="5359">
                <a:moveTo>
                  <a:pt x="2629" y="11757"/>
                </a:moveTo>
                <a:cubicBezTo>
                  <a:pt x="2606" y="11780"/>
                  <a:pt x="2598" y="11784"/>
                  <a:pt x="2604" y="11807"/>
                </a:cubicBezTo>
                <a:cubicBezTo>
                  <a:pt x="2661" y="11883"/>
                  <a:pt x="2750" y="11822"/>
                  <a:pt x="2828" y="11881"/>
                </a:cubicBezTo>
                <a:cubicBezTo>
                  <a:pt x="2895" y="11932"/>
                  <a:pt x="2836" y="12053"/>
                  <a:pt x="2778" y="12080"/>
                </a:cubicBezTo>
                <a:cubicBezTo>
                  <a:pt x="2715" y="12080"/>
                  <a:pt x="2688" y="12072"/>
                  <a:pt x="2654" y="12030"/>
                </a:cubicBezTo>
              </a:path>
              <a:path w="5161" h="5359">
                <a:moveTo>
                  <a:pt x="2654" y="11708"/>
                </a:moveTo>
                <a:cubicBezTo>
                  <a:pt x="2720" y="11671"/>
                  <a:pt x="2779" y="11623"/>
                  <a:pt x="2853" y="11609"/>
                </a:cubicBezTo>
              </a:path>
              <a:path w="5161" h="5359">
                <a:moveTo>
                  <a:pt x="3497" y="11038"/>
                </a:moveTo>
                <a:cubicBezTo>
                  <a:pt x="3554" y="11066"/>
                  <a:pt x="3608" y="11163"/>
                  <a:pt x="3621" y="11237"/>
                </a:cubicBezTo>
                <a:cubicBezTo>
                  <a:pt x="3621" y="11295"/>
                  <a:pt x="3621" y="11303"/>
                  <a:pt x="3621" y="11336"/>
                </a:cubicBezTo>
              </a:path>
              <a:path w="5161" h="5359">
                <a:moveTo>
                  <a:pt x="3597" y="10964"/>
                </a:moveTo>
                <a:cubicBezTo>
                  <a:pt x="3576" y="11086"/>
                  <a:pt x="3536" y="11211"/>
                  <a:pt x="3522" y="11336"/>
                </a:cubicBezTo>
                <a:cubicBezTo>
                  <a:pt x="3522" y="11402"/>
                  <a:pt x="3522" y="11419"/>
                  <a:pt x="3522" y="11460"/>
                </a:cubicBezTo>
              </a:path>
              <a:path w="5161" h="5359">
                <a:moveTo>
                  <a:pt x="3125" y="11212"/>
                </a:moveTo>
                <a:cubicBezTo>
                  <a:pt x="3125" y="11245"/>
                  <a:pt x="3125" y="11278"/>
                  <a:pt x="3125" y="11311"/>
                </a:cubicBezTo>
                <a:cubicBezTo>
                  <a:pt x="3197" y="11311"/>
                  <a:pt x="3215" y="11337"/>
                  <a:pt x="3274" y="11361"/>
                </a:cubicBezTo>
                <a:cubicBezTo>
                  <a:pt x="3332" y="11384"/>
                  <a:pt x="3298" y="11474"/>
                  <a:pt x="3249" y="11509"/>
                </a:cubicBezTo>
                <a:cubicBezTo>
                  <a:pt x="3200" y="11534"/>
                  <a:pt x="3184" y="11542"/>
                  <a:pt x="3175" y="11485"/>
                </a:cubicBezTo>
              </a:path>
              <a:path w="5161" h="5359">
                <a:moveTo>
                  <a:pt x="3175" y="11187"/>
                </a:moveTo>
                <a:cubicBezTo>
                  <a:pt x="3235" y="11154"/>
                  <a:pt x="3298" y="11125"/>
                  <a:pt x="3349" y="11088"/>
                </a:cubicBezTo>
              </a:path>
              <a:path w="5161" h="5359">
                <a:moveTo>
                  <a:pt x="3026" y="11063"/>
                </a:moveTo>
                <a:cubicBezTo>
                  <a:pt x="3040" y="11021"/>
                  <a:pt x="3123" y="11006"/>
                  <a:pt x="3175" y="10988"/>
                </a:cubicBezTo>
                <a:cubicBezTo>
                  <a:pt x="3264" y="10957"/>
                  <a:pt x="3368" y="10936"/>
                  <a:pt x="3448" y="10914"/>
                </a:cubicBezTo>
                <a:cubicBezTo>
                  <a:pt x="3456" y="10914"/>
                  <a:pt x="3465" y="10914"/>
                  <a:pt x="3473" y="10914"/>
                </a:cubicBezTo>
              </a:path>
              <a:path w="5161" h="5359">
                <a:moveTo>
                  <a:pt x="3225" y="10517"/>
                </a:moveTo>
                <a:cubicBezTo>
                  <a:pt x="3166" y="10524"/>
                  <a:pt x="3080" y="10516"/>
                  <a:pt x="3076" y="10592"/>
                </a:cubicBezTo>
                <a:cubicBezTo>
                  <a:pt x="3076" y="10650"/>
                  <a:pt x="3076" y="10658"/>
                  <a:pt x="3076" y="10691"/>
                </a:cubicBezTo>
                <a:cubicBezTo>
                  <a:pt x="3143" y="10691"/>
                  <a:pt x="3183" y="10651"/>
                  <a:pt x="3249" y="10641"/>
                </a:cubicBezTo>
                <a:cubicBezTo>
                  <a:pt x="3352" y="10625"/>
                  <a:pt x="3398" y="10645"/>
                  <a:pt x="3398" y="10740"/>
                </a:cubicBezTo>
                <a:cubicBezTo>
                  <a:pt x="3398" y="10823"/>
                  <a:pt x="3264" y="10853"/>
                  <a:pt x="3200" y="10864"/>
                </a:cubicBezTo>
                <a:cubicBezTo>
                  <a:pt x="3183" y="10864"/>
                  <a:pt x="3167" y="10864"/>
                  <a:pt x="3150" y="10864"/>
                </a:cubicBezTo>
              </a:path>
              <a:path w="5161" h="5359">
                <a:moveTo>
                  <a:pt x="2133" y="10964"/>
                </a:moveTo>
                <a:cubicBezTo>
                  <a:pt x="2133" y="10902"/>
                  <a:pt x="2123" y="10869"/>
                  <a:pt x="2108" y="10840"/>
                </a:cubicBezTo>
                <a:cubicBezTo>
                  <a:pt x="2108" y="10832"/>
                  <a:pt x="2108" y="10823"/>
                  <a:pt x="2108" y="10815"/>
                </a:cubicBezTo>
                <a:cubicBezTo>
                  <a:pt x="2124" y="10953"/>
                  <a:pt x="2140" y="11099"/>
                  <a:pt x="2158" y="11237"/>
                </a:cubicBezTo>
                <a:cubicBezTo>
                  <a:pt x="2166" y="11270"/>
                  <a:pt x="2175" y="11303"/>
                  <a:pt x="2183" y="11336"/>
                </a:cubicBezTo>
              </a:path>
              <a:path w="5161" h="5359">
                <a:moveTo>
                  <a:pt x="2480" y="10815"/>
                </a:moveTo>
                <a:cubicBezTo>
                  <a:pt x="2442" y="10920"/>
                  <a:pt x="2318" y="11140"/>
                  <a:pt x="2480" y="11212"/>
                </a:cubicBezTo>
                <a:cubicBezTo>
                  <a:pt x="2619" y="11274"/>
                  <a:pt x="2752" y="11137"/>
                  <a:pt x="2704" y="11013"/>
                </a:cubicBezTo>
                <a:cubicBezTo>
                  <a:pt x="2652" y="10936"/>
                  <a:pt x="2632" y="10912"/>
                  <a:pt x="2555" y="10939"/>
                </a:cubicBezTo>
              </a:path>
              <a:path w="5161" h="5359">
                <a:moveTo>
                  <a:pt x="2183" y="11584"/>
                </a:moveTo>
                <a:cubicBezTo>
                  <a:pt x="2386" y="11537"/>
                  <a:pt x="2607" y="11444"/>
                  <a:pt x="2803" y="11361"/>
                </a:cubicBezTo>
                <a:cubicBezTo>
                  <a:pt x="2836" y="11344"/>
                  <a:pt x="2869" y="11328"/>
                  <a:pt x="2902" y="11311"/>
                </a:cubicBezTo>
              </a:path>
              <a:path w="5161" h="5359">
                <a:moveTo>
                  <a:pt x="6697" y="11435"/>
                </a:moveTo>
                <a:cubicBezTo>
                  <a:pt x="6649" y="11514"/>
                  <a:pt x="6611" y="11633"/>
                  <a:pt x="6598" y="11733"/>
                </a:cubicBezTo>
                <a:cubicBezTo>
                  <a:pt x="6598" y="11815"/>
                  <a:pt x="6598" y="11832"/>
                  <a:pt x="6598" y="11881"/>
                </a:cubicBezTo>
              </a:path>
              <a:path w="5161" h="5359">
                <a:moveTo>
                  <a:pt x="6896" y="11410"/>
                </a:moveTo>
                <a:cubicBezTo>
                  <a:pt x="6896" y="11461"/>
                  <a:pt x="6888" y="11487"/>
                  <a:pt x="6921" y="11509"/>
                </a:cubicBezTo>
                <a:cubicBezTo>
                  <a:pt x="6964" y="11538"/>
                  <a:pt x="7092" y="11604"/>
                  <a:pt x="7045" y="11683"/>
                </a:cubicBezTo>
                <a:cubicBezTo>
                  <a:pt x="7010" y="11742"/>
                  <a:pt x="6751" y="11844"/>
                  <a:pt x="6722" y="11733"/>
                </a:cubicBezTo>
                <a:cubicBezTo>
                  <a:pt x="6730" y="11692"/>
                  <a:pt x="6739" y="11650"/>
                  <a:pt x="6747" y="11609"/>
                </a:cubicBezTo>
              </a:path>
              <a:path w="5161" h="5359">
                <a:moveTo>
                  <a:pt x="6921" y="11336"/>
                </a:moveTo>
                <a:cubicBezTo>
                  <a:pt x="6986" y="11294"/>
                  <a:pt x="7037" y="11262"/>
                  <a:pt x="7094" y="11212"/>
                </a:cubicBezTo>
              </a:path>
              <a:path w="5161" h="5359">
                <a:moveTo>
                  <a:pt x="6499" y="11038"/>
                </a:moveTo>
                <a:cubicBezTo>
                  <a:pt x="6659" y="10995"/>
                  <a:pt x="6830" y="10957"/>
                  <a:pt x="6995" y="10939"/>
                </a:cubicBezTo>
                <a:cubicBezTo>
                  <a:pt x="7020" y="10939"/>
                  <a:pt x="7044" y="10939"/>
                  <a:pt x="7069" y="10939"/>
                </a:cubicBezTo>
              </a:path>
              <a:path w="5161" h="5359">
                <a:moveTo>
                  <a:pt x="5705" y="10939"/>
                </a:moveTo>
                <a:cubicBezTo>
                  <a:pt x="5751" y="11007"/>
                  <a:pt x="5763" y="11090"/>
                  <a:pt x="5804" y="11162"/>
                </a:cubicBezTo>
                <a:cubicBezTo>
                  <a:pt x="5812" y="11170"/>
                  <a:pt x="5821" y="11179"/>
                  <a:pt x="5829" y="11187"/>
                </a:cubicBezTo>
              </a:path>
              <a:path w="5161" h="5359">
                <a:moveTo>
                  <a:pt x="5829" y="10964"/>
                </a:moveTo>
                <a:cubicBezTo>
                  <a:pt x="5799" y="11090"/>
                  <a:pt x="5771" y="11213"/>
                  <a:pt x="5730" y="11336"/>
                </a:cubicBezTo>
              </a:path>
              <a:path w="5161" h="5359">
                <a:moveTo>
                  <a:pt x="6028" y="11311"/>
                </a:moveTo>
                <a:cubicBezTo>
                  <a:pt x="5981" y="11288"/>
                  <a:pt x="6086" y="11253"/>
                  <a:pt x="6127" y="11237"/>
                </a:cubicBezTo>
                <a:cubicBezTo>
                  <a:pt x="6198" y="11213"/>
                  <a:pt x="6221" y="11203"/>
                  <a:pt x="6251" y="11261"/>
                </a:cubicBezTo>
                <a:cubicBezTo>
                  <a:pt x="6229" y="11390"/>
                  <a:pt x="6205" y="11391"/>
                  <a:pt x="6102" y="11460"/>
                </a:cubicBezTo>
                <a:cubicBezTo>
                  <a:pt x="6176" y="11427"/>
                  <a:pt x="6235" y="11378"/>
                  <a:pt x="6276" y="11460"/>
                </a:cubicBezTo>
                <a:cubicBezTo>
                  <a:pt x="6219" y="11564"/>
                  <a:pt x="6116" y="11666"/>
                  <a:pt x="5978" y="11584"/>
                </a:cubicBezTo>
                <a:cubicBezTo>
                  <a:pt x="5953" y="11559"/>
                  <a:pt x="5929" y="11534"/>
                  <a:pt x="5904" y="11509"/>
                </a:cubicBezTo>
              </a:path>
              <a:path w="5161" h="5359">
                <a:moveTo>
                  <a:pt x="6077" y="10988"/>
                </a:moveTo>
                <a:cubicBezTo>
                  <a:pt x="6141" y="10988"/>
                  <a:pt x="6188" y="10969"/>
                  <a:pt x="6251" y="10964"/>
                </a:cubicBezTo>
                <a:cubicBezTo>
                  <a:pt x="6259" y="10964"/>
                  <a:pt x="6268" y="10964"/>
                  <a:pt x="6276" y="10964"/>
                </a:cubicBezTo>
              </a:path>
              <a:path w="5161" h="5359">
                <a:moveTo>
                  <a:pt x="5978" y="10616"/>
                </a:moveTo>
                <a:cubicBezTo>
                  <a:pt x="6006" y="10547"/>
                  <a:pt x="6076" y="10495"/>
                  <a:pt x="6152" y="10468"/>
                </a:cubicBezTo>
                <a:cubicBezTo>
                  <a:pt x="6160" y="10468"/>
                  <a:pt x="6168" y="10468"/>
                  <a:pt x="6176" y="10468"/>
                </a:cubicBezTo>
                <a:cubicBezTo>
                  <a:pt x="6198" y="10522"/>
                  <a:pt x="6167" y="10603"/>
                  <a:pt x="6127" y="10666"/>
                </a:cubicBezTo>
                <a:cubicBezTo>
                  <a:pt x="6119" y="10674"/>
                  <a:pt x="6110" y="10683"/>
                  <a:pt x="6102" y="10691"/>
                </a:cubicBezTo>
                <a:cubicBezTo>
                  <a:pt x="6156" y="10678"/>
                  <a:pt x="6172" y="10648"/>
                  <a:pt x="6226" y="10691"/>
                </a:cubicBezTo>
                <a:cubicBezTo>
                  <a:pt x="6234" y="10699"/>
                  <a:pt x="6243" y="10708"/>
                  <a:pt x="6251" y="10716"/>
                </a:cubicBezTo>
                <a:cubicBezTo>
                  <a:pt x="6184" y="10783"/>
                  <a:pt x="6142" y="10850"/>
                  <a:pt x="6052" y="10864"/>
                </a:cubicBezTo>
                <a:cubicBezTo>
                  <a:pt x="6044" y="10864"/>
                  <a:pt x="6036" y="10864"/>
                  <a:pt x="6028" y="10864"/>
                </a:cubicBezTo>
              </a:path>
              <a:path w="5161" h="5359">
                <a:moveTo>
                  <a:pt x="6623" y="10195"/>
                </a:moveTo>
                <a:cubicBezTo>
                  <a:pt x="6646" y="10187"/>
                  <a:pt x="6670" y="10142"/>
                  <a:pt x="6672" y="10195"/>
                </a:cubicBezTo>
                <a:cubicBezTo>
                  <a:pt x="6676" y="10339"/>
                  <a:pt x="6625" y="10560"/>
                  <a:pt x="6697" y="10691"/>
                </a:cubicBezTo>
                <a:cubicBezTo>
                  <a:pt x="6765" y="10815"/>
                  <a:pt x="6959" y="10750"/>
                  <a:pt x="7045" y="10691"/>
                </a:cubicBezTo>
                <a:cubicBezTo>
                  <a:pt x="7101" y="10652"/>
                  <a:pt x="7318" y="10460"/>
                  <a:pt x="7268" y="10368"/>
                </a:cubicBezTo>
                <a:cubicBezTo>
                  <a:pt x="7251" y="10360"/>
                  <a:pt x="7235" y="10352"/>
                  <a:pt x="7218" y="10344"/>
                </a:cubicBezTo>
                <a:cubicBezTo>
                  <a:pt x="7027" y="10359"/>
                  <a:pt x="6973" y="10448"/>
                  <a:pt x="6945" y="10641"/>
                </a:cubicBezTo>
                <a:cubicBezTo>
                  <a:pt x="6909" y="10886"/>
                  <a:pt x="6956" y="10859"/>
                  <a:pt x="7119" y="10716"/>
                </a:cubicBezTo>
              </a:path>
              <a:path w="5161" h="5359">
                <a:moveTo>
                  <a:pt x="6325" y="15106"/>
                </a:moveTo>
                <a:cubicBezTo>
                  <a:pt x="6357" y="15200"/>
                  <a:pt x="6378" y="15316"/>
                  <a:pt x="6424" y="15404"/>
                </a:cubicBezTo>
                <a:cubicBezTo>
                  <a:pt x="6432" y="15412"/>
                  <a:pt x="6441" y="15421"/>
                  <a:pt x="6449" y="15429"/>
                </a:cubicBezTo>
              </a:path>
              <a:path w="5161" h="5359">
                <a:moveTo>
                  <a:pt x="6400" y="15081"/>
                </a:moveTo>
                <a:cubicBezTo>
                  <a:pt x="6361" y="15228"/>
                  <a:pt x="6335" y="15401"/>
                  <a:pt x="6251" y="15528"/>
                </a:cubicBezTo>
              </a:path>
              <a:path w="5161" h="5359">
                <a:moveTo>
                  <a:pt x="6796" y="15205"/>
                </a:moveTo>
                <a:cubicBezTo>
                  <a:pt x="6825" y="15132"/>
                  <a:pt x="6846" y="15131"/>
                  <a:pt x="6921" y="15131"/>
                </a:cubicBezTo>
                <a:cubicBezTo>
                  <a:pt x="6870" y="15240"/>
                  <a:pt x="6791" y="15373"/>
                  <a:pt x="6697" y="15453"/>
                </a:cubicBezTo>
                <a:cubicBezTo>
                  <a:pt x="6689" y="15453"/>
                  <a:pt x="6680" y="15453"/>
                  <a:pt x="6672" y="15453"/>
                </a:cubicBezTo>
                <a:cubicBezTo>
                  <a:pt x="6777" y="15453"/>
                  <a:pt x="6846" y="15437"/>
                  <a:pt x="6945" y="1540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0720" y="3554280"/>
            <a:ext cx="1482480" cy="812880"/>
          </a:xfrm>
          <a:custGeom>
            <a:avLst/>
            <a:gdLst/>
            <a:ahLst/>
            <a:rect l="l" t="t" r="r" b="b"/>
            <a:pathLst>
              <a:path w="4119" h="2258">
                <a:moveTo>
                  <a:pt x="9624" y="10046"/>
                </a:moveTo>
                <a:cubicBezTo>
                  <a:pt x="9604" y="10244"/>
                  <a:pt x="9579" y="10444"/>
                  <a:pt x="9550" y="10641"/>
                </a:cubicBezTo>
                <a:cubicBezTo>
                  <a:pt x="9542" y="10693"/>
                  <a:pt x="9471" y="10895"/>
                  <a:pt x="9550" y="10790"/>
                </a:cubicBezTo>
              </a:path>
              <a:path w="4119" h="2258">
                <a:moveTo>
                  <a:pt x="9823" y="10120"/>
                </a:moveTo>
                <a:cubicBezTo>
                  <a:pt x="9720" y="10353"/>
                  <a:pt x="9668" y="10495"/>
                  <a:pt x="9723" y="10740"/>
                </a:cubicBezTo>
                <a:cubicBezTo>
                  <a:pt x="9964" y="10752"/>
                  <a:pt x="10179" y="10684"/>
                  <a:pt x="10269" y="10418"/>
                </a:cubicBezTo>
                <a:cubicBezTo>
                  <a:pt x="10367" y="10128"/>
                  <a:pt x="10050" y="10158"/>
                  <a:pt x="9897" y="10195"/>
                </a:cubicBezTo>
              </a:path>
              <a:path w="4119" h="2258">
                <a:moveTo>
                  <a:pt x="9252" y="11187"/>
                </a:moveTo>
                <a:cubicBezTo>
                  <a:pt x="9541" y="11095"/>
                  <a:pt x="9827" y="11033"/>
                  <a:pt x="10120" y="10964"/>
                </a:cubicBezTo>
                <a:cubicBezTo>
                  <a:pt x="10178" y="10945"/>
                  <a:pt x="10221" y="10936"/>
                  <a:pt x="10170" y="10939"/>
                </a:cubicBezTo>
              </a:path>
              <a:path w="4119" h="2258">
                <a:moveTo>
                  <a:pt x="9550" y="11485"/>
                </a:moveTo>
                <a:cubicBezTo>
                  <a:pt x="9550" y="11661"/>
                  <a:pt x="9557" y="11831"/>
                  <a:pt x="9525" y="12005"/>
                </a:cubicBezTo>
                <a:cubicBezTo>
                  <a:pt x="9506" y="12079"/>
                  <a:pt x="9498" y="12086"/>
                  <a:pt x="9500" y="12129"/>
                </a:cubicBezTo>
              </a:path>
              <a:path w="4119" h="2258">
                <a:moveTo>
                  <a:pt x="9897" y="11485"/>
                </a:moveTo>
                <a:cubicBezTo>
                  <a:pt x="9833" y="11536"/>
                  <a:pt x="9836" y="11575"/>
                  <a:pt x="9823" y="11658"/>
                </a:cubicBezTo>
                <a:cubicBezTo>
                  <a:pt x="9924" y="11748"/>
                  <a:pt x="10091" y="11749"/>
                  <a:pt x="10220" y="11832"/>
                </a:cubicBezTo>
                <a:cubicBezTo>
                  <a:pt x="10236" y="11848"/>
                  <a:pt x="10253" y="11865"/>
                  <a:pt x="10269" y="11881"/>
                </a:cubicBezTo>
                <a:cubicBezTo>
                  <a:pt x="10137" y="12045"/>
                  <a:pt x="10073" y="12024"/>
                  <a:pt x="9872" y="11981"/>
                </a:cubicBezTo>
              </a:path>
              <a:path w="4119" h="2258">
                <a:moveTo>
                  <a:pt x="9922" y="11435"/>
                </a:moveTo>
                <a:cubicBezTo>
                  <a:pt x="10091" y="11378"/>
                  <a:pt x="10263" y="11353"/>
                  <a:pt x="10443" y="11336"/>
                </a:cubicBezTo>
              </a:path>
              <a:path w="4119" h="2258">
                <a:moveTo>
                  <a:pt x="10964" y="10889"/>
                </a:moveTo>
                <a:cubicBezTo>
                  <a:pt x="11011" y="11033"/>
                  <a:pt x="11029" y="11187"/>
                  <a:pt x="11063" y="11336"/>
                </a:cubicBezTo>
                <a:cubicBezTo>
                  <a:pt x="11071" y="11369"/>
                  <a:pt x="11080" y="11402"/>
                  <a:pt x="11088" y="11435"/>
                </a:cubicBezTo>
              </a:path>
              <a:path w="4119" h="2258">
                <a:moveTo>
                  <a:pt x="10815" y="11212"/>
                </a:moveTo>
                <a:cubicBezTo>
                  <a:pt x="10956" y="11161"/>
                  <a:pt x="11092" y="11125"/>
                  <a:pt x="11237" y="11088"/>
                </a:cubicBezTo>
              </a:path>
              <a:path w="4119" h="2258">
                <a:moveTo>
                  <a:pt x="11708" y="9947"/>
                </a:moveTo>
                <a:cubicBezTo>
                  <a:pt x="11708" y="9905"/>
                  <a:pt x="11708" y="9897"/>
                  <a:pt x="11708" y="9872"/>
                </a:cubicBezTo>
                <a:cubicBezTo>
                  <a:pt x="11708" y="9991"/>
                  <a:pt x="11644" y="10098"/>
                  <a:pt x="11633" y="10220"/>
                </a:cubicBezTo>
                <a:cubicBezTo>
                  <a:pt x="11624" y="10320"/>
                  <a:pt x="11622" y="10557"/>
                  <a:pt x="11757" y="10592"/>
                </a:cubicBezTo>
                <a:cubicBezTo>
                  <a:pt x="11946" y="10641"/>
                  <a:pt x="12105" y="10479"/>
                  <a:pt x="12204" y="10344"/>
                </a:cubicBezTo>
                <a:cubicBezTo>
                  <a:pt x="12212" y="10327"/>
                  <a:pt x="12221" y="10311"/>
                  <a:pt x="12229" y="10294"/>
                </a:cubicBezTo>
                <a:cubicBezTo>
                  <a:pt x="12131" y="10235"/>
                  <a:pt x="12041" y="10300"/>
                  <a:pt x="11956" y="10368"/>
                </a:cubicBezTo>
                <a:cubicBezTo>
                  <a:pt x="11863" y="10443"/>
                  <a:pt x="11846" y="10491"/>
                  <a:pt x="11857" y="10592"/>
                </a:cubicBezTo>
              </a:path>
              <a:path w="4119" h="2258">
                <a:moveTo>
                  <a:pt x="11683" y="10740"/>
                </a:moveTo>
                <a:cubicBezTo>
                  <a:pt x="11850" y="10773"/>
                  <a:pt x="12077" y="10712"/>
                  <a:pt x="12254" y="10691"/>
                </a:cubicBezTo>
                <a:cubicBezTo>
                  <a:pt x="12388" y="10675"/>
                  <a:pt x="12517" y="10651"/>
                  <a:pt x="12650" y="10641"/>
                </a:cubicBezTo>
              </a:path>
              <a:path w="4119" h="2258">
                <a:moveTo>
                  <a:pt x="11584" y="11112"/>
                </a:moveTo>
                <a:cubicBezTo>
                  <a:pt x="11584" y="11024"/>
                  <a:pt x="11560" y="11502"/>
                  <a:pt x="11559" y="11509"/>
                </a:cubicBezTo>
                <a:cubicBezTo>
                  <a:pt x="11558" y="11521"/>
                  <a:pt x="11509" y="11857"/>
                  <a:pt x="11509" y="11807"/>
                </a:cubicBezTo>
              </a:path>
              <a:path w="4119" h="2258">
                <a:moveTo>
                  <a:pt x="12055" y="11187"/>
                </a:moveTo>
                <a:cubicBezTo>
                  <a:pt x="12011" y="11236"/>
                  <a:pt x="11973" y="11286"/>
                  <a:pt x="11931" y="11336"/>
                </a:cubicBezTo>
                <a:cubicBezTo>
                  <a:pt x="12027" y="11431"/>
                  <a:pt x="12190" y="11416"/>
                  <a:pt x="12303" y="11509"/>
                </a:cubicBezTo>
                <a:cubicBezTo>
                  <a:pt x="12454" y="11633"/>
                  <a:pt x="12186" y="11786"/>
                  <a:pt x="12080" y="11782"/>
                </a:cubicBezTo>
                <a:cubicBezTo>
                  <a:pt x="12030" y="11766"/>
                  <a:pt x="11981" y="11749"/>
                  <a:pt x="11931" y="11733"/>
                </a:cubicBezTo>
              </a:path>
              <a:path w="4119" h="2258">
                <a:moveTo>
                  <a:pt x="11981" y="11237"/>
                </a:moveTo>
                <a:cubicBezTo>
                  <a:pt x="12127" y="11180"/>
                  <a:pt x="12274" y="11124"/>
                  <a:pt x="12427" y="11088"/>
                </a:cubicBezTo>
                <a:cubicBezTo>
                  <a:pt x="12477" y="11080"/>
                  <a:pt x="12526" y="11071"/>
                  <a:pt x="12576" y="11063"/>
                </a:cubicBezTo>
              </a:path>
              <a:path w="4119" h="2258">
                <a:moveTo>
                  <a:pt x="13146" y="10889"/>
                </a:moveTo>
                <a:cubicBezTo>
                  <a:pt x="13222" y="10884"/>
                  <a:pt x="13273" y="10876"/>
                  <a:pt x="13345" y="10864"/>
                </a:cubicBezTo>
              </a:path>
              <a:path w="4119" h="2258">
                <a:moveTo>
                  <a:pt x="13146" y="11137"/>
                </a:moveTo>
                <a:cubicBezTo>
                  <a:pt x="13265" y="11113"/>
                  <a:pt x="13302" y="11107"/>
                  <a:pt x="13370" y="11063"/>
                </a:cubicBezTo>
              </a:path>
              <a:path w="4119" h="2258">
                <a:moveTo>
                  <a:pt x="10195" y="10691"/>
                </a:moveTo>
                <a:cubicBezTo>
                  <a:pt x="10195" y="10699"/>
                  <a:pt x="10195" y="10708"/>
                  <a:pt x="10195" y="10716"/>
                </a:cubicBezTo>
              </a:path>
              <a:path w="4119" h="2258">
                <a:moveTo>
                  <a:pt x="11286" y="11435"/>
                </a:moveTo>
                <a:cubicBezTo>
                  <a:pt x="11294" y="11427"/>
                  <a:pt x="11303" y="11418"/>
                  <a:pt x="11311" y="11410"/>
                </a:cubicBezTo>
              </a:path>
              <a:path w="4119" h="2258">
                <a:moveTo>
                  <a:pt x="11857" y="10319"/>
                </a:moveTo>
                <a:lnTo>
                  <a:pt x="11857" y="10319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99040" y="3303720"/>
            <a:ext cx="2017800" cy="1411200"/>
          </a:xfrm>
          <a:custGeom>
            <a:avLst/>
            <a:gdLst/>
            <a:ahLst/>
            <a:rect l="l" t="t" r="r" b="b"/>
            <a:pathLst>
              <a:path w="5607" h="3920">
                <a:moveTo>
                  <a:pt x="14188" y="10071"/>
                </a:moveTo>
                <a:cubicBezTo>
                  <a:pt x="14173" y="10161"/>
                  <a:pt x="14270" y="10376"/>
                  <a:pt x="14312" y="10492"/>
                </a:cubicBezTo>
                <a:cubicBezTo>
                  <a:pt x="14357" y="10616"/>
                  <a:pt x="14351" y="10667"/>
                  <a:pt x="14412" y="10592"/>
                </a:cubicBezTo>
              </a:path>
              <a:path w="5607" h="3920">
                <a:moveTo>
                  <a:pt x="14635" y="9996"/>
                </a:moveTo>
                <a:cubicBezTo>
                  <a:pt x="14654" y="10144"/>
                  <a:pt x="14679" y="10297"/>
                  <a:pt x="14709" y="10443"/>
                </a:cubicBezTo>
                <a:cubicBezTo>
                  <a:pt x="14746" y="10625"/>
                  <a:pt x="14871" y="10667"/>
                  <a:pt x="15032" y="10567"/>
                </a:cubicBezTo>
                <a:cubicBezTo>
                  <a:pt x="15144" y="10497"/>
                  <a:pt x="15158" y="10429"/>
                  <a:pt x="15180" y="10319"/>
                </a:cubicBezTo>
                <a:cubicBezTo>
                  <a:pt x="15027" y="10267"/>
                  <a:pt x="14943" y="10358"/>
                  <a:pt x="14858" y="10517"/>
                </a:cubicBezTo>
                <a:cubicBezTo>
                  <a:pt x="14803" y="10619"/>
                  <a:pt x="14808" y="10682"/>
                  <a:pt x="14808" y="10790"/>
                </a:cubicBezTo>
              </a:path>
              <a:path w="5607" h="3920">
                <a:moveTo>
                  <a:pt x="14312" y="11038"/>
                </a:moveTo>
                <a:cubicBezTo>
                  <a:pt x="14578" y="10952"/>
                  <a:pt x="14837" y="10845"/>
                  <a:pt x="15106" y="10765"/>
                </a:cubicBezTo>
                <a:cubicBezTo>
                  <a:pt x="15212" y="10733"/>
                  <a:pt x="15241" y="10714"/>
                  <a:pt x="15255" y="10815"/>
                </a:cubicBezTo>
              </a:path>
              <a:path w="5607" h="3920">
                <a:moveTo>
                  <a:pt x="14387" y="11460"/>
                </a:moveTo>
                <a:cubicBezTo>
                  <a:pt x="14387" y="11586"/>
                  <a:pt x="14328" y="11999"/>
                  <a:pt x="14412" y="12055"/>
                </a:cubicBezTo>
              </a:path>
              <a:path w="5607" h="3920">
                <a:moveTo>
                  <a:pt x="15032" y="11162"/>
                </a:moveTo>
                <a:cubicBezTo>
                  <a:pt x="14965" y="11190"/>
                  <a:pt x="14765" y="11265"/>
                  <a:pt x="14734" y="11336"/>
                </a:cubicBezTo>
                <a:cubicBezTo>
                  <a:pt x="14696" y="11424"/>
                  <a:pt x="14755" y="11569"/>
                  <a:pt x="14759" y="11658"/>
                </a:cubicBezTo>
                <a:cubicBezTo>
                  <a:pt x="14759" y="11675"/>
                  <a:pt x="14759" y="11691"/>
                  <a:pt x="14759" y="11708"/>
                </a:cubicBezTo>
                <a:cubicBezTo>
                  <a:pt x="14876" y="11629"/>
                  <a:pt x="14951" y="11526"/>
                  <a:pt x="15106" y="11534"/>
                </a:cubicBezTo>
                <a:cubicBezTo>
                  <a:pt x="15139" y="11542"/>
                  <a:pt x="15172" y="11551"/>
                  <a:pt x="15205" y="11559"/>
                </a:cubicBezTo>
                <a:cubicBezTo>
                  <a:pt x="15227" y="11703"/>
                  <a:pt x="15210" y="11855"/>
                  <a:pt x="15056" y="11931"/>
                </a:cubicBezTo>
                <a:cubicBezTo>
                  <a:pt x="14910" y="12003"/>
                  <a:pt x="14739" y="12032"/>
                  <a:pt x="14610" y="11956"/>
                </a:cubicBezTo>
              </a:path>
              <a:path w="5607" h="3920">
                <a:moveTo>
                  <a:pt x="15701" y="10740"/>
                </a:moveTo>
                <a:cubicBezTo>
                  <a:pt x="15789" y="10672"/>
                  <a:pt x="15860" y="10645"/>
                  <a:pt x="15974" y="10641"/>
                </a:cubicBezTo>
                <a:cubicBezTo>
                  <a:pt x="16036" y="10641"/>
                  <a:pt x="16051" y="10631"/>
                  <a:pt x="16073" y="10666"/>
                </a:cubicBezTo>
              </a:path>
              <a:path w="5607" h="3920">
                <a:moveTo>
                  <a:pt x="15974" y="11013"/>
                </a:moveTo>
                <a:cubicBezTo>
                  <a:pt x="16073" y="10988"/>
                  <a:pt x="16106" y="10980"/>
                  <a:pt x="16173" y="10964"/>
                </a:cubicBezTo>
              </a:path>
              <a:path w="5607" h="3920">
                <a:moveTo>
                  <a:pt x="18008" y="10592"/>
                </a:moveTo>
                <a:cubicBezTo>
                  <a:pt x="17971" y="10446"/>
                  <a:pt x="17983" y="10712"/>
                  <a:pt x="17983" y="10716"/>
                </a:cubicBezTo>
                <a:cubicBezTo>
                  <a:pt x="17974" y="10836"/>
                  <a:pt x="17838" y="11332"/>
                  <a:pt x="17909" y="11435"/>
                </a:cubicBezTo>
                <a:cubicBezTo>
                  <a:pt x="17917" y="11418"/>
                  <a:pt x="17926" y="11402"/>
                  <a:pt x="17934" y="11385"/>
                </a:cubicBezTo>
              </a:path>
              <a:path w="5607" h="3920">
                <a:moveTo>
                  <a:pt x="18306" y="10666"/>
                </a:moveTo>
                <a:cubicBezTo>
                  <a:pt x="18318" y="10845"/>
                  <a:pt x="18295" y="11064"/>
                  <a:pt x="18331" y="11237"/>
                </a:cubicBezTo>
                <a:cubicBezTo>
                  <a:pt x="18376" y="11456"/>
                  <a:pt x="18575" y="11386"/>
                  <a:pt x="18678" y="11261"/>
                </a:cubicBezTo>
                <a:cubicBezTo>
                  <a:pt x="18764" y="11156"/>
                  <a:pt x="18724" y="11109"/>
                  <a:pt x="18653" y="11038"/>
                </a:cubicBezTo>
                <a:cubicBezTo>
                  <a:pt x="18549" y="11167"/>
                  <a:pt x="18484" y="11294"/>
                  <a:pt x="18455" y="11460"/>
                </a:cubicBezTo>
                <a:cubicBezTo>
                  <a:pt x="18455" y="11476"/>
                  <a:pt x="18455" y="11493"/>
                  <a:pt x="18455" y="11509"/>
                </a:cubicBezTo>
              </a:path>
              <a:path w="5607" h="3920">
                <a:moveTo>
                  <a:pt x="17686" y="11683"/>
                </a:moveTo>
                <a:cubicBezTo>
                  <a:pt x="17686" y="11524"/>
                  <a:pt x="17692" y="11370"/>
                  <a:pt x="17661" y="11212"/>
                </a:cubicBezTo>
                <a:cubicBezTo>
                  <a:pt x="17621" y="11005"/>
                  <a:pt x="17545" y="10828"/>
                  <a:pt x="17537" y="10616"/>
                </a:cubicBezTo>
                <a:cubicBezTo>
                  <a:pt x="17535" y="10549"/>
                  <a:pt x="17664" y="10480"/>
                  <a:pt x="17735" y="10468"/>
                </a:cubicBezTo>
                <a:cubicBezTo>
                  <a:pt x="17952" y="10430"/>
                  <a:pt x="18185" y="10405"/>
                  <a:pt x="18405" y="10368"/>
                </a:cubicBezTo>
                <a:cubicBezTo>
                  <a:pt x="18597" y="10335"/>
                  <a:pt x="18829" y="10289"/>
                  <a:pt x="19025" y="10319"/>
                </a:cubicBezTo>
                <a:cubicBezTo>
                  <a:pt x="19067" y="10325"/>
                  <a:pt x="19060" y="10331"/>
                  <a:pt x="19100" y="10344"/>
                </a:cubicBezTo>
              </a:path>
              <a:path w="5607" h="3920">
                <a:moveTo>
                  <a:pt x="16644" y="10840"/>
                </a:moveTo>
                <a:cubicBezTo>
                  <a:pt x="16644" y="11015"/>
                  <a:pt x="16685" y="11185"/>
                  <a:pt x="16694" y="11361"/>
                </a:cubicBezTo>
                <a:cubicBezTo>
                  <a:pt x="16694" y="11368"/>
                  <a:pt x="16657" y="11732"/>
                  <a:pt x="16718" y="11609"/>
                </a:cubicBezTo>
              </a:path>
              <a:path w="5607" h="3920">
                <a:moveTo>
                  <a:pt x="17066" y="10716"/>
                </a:moveTo>
                <a:cubicBezTo>
                  <a:pt x="17037" y="10745"/>
                  <a:pt x="16969" y="10787"/>
                  <a:pt x="16966" y="10815"/>
                </a:cubicBezTo>
                <a:cubicBezTo>
                  <a:pt x="16951" y="10933"/>
                  <a:pt x="16971" y="11048"/>
                  <a:pt x="16991" y="11162"/>
                </a:cubicBezTo>
                <a:cubicBezTo>
                  <a:pt x="17051" y="11096"/>
                  <a:pt x="17125" y="10948"/>
                  <a:pt x="17239" y="10988"/>
                </a:cubicBezTo>
                <a:cubicBezTo>
                  <a:pt x="17376" y="11036"/>
                  <a:pt x="17415" y="11215"/>
                  <a:pt x="17363" y="11336"/>
                </a:cubicBezTo>
                <a:cubicBezTo>
                  <a:pt x="17290" y="11504"/>
                  <a:pt x="17097" y="11541"/>
                  <a:pt x="16942" y="11559"/>
                </a:cubicBezTo>
              </a:path>
              <a:path w="5607" h="3920">
                <a:moveTo>
                  <a:pt x="17041" y="10889"/>
                </a:moveTo>
                <a:cubicBezTo>
                  <a:pt x="17033" y="10881"/>
                  <a:pt x="17024" y="10872"/>
                  <a:pt x="17016" y="10864"/>
                </a:cubicBezTo>
                <a:cubicBezTo>
                  <a:pt x="17056" y="10851"/>
                  <a:pt x="17097" y="10820"/>
                  <a:pt x="17165" y="10815"/>
                </a:cubicBezTo>
                <a:cubicBezTo>
                  <a:pt x="17193" y="10815"/>
                  <a:pt x="17204" y="10813"/>
                  <a:pt x="17214" y="10790"/>
                </a:cubicBezTo>
              </a:path>
              <a:path w="5607" h="3920">
                <a:moveTo>
                  <a:pt x="18008" y="9203"/>
                </a:moveTo>
                <a:cubicBezTo>
                  <a:pt x="17923" y="9175"/>
                  <a:pt x="18035" y="9301"/>
                  <a:pt x="18058" y="9401"/>
                </a:cubicBezTo>
                <a:cubicBezTo>
                  <a:pt x="18089" y="9539"/>
                  <a:pt x="18058" y="9799"/>
                  <a:pt x="18132" y="9922"/>
                </a:cubicBezTo>
                <a:cubicBezTo>
                  <a:pt x="18140" y="9922"/>
                  <a:pt x="18149" y="9922"/>
                  <a:pt x="18157" y="9922"/>
                </a:cubicBezTo>
              </a:path>
              <a:path w="5607" h="3920">
                <a:moveTo>
                  <a:pt x="18008" y="11683"/>
                </a:moveTo>
                <a:cubicBezTo>
                  <a:pt x="17992" y="11621"/>
                  <a:pt x="17992" y="11642"/>
                  <a:pt x="18008" y="11609"/>
                </a:cubicBezTo>
                <a:cubicBezTo>
                  <a:pt x="18008" y="11584"/>
                  <a:pt x="18008" y="11576"/>
                  <a:pt x="18008" y="11559"/>
                </a:cubicBezTo>
                <a:cubicBezTo>
                  <a:pt x="18036" y="11696"/>
                  <a:pt x="18078" y="11808"/>
                  <a:pt x="18083" y="11956"/>
                </a:cubicBezTo>
                <a:cubicBezTo>
                  <a:pt x="18083" y="11972"/>
                  <a:pt x="18083" y="11989"/>
                  <a:pt x="18083" y="12005"/>
                </a:cubicBezTo>
              </a:path>
              <a:path w="5607" h="3920">
                <a:moveTo>
                  <a:pt x="18802" y="11311"/>
                </a:moveTo>
                <a:cubicBezTo>
                  <a:pt x="18783" y="11385"/>
                  <a:pt x="18697" y="11387"/>
                  <a:pt x="18628" y="11410"/>
                </a:cubicBezTo>
                <a:cubicBezTo>
                  <a:pt x="18573" y="11428"/>
                  <a:pt x="18518" y="11444"/>
                  <a:pt x="18504" y="11485"/>
                </a:cubicBezTo>
                <a:cubicBezTo>
                  <a:pt x="18473" y="11578"/>
                  <a:pt x="18460" y="11669"/>
                  <a:pt x="18479" y="11757"/>
                </a:cubicBezTo>
                <a:cubicBezTo>
                  <a:pt x="18571" y="11707"/>
                  <a:pt x="18692" y="11570"/>
                  <a:pt x="18802" y="11584"/>
                </a:cubicBezTo>
                <a:cubicBezTo>
                  <a:pt x="18959" y="11604"/>
                  <a:pt x="18937" y="11769"/>
                  <a:pt x="18876" y="11857"/>
                </a:cubicBezTo>
                <a:cubicBezTo>
                  <a:pt x="18778" y="11998"/>
                  <a:pt x="18574" y="11956"/>
                  <a:pt x="18430" y="11956"/>
                </a:cubicBezTo>
              </a:path>
              <a:path w="5607" h="3920">
                <a:moveTo>
                  <a:pt x="17835" y="12080"/>
                </a:moveTo>
                <a:cubicBezTo>
                  <a:pt x="17884" y="12072"/>
                  <a:pt x="17934" y="12063"/>
                  <a:pt x="17983" y="12055"/>
                </a:cubicBezTo>
              </a:path>
              <a:path w="5607" h="3920">
                <a:moveTo>
                  <a:pt x="17909" y="12502"/>
                </a:moveTo>
                <a:cubicBezTo>
                  <a:pt x="18241" y="12400"/>
                  <a:pt x="18559" y="12277"/>
                  <a:pt x="18901" y="12204"/>
                </a:cubicBezTo>
                <a:cubicBezTo>
                  <a:pt x="18987" y="12186"/>
                  <a:pt x="19081" y="12156"/>
                  <a:pt x="19149" y="12179"/>
                </a:cubicBezTo>
              </a:path>
              <a:path w="5607" h="3920">
                <a:moveTo>
                  <a:pt x="18951" y="12477"/>
                </a:moveTo>
                <a:cubicBezTo>
                  <a:pt x="18951" y="12423"/>
                  <a:pt x="18952" y="12768"/>
                  <a:pt x="18951" y="12774"/>
                </a:cubicBezTo>
                <a:cubicBezTo>
                  <a:pt x="18946" y="12833"/>
                  <a:pt x="18878" y="13096"/>
                  <a:pt x="18951" y="13072"/>
                </a:cubicBezTo>
              </a:path>
              <a:path w="5607" h="3920">
                <a:moveTo>
                  <a:pt x="19273" y="10418"/>
                </a:moveTo>
                <a:cubicBezTo>
                  <a:pt x="19398" y="10418"/>
                  <a:pt x="19498" y="10381"/>
                  <a:pt x="19621" y="10368"/>
                </a:cubicBezTo>
                <a:cubicBezTo>
                  <a:pt x="19654" y="10368"/>
                  <a:pt x="19687" y="10368"/>
                  <a:pt x="19720" y="10368"/>
                </a:cubicBezTo>
              </a:path>
              <a:path w="5607" h="3920">
                <a:moveTo>
                  <a:pt x="19472" y="10641"/>
                </a:moveTo>
                <a:cubicBezTo>
                  <a:pt x="19572" y="10599"/>
                  <a:pt x="19669" y="10556"/>
                  <a:pt x="19769" y="1051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3760" y="3357720"/>
            <a:ext cx="54000" cy="750600"/>
          </a:xfrm>
          <a:custGeom>
            <a:avLst/>
            <a:gdLst/>
            <a:ahLst/>
            <a:rect l="l" t="t" r="r" b="b"/>
            <a:pathLst>
              <a:path w="150" h="2084">
                <a:moveTo>
                  <a:pt x="20315" y="9327"/>
                </a:moveTo>
                <a:cubicBezTo>
                  <a:pt x="20340" y="9649"/>
                  <a:pt x="20386" y="9972"/>
                  <a:pt x="20414" y="10294"/>
                </a:cubicBezTo>
                <a:cubicBezTo>
                  <a:pt x="20444" y="10642"/>
                  <a:pt x="20439" y="10988"/>
                  <a:pt x="20439" y="11336"/>
                </a:cubicBezTo>
                <a:cubicBezTo>
                  <a:pt x="20439" y="11401"/>
                  <a:pt x="20450" y="11430"/>
                  <a:pt x="20464" y="1136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32080"/>
            <a:ext cx="285840" cy="741600"/>
          </a:xfrm>
          <a:custGeom>
            <a:avLst/>
            <a:gdLst/>
            <a:ahLst/>
            <a:rect l="l" t="t" r="r" b="b"/>
            <a:pathLst>
              <a:path w="794" h="2060">
                <a:moveTo>
                  <a:pt x="21332" y="9004"/>
                </a:moveTo>
                <a:cubicBezTo>
                  <a:pt x="21332" y="8954"/>
                  <a:pt x="21380" y="9289"/>
                  <a:pt x="21382" y="9302"/>
                </a:cubicBezTo>
                <a:cubicBezTo>
                  <a:pt x="21400" y="9427"/>
                  <a:pt x="21408" y="9492"/>
                  <a:pt x="21456" y="9599"/>
                </a:cubicBezTo>
              </a:path>
              <a:path w="794" h="2060">
                <a:moveTo>
                  <a:pt x="21134" y="9798"/>
                </a:moveTo>
                <a:cubicBezTo>
                  <a:pt x="21360" y="9739"/>
                  <a:pt x="21577" y="9627"/>
                  <a:pt x="21803" y="9575"/>
                </a:cubicBezTo>
                <a:cubicBezTo>
                  <a:pt x="21917" y="9549"/>
                  <a:pt x="21879" y="9613"/>
                  <a:pt x="21853" y="9674"/>
                </a:cubicBezTo>
              </a:path>
              <a:path w="794" h="2060">
                <a:moveTo>
                  <a:pt x="21258" y="10418"/>
                </a:moveTo>
                <a:cubicBezTo>
                  <a:pt x="21258" y="10561"/>
                  <a:pt x="21242" y="10698"/>
                  <a:pt x="21233" y="10840"/>
                </a:cubicBezTo>
                <a:cubicBezTo>
                  <a:pt x="21233" y="10939"/>
                  <a:pt x="21233" y="10955"/>
                  <a:pt x="21233" y="11013"/>
                </a:cubicBezTo>
              </a:path>
              <a:path w="794" h="2060">
                <a:moveTo>
                  <a:pt x="21803" y="10294"/>
                </a:moveTo>
                <a:cubicBezTo>
                  <a:pt x="21723" y="10347"/>
                  <a:pt x="21653" y="10409"/>
                  <a:pt x="21555" y="10418"/>
                </a:cubicBezTo>
                <a:cubicBezTo>
                  <a:pt x="21499" y="10423"/>
                  <a:pt x="21508" y="10542"/>
                  <a:pt x="21506" y="10592"/>
                </a:cubicBezTo>
                <a:cubicBezTo>
                  <a:pt x="21506" y="10666"/>
                  <a:pt x="21506" y="10675"/>
                  <a:pt x="21506" y="10716"/>
                </a:cubicBezTo>
                <a:cubicBezTo>
                  <a:pt x="21619" y="10659"/>
                  <a:pt x="21721" y="10599"/>
                  <a:pt x="21853" y="10616"/>
                </a:cubicBezTo>
                <a:cubicBezTo>
                  <a:pt x="21878" y="10624"/>
                  <a:pt x="21902" y="10633"/>
                  <a:pt x="21927" y="10641"/>
                </a:cubicBezTo>
                <a:cubicBezTo>
                  <a:pt x="21913" y="10789"/>
                  <a:pt x="21883" y="10877"/>
                  <a:pt x="21754" y="10964"/>
                </a:cubicBezTo>
                <a:cubicBezTo>
                  <a:pt x="21645" y="11037"/>
                  <a:pt x="21537" y="11059"/>
                  <a:pt x="21431" y="109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6640" y="4741920"/>
            <a:ext cx="696600" cy="857160"/>
          </a:xfrm>
          <a:custGeom>
            <a:avLst/>
            <a:gdLst/>
            <a:ahLst/>
            <a:rect l="l" t="t" r="r" b="b"/>
            <a:pathLst>
              <a:path w="1936" h="2383">
                <a:moveTo>
                  <a:pt x="6995" y="14461"/>
                </a:moveTo>
                <a:cubicBezTo>
                  <a:pt x="7062" y="14472"/>
                  <a:pt x="7126" y="14500"/>
                  <a:pt x="7193" y="14511"/>
                </a:cubicBezTo>
              </a:path>
              <a:path w="1936" h="2383">
                <a:moveTo>
                  <a:pt x="7144" y="14560"/>
                </a:moveTo>
                <a:cubicBezTo>
                  <a:pt x="7121" y="14538"/>
                  <a:pt x="7113" y="14533"/>
                  <a:pt x="7119" y="14511"/>
                </a:cubicBezTo>
                <a:cubicBezTo>
                  <a:pt x="7125" y="14494"/>
                  <a:pt x="7216" y="14441"/>
                  <a:pt x="7243" y="14436"/>
                </a:cubicBezTo>
                <a:cubicBezTo>
                  <a:pt x="7563" y="14381"/>
                  <a:pt x="7934" y="14436"/>
                  <a:pt x="8260" y="14436"/>
                </a:cubicBezTo>
              </a:path>
              <a:path w="1936" h="2383">
                <a:moveTo>
                  <a:pt x="7739" y="14883"/>
                </a:moveTo>
                <a:cubicBezTo>
                  <a:pt x="7775" y="14823"/>
                  <a:pt x="7771" y="14753"/>
                  <a:pt x="7665" y="14784"/>
                </a:cubicBezTo>
                <a:cubicBezTo>
                  <a:pt x="7480" y="14839"/>
                  <a:pt x="7382" y="15002"/>
                  <a:pt x="7293" y="15156"/>
                </a:cubicBezTo>
                <a:cubicBezTo>
                  <a:pt x="7436" y="15261"/>
                  <a:pt x="7597" y="15299"/>
                  <a:pt x="7739" y="15404"/>
                </a:cubicBezTo>
                <a:cubicBezTo>
                  <a:pt x="7690" y="15492"/>
                  <a:pt x="7585" y="15637"/>
                  <a:pt x="7466" y="15528"/>
                </a:cubicBezTo>
                <a:cubicBezTo>
                  <a:pt x="7327" y="15400"/>
                  <a:pt x="7530" y="15086"/>
                  <a:pt x="7590" y="14957"/>
                </a:cubicBezTo>
                <a:cubicBezTo>
                  <a:pt x="7621" y="14890"/>
                  <a:pt x="7614" y="14920"/>
                  <a:pt x="7565" y="14883"/>
                </a:cubicBezTo>
              </a:path>
              <a:path w="1936" h="2383">
                <a:moveTo>
                  <a:pt x="6325" y="14560"/>
                </a:moveTo>
                <a:cubicBezTo>
                  <a:pt x="6419" y="14560"/>
                  <a:pt x="6506" y="14541"/>
                  <a:pt x="6598" y="14536"/>
                </a:cubicBezTo>
                <a:cubicBezTo>
                  <a:pt x="6722" y="14529"/>
                  <a:pt x="6827" y="14541"/>
                  <a:pt x="6945" y="14560"/>
                </a:cubicBezTo>
              </a:path>
              <a:path w="1936" h="2383">
                <a:moveTo>
                  <a:pt x="6796" y="14089"/>
                </a:moveTo>
                <a:cubicBezTo>
                  <a:pt x="6798" y="14043"/>
                  <a:pt x="6827" y="14054"/>
                  <a:pt x="6871" y="14039"/>
                </a:cubicBezTo>
                <a:cubicBezTo>
                  <a:pt x="6895" y="14158"/>
                  <a:pt x="6852" y="14299"/>
                  <a:pt x="6747" y="14387"/>
                </a:cubicBezTo>
                <a:cubicBezTo>
                  <a:pt x="6664" y="14428"/>
                  <a:pt x="6648" y="14436"/>
                  <a:pt x="6598" y="14461"/>
                </a:cubicBezTo>
                <a:cubicBezTo>
                  <a:pt x="6598" y="14423"/>
                  <a:pt x="6585" y="14349"/>
                  <a:pt x="6648" y="14362"/>
                </a:cubicBezTo>
                <a:cubicBezTo>
                  <a:pt x="6732" y="14380"/>
                  <a:pt x="6725" y="14421"/>
                  <a:pt x="6772" y="14436"/>
                </a:cubicBezTo>
              </a:path>
              <a:path w="1936" h="2383">
                <a:moveTo>
                  <a:pt x="7739" y="13221"/>
                </a:moveTo>
                <a:cubicBezTo>
                  <a:pt x="7696" y="13221"/>
                  <a:pt x="7701" y="13211"/>
                  <a:pt x="7689" y="13246"/>
                </a:cubicBezTo>
                <a:cubicBezTo>
                  <a:pt x="7757" y="13167"/>
                  <a:pt x="7863" y="13130"/>
                  <a:pt x="7913" y="13271"/>
                </a:cubicBezTo>
                <a:cubicBezTo>
                  <a:pt x="8007" y="13536"/>
                  <a:pt x="7801" y="13761"/>
                  <a:pt x="7615" y="13915"/>
                </a:cubicBezTo>
                <a:cubicBezTo>
                  <a:pt x="7590" y="13932"/>
                  <a:pt x="7566" y="13948"/>
                  <a:pt x="7541" y="13965"/>
                </a:cubicBezTo>
                <a:cubicBezTo>
                  <a:pt x="7483" y="13851"/>
                  <a:pt x="7534" y="13799"/>
                  <a:pt x="7615" y="13717"/>
                </a:cubicBezTo>
                <a:cubicBezTo>
                  <a:pt x="7700" y="13756"/>
                  <a:pt x="7771" y="13799"/>
                  <a:pt x="7813" y="13891"/>
                </a:cubicBezTo>
                <a:cubicBezTo>
                  <a:pt x="7813" y="13899"/>
                  <a:pt x="7813" y="13907"/>
                  <a:pt x="7813" y="1391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24200" y="4884840"/>
            <a:ext cx="446040" cy="839520"/>
          </a:xfrm>
          <a:custGeom>
            <a:avLst/>
            <a:gdLst/>
            <a:ahLst/>
            <a:rect l="l" t="t" r="r" b="b"/>
            <a:pathLst>
              <a:path w="1241" h="2333">
                <a:moveTo>
                  <a:pt x="10691" y="13717"/>
                </a:moveTo>
                <a:cubicBezTo>
                  <a:pt x="10644" y="13717"/>
                  <a:pt x="10625" y="13711"/>
                  <a:pt x="10691" y="13667"/>
                </a:cubicBezTo>
                <a:cubicBezTo>
                  <a:pt x="10814" y="13585"/>
                  <a:pt x="10846" y="13582"/>
                  <a:pt x="10964" y="13618"/>
                </a:cubicBezTo>
                <a:cubicBezTo>
                  <a:pt x="10934" y="13768"/>
                  <a:pt x="10862" y="13951"/>
                  <a:pt x="10716" y="14039"/>
                </a:cubicBezTo>
                <a:cubicBezTo>
                  <a:pt x="10675" y="14039"/>
                  <a:pt x="10658" y="14048"/>
                  <a:pt x="10666" y="14015"/>
                </a:cubicBezTo>
                <a:cubicBezTo>
                  <a:pt x="10761" y="13943"/>
                  <a:pt x="10905" y="13878"/>
                  <a:pt x="10988" y="14039"/>
                </a:cubicBezTo>
                <a:cubicBezTo>
                  <a:pt x="11096" y="14248"/>
                  <a:pt x="10898" y="14391"/>
                  <a:pt x="10716" y="14436"/>
                </a:cubicBezTo>
                <a:cubicBezTo>
                  <a:pt x="10617" y="14461"/>
                  <a:pt x="10539" y="14313"/>
                  <a:pt x="10468" y="14387"/>
                </a:cubicBezTo>
              </a:path>
              <a:path w="1241" h="2333">
                <a:moveTo>
                  <a:pt x="10344" y="14784"/>
                </a:moveTo>
                <a:cubicBezTo>
                  <a:pt x="10596" y="14777"/>
                  <a:pt x="10945" y="14687"/>
                  <a:pt x="11187" y="14784"/>
                </a:cubicBezTo>
                <a:cubicBezTo>
                  <a:pt x="11217" y="14843"/>
                  <a:pt x="11219" y="14870"/>
                  <a:pt x="11162" y="14908"/>
                </a:cubicBezTo>
              </a:path>
              <a:path w="1241" h="2333">
                <a:moveTo>
                  <a:pt x="10790" y="15106"/>
                </a:moveTo>
                <a:cubicBezTo>
                  <a:pt x="10580" y="15192"/>
                  <a:pt x="10443" y="15228"/>
                  <a:pt x="10344" y="15429"/>
                </a:cubicBezTo>
                <a:cubicBezTo>
                  <a:pt x="10522" y="15517"/>
                  <a:pt x="10772" y="15529"/>
                  <a:pt x="10914" y="15677"/>
                </a:cubicBezTo>
                <a:cubicBezTo>
                  <a:pt x="11071" y="15840"/>
                  <a:pt x="10568" y="15875"/>
                  <a:pt x="10517" y="15875"/>
                </a:cubicBezTo>
                <a:cubicBezTo>
                  <a:pt x="10542" y="15622"/>
                  <a:pt x="10721" y="15485"/>
                  <a:pt x="10840" y="15255"/>
                </a:cubicBezTo>
                <a:cubicBezTo>
                  <a:pt x="10877" y="15184"/>
                  <a:pt x="10797" y="15205"/>
                  <a:pt x="10765" y="15205"/>
                </a:cubicBezTo>
              </a:path>
              <a:path w="1241" h="2333">
                <a:moveTo>
                  <a:pt x="11460" y="15032"/>
                </a:moveTo>
                <a:cubicBezTo>
                  <a:pt x="11483" y="14985"/>
                  <a:pt x="11527" y="14968"/>
                  <a:pt x="11584" y="1495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40200" y="4894200"/>
            <a:ext cx="1000080" cy="803160"/>
          </a:xfrm>
          <a:custGeom>
            <a:avLst/>
            <a:gdLst/>
            <a:ahLst/>
            <a:rect l="l" t="t" r="r" b="b"/>
            <a:pathLst>
              <a:path w="2779" h="2233">
                <a:moveTo>
                  <a:pt x="13444" y="14883"/>
                </a:moveTo>
                <a:cubicBezTo>
                  <a:pt x="13551" y="14840"/>
                  <a:pt x="13676" y="14799"/>
                  <a:pt x="13791" y="14784"/>
                </a:cubicBezTo>
                <a:cubicBezTo>
                  <a:pt x="13816" y="14784"/>
                  <a:pt x="13841" y="14784"/>
                  <a:pt x="13866" y="14784"/>
                </a:cubicBezTo>
              </a:path>
              <a:path w="2779" h="2233">
                <a:moveTo>
                  <a:pt x="13519" y="15106"/>
                </a:moveTo>
                <a:cubicBezTo>
                  <a:pt x="13651" y="15082"/>
                  <a:pt x="13779" y="15055"/>
                  <a:pt x="13915" y="15032"/>
                </a:cubicBezTo>
              </a:path>
              <a:path w="2779" h="2233">
                <a:moveTo>
                  <a:pt x="15007" y="13618"/>
                </a:moveTo>
                <a:cubicBezTo>
                  <a:pt x="15015" y="13610"/>
                  <a:pt x="15024" y="13601"/>
                  <a:pt x="15032" y="13593"/>
                </a:cubicBezTo>
                <a:cubicBezTo>
                  <a:pt x="15145" y="13684"/>
                  <a:pt x="15138" y="13894"/>
                  <a:pt x="15156" y="14039"/>
                </a:cubicBezTo>
                <a:cubicBezTo>
                  <a:pt x="15175" y="14186"/>
                  <a:pt x="15218" y="14340"/>
                  <a:pt x="15230" y="14486"/>
                </a:cubicBezTo>
                <a:cubicBezTo>
                  <a:pt x="15233" y="14524"/>
                  <a:pt x="15244" y="14511"/>
                  <a:pt x="15280" y="14511"/>
                </a:cubicBezTo>
              </a:path>
              <a:path w="2779" h="2233">
                <a:moveTo>
                  <a:pt x="14635" y="14908"/>
                </a:moveTo>
                <a:cubicBezTo>
                  <a:pt x="14832" y="14873"/>
                  <a:pt x="15031" y="14859"/>
                  <a:pt x="15230" y="14833"/>
                </a:cubicBezTo>
                <a:cubicBezTo>
                  <a:pt x="15544" y="14792"/>
                  <a:pt x="15857" y="14744"/>
                  <a:pt x="16173" y="14734"/>
                </a:cubicBezTo>
                <a:cubicBezTo>
                  <a:pt x="16235" y="14734"/>
                  <a:pt x="16241" y="14742"/>
                  <a:pt x="16148" y="14784"/>
                </a:cubicBezTo>
              </a:path>
              <a:path w="2779" h="2233">
                <a:moveTo>
                  <a:pt x="15751" y="15081"/>
                </a:moveTo>
                <a:cubicBezTo>
                  <a:pt x="15630" y="14989"/>
                  <a:pt x="15463" y="15097"/>
                  <a:pt x="15329" y="15156"/>
                </a:cubicBezTo>
                <a:cubicBezTo>
                  <a:pt x="15172" y="15224"/>
                  <a:pt x="15124" y="15245"/>
                  <a:pt x="15032" y="15379"/>
                </a:cubicBezTo>
                <a:cubicBezTo>
                  <a:pt x="15179" y="15497"/>
                  <a:pt x="15429" y="15517"/>
                  <a:pt x="15553" y="15677"/>
                </a:cubicBezTo>
                <a:cubicBezTo>
                  <a:pt x="15575" y="15744"/>
                  <a:pt x="15586" y="15762"/>
                  <a:pt x="15553" y="15801"/>
                </a:cubicBezTo>
                <a:cubicBezTo>
                  <a:pt x="15458" y="15818"/>
                  <a:pt x="15246" y="15878"/>
                  <a:pt x="15280" y="15701"/>
                </a:cubicBezTo>
                <a:cubicBezTo>
                  <a:pt x="15320" y="15490"/>
                  <a:pt x="15536" y="15407"/>
                  <a:pt x="15627" y="15230"/>
                </a:cubicBezTo>
                <a:cubicBezTo>
                  <a:pt x="15654" y="15178"/>
                  <a:pt x="15611" y="15157"/>
                  <a:pt x="15602" y="151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0800" y="4973760"/>
            <a:ext cx="312480" cy="750600"/>
          </a:xfrm>
          <a:custGeom>
            <a:avLst/>
            <a:gdLst/>
            <a:ahLst/>
            <a:rect l="l" t="t" r="r" b="b"/>
            <a:pathLst>
              <a:path w="869" h="2085">
                <a:moveTo>
                  <a:pt x="12204" y="13816"/>
                </a:moveTo>
                <a:cubicBezTo>
                  <a:pt x="12425" y="13838"/>
                  <a:pt x="12588" y="13900"/>
                  <a:pt x="12601" y="14163"/>
                </a:cubicBezTo>
                <a:cubicBezTo>
                  <a:pt x="12613" y="14404"/>
                  <a:pt x="12325" y="14583"/>
                  <a:pt x="12105" y="14610"/>
                </a:cubicBezTo>
                <a:cubicBezTo>
                  <a:pt x="12080" y="14602"/>
                  <a:pt x="12055" y="14593"/>
                  <a:pt x="12030" y="14585"/>
                </a:cubicBezTo>
                <a:cubicBezTo>
                  <a:pt x="12153" y="14463"/>
                  <a:pt x="12329" y="14378"/>
                  <a:pt x="12502" y="14486"/>
                </a:cubicBezTo>
                <a:cubicBezTo>
                  <a:pt x="12568" y="14527"/>
                  <a:pt x="12584" y="14670"/>
                  <a:pt x="12601" y="14734"/>
                </a:cubicBezTo>
              </a:path>
              <a:path w="869" h="2085">
                <a:moveTo>
                  <a:pt x="12105" y="15032"/>
                </a:moveTo>
                <a:cubicBezTo>
                  <a:pt x="12330" y="14987"/>
                  <a:pt x="12568" y="14939"/>
                  <a:pt x="12799" y="14957"/>
                </a:cubicBezTo>
                <a:cubicBezTo>
                  <a:pt x="12832" y="14965"/>
                  <a:pt x="12865" y="14974"/>
                  <a:pt x="12898" y="14982"/>
                </a:cubicBezTo>
              </a:path>
              <a:path w="869" h="2085">
                <a:moveTo>
                  <a:pt x="12675" y="15180"/>
                </a:moveTo>
                <a:cubicBezTo>
                  <a:pt x="12520" y="15172"/>
                  <a:pt x="12265" y="15211"/>
                  <a:pt x="12154" y="15354"/>
                </a:cubicBezTo>
                <a:cubicBezTo>
                  <a:pt x="12154" y="15379"/>
                  <a:pt x="12154" y="15404"/>
                  <a:pt x="12154" y="15429"/>
                </a:cubicBezTo>
                <a:cubicBezTo>
                  <a:pt x="12281" y="15510"/>
                  <a:pt x="12593" y="15536"/>
                  <a:pt x="12675" y="15677"/>
                </a:cubicBezTo>
                <a:cubicBezTo>
                  <a:pt x="12792" y="15878"/>
                  <a:pt x="12523" y="15884"/>
                  <a:pt x="12427" y="15850"/>
                </a:cubicBezTo>
                <a:cubicBezTo>
                  <a:pt x="12464" y="15629"/>
                  <a:pt x="12584" y="15562"/>
                  <a:pt x="12700" y="15379"/>
                </a:cubicBezTo>
                <a:cubicBezTo>
                  <a:pt x="12700" y="15346"/>
                  <a:pt x="12692" y="15337"/>
                  <a:pt x="12650" y="1535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205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753" y="8930"/>
                </a:moveTo>
                <a:cubicBezTo>
                  <a:pt x="2778" y="8930"/>
                  <a:pt x="2786" y="8930"/>
                  <a:pt x="2778" y="890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84200" y="259884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3845" y="7268"/>
                </a:moveTo>
                <a:cubicBezTo>
                  <a:pt x="3845" y="7227"/>
                  <a:pt x="3858" y="7255"/>
                  <a:pt x="3870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85960" y="2705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961" y="7516"/>
                </a:moveTo>
                <a:lnTo>
                  <a:pt x="4961" y="7516"/>
                </a:lnTo>
                <a:lnTo>
                  <a:pt x="4961" y="7516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259884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5680" y="7218"/>
                </a:moveTo>
                <a:cubicBezTo>
                  <a:pt x="5672" y="7218"/>
                  <a:pt x="5663" y="7218"/>
                  <a:pt x="5655" y="72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10080" y="2170080"/>
            <a:ext cx="973080" cy="1339920"/>
          </a:xfrm>
          <a:custGeom>
            <a:avLst/>
            <a:gdLst/>
            <a:ahLst/>
            <a:rect l="l" t="t" r="r" b="b"/>
            <a:pathLst>
              <a:path w="2705" h="3721">
                <a:moveTo>
                  <a:pt x="13717" y="7243"/>
                </a:moveTo>
                <a:cubicBezTo>
                  <a:pt x="13717" y="7218"/>
                  <a:pt x="13717" y="7210"/>
                  <a:pt x="13692" y="7218"/>
                </a:cubicBezTo>
                <a:cubicBezTo>
                  <a:pt x="13770" y="7171"/>
                  <a:pt x="13920" y="7182"/>
                  <a:pt x="14015" y="7169"/>
                </a:cubicBezTo>
                <a:cubicBezTo>
                  <a:pt x="14202" y="7143"/>
                  <a:pt x="14377" y="7075"/>
                  <a:pt x="14560" y="7045"/>
                </a:cubicBezTo>
                <a:cubicBezTo>
                  <a:pt x="14529" y="7268"/>
                  <a:pt x="14464" y="7492"/>
                  <a:pt x="14436" y="7714"/>
                </a:cubicBezTo>
                <a:cubicBezTo>
                  <a:pt x="14428" y="7781"/>
                  <a:pt x="14436" y="7866"/>
                  <a:pt x="14436" y="7938"/>
                </a:cubicBezTo>
              </a:path>
              <a:path w="2705" h="3721">
                <a:moveTo>
                  <a:pt x="13543" y="8260"/>
                </a:moveTo>
                <a:cubicBezTo>
                  <a:pt x="13528" y="8186"/>
                  <a:pt x="13517" y="8112"/>
                  <a:pt x="13494" y="8037"/>
                </a:cubicBezTo>
                <a:cubicBezTo>
                  <a:pt x="13419" y="7798"/>
                  <a:pt x="13342" y="7573"/>
                  <a:pt x="13246" y="7342"/>
                </a:cubicBezTo>
                <a:cubicBezTo>
                  <a:pt x="13218" y="7274"/>
                  <a:pt x="13179" y="7226"/>
                  <a:pt x="13221" y="7169"/>
                </a:cubicBezTo>
                <a:cubicBezTo>
                  <a:pt x="13283" y="7084"/>
                  <a:pt x="13368" y="7040"/>
                  <a:pt x="13469" y="7020"/>
                </a:cubicBezTo>
                <a:cubicBezTo>
                  <a:pt x="13838" y="6946"/>
                  <a:pt x="14211" y="6932"/>
                  <a:pt x="14585" y="6896"/>
                </a:cubicBezTo>
                <a:cubicBezTo>
                  <a:pt x="14725" y="6883"/>
                  <a:pt x="14966" y="6891"/>
                  <a:pt x="15081" y="6871"/>
                </a:cubicBezTo>
                <a:cubicBezTo>
                  <a:pt x="15098" y="6863"/>
                  <a:pt x="15114" y="6854"/>
                  <a:pt x="15131" y="6846"/>
                </a:cubicBezTo>
              </a:path>
              <a:path w="2705" h="3721">
                <a:moveTo>
                  <a:pt x="12948" y="7317"/>
                </a:moveTo>
                <a:cubicBezTo>
                  <a:pt x="12856" y="7317"/>
                  <a:pt x="12769" y="7296"/>
                  <a:pt x="12675" y="7293"/>
                </a:cubicBezTo>
                <a:cubicBezTo>
                  <a:pt x="12634" y="7292"/>
                  <a:pt x="12592" y="7293"/>
                  <a:pt x="12551" y="7293"/>
                </a:cubicBezTo>
                <a:cubicBezTo>
                  <a:pt x="12536" y="7395"/>
                  <a:pt x="12526" y="7486"/>
                  <a:pt x="12526" y="7590"/>
                </a:cubicBezTo>
                <a:cubicBezTo>
                  <a:pt x="12650" y="7590"/>
                  <a:pt x="12750" y="7548"/>
                  <a:pt x="12874" y="7590"/>
                </a:cubicBezTo>
                <a:cubicBezTo>
                  <a:pt x="13017" y="7638"/>
                  <a:pt x="13217" y="7783"/>
                  <a:pt x="13171" y="7962"/>
                </a:cubicBezTo>
                <a:cubicBezTo>
                  <a:pt x="13129" y="8128"/>
                  <a:pt x="12874" y="8108"/>
                  <a:pt x="12750" y="8111"/>
                </a:cubicBezTo>
                <a:cubicBezTo>
                  <a:pt x="12659" y="8111"/>
                  <a:pt x="12651" y="8111"/>
                  <a:pt x="12601" y="8111"/>
                </a:cubicBezTo>
              </a:path>
              <a:path w="2705" h="3721">
                <a:moveTo>
                  <a:pt x="12824" y="8136"/>
                </a:moveTo>
                <a:lnTo>
                  <a:pt x="12824" y="8136"/>
                </a:lnTo>
                <a:lnTo>
                  <a:pt x="12824" y="8136"/>
                </a:lnTo>
              </a:path>
              <a:path w="2705" h="3721">
                <a:moveTo>
                  <a:pt x="14263" y="7838"/>
                </a:moveTo>
                <a:lnTo>
                  <a:pt x="14263" y="7838"/>
                </a:lnTo>
              </a:path>
              <a:path w="2705" h="3721">
                <a:moveTo>
                  <a:pt x="14263" y="6028"/>
                </a:moveTo>
                <a:cubicBezTo>
                  <a:pt x="14209" y="6133"/>
                  <a:pt x="14225" y="6325"/>
                  <a:pt x="14238" y="6449"/>
                </a:cubicBezTo>
                <a:cubicBezTo>
                  <a:pt x="14243" y="6495"/>
                  <a:pt x="14248" y="6659"/>
                  <a:pt x="14288" y="6672"/>
                </a:cubicBezTo>
              </a:path>
              <a:path w="2705" h="3721">
                <a:moveTo>
                  <a:pt x="14511" y="8210"/>
                </a:moveTo>
                <a:cubicBezTo>
                  <a:pt x="14602" y="8181"/>
                  <a:pt x="14443" y="8202"/>
                  <a:pt x="14412" y="8210"/>
                </a:cubicBezTo>
                <a:cubicBezTo>
                  <a:pt x="14318" y="8233"/>
                  <a:pt x="14302" y="8265"/>
                  <a:pt x="14288" y="8359"/>
                </a:cubicBezTo>
                <a:cubicBezTo>
                  <a:pt x="14288" y="8411"/>
                  <a:pt x="14289" y="8429"/>
                  <a:pt x="14312" y="8458"/>
                </a:cubicBezTo>
                <a:cubicBezTo>
                  <a:pt x="14397" y="8442"/>
                  <a:pt x="14495" y="8382"/>
                  <a:pt x="14585" y="8384"/>
                </a:cubicBezTo>
                <a:cubicBezTo>
                  <a:pt x="14693" y="8386"/>
                  <a:pt x="14914" y="8455"/>
                  <a:pt x="14784" y="8607"/>
                </a:cubicBezTo>
                <a:cubicBezTo>
                  <a:pt x="14712" y="8691"/>
                  <a:pt x="14495" y="8802"/>
                  <a:pt x="14387" y="8731"/>
                </a:cubicBezTo>
                <a:cubicBezTo>
                  <a:pt x="14379" y="8715"/>
                  <a:pt x="14370" y="8698"/>
                  <a:pt x="14362" y="8682"/>
                </a:cubicBezTo>
              </a:path>
              <a:path w="2705" h="3721">
                <a:moveTo>
                  <a:pt x="14015" y="9004"/>
                </a:moveTo>
                <a:cubicBezTo>
                  <a:pt x="14286" y="8923"/>
                  <a:pt x="14557" y="8844"/>
                  <a:pt x="14833" y="8781"/>
                </a:cubicBezTo>
                <a:cubicBezTo>
                  <a:pt x="14911" y="8763"/>
                  <a:pt x="14941" y="8756"/>
                  <a:pt x="15007" y="8756"/>
                </a:cubicBezTo>
              </a:path>
              <a:path w="2705" h="3721">
                <a:moveTo>
                  <a:pt x="13940" y="8558"/>
                </a:moveTo>
                <a:cubicBezTo>
                  <a:pt x="14034" y="8539"/>
                  <a:pt x="14038" y="8515"/>
                  <a:pt x="14139" y="8533"/>
                </a:cubicBezTo>
              </a:path>
              <a:path w="2705" h="3721">
                <a:moveTo>
                  <a:pt x="14635" y="9128"/>
                </a:moveTo>
                <a:cubicBezTo>
                  <a:pt x="14733" y="9108"/>
                  <a:pt x="14771" y="9044"/>
                  <a:pt x="14883" y="9054"/>
                </a:cubicBezTo>
                <a:cubicBezTo>
                  <a:pt x="15105" y="9073"/>
                  <a:pt x="15079" y="9219"/>
                  <a:pt x="14982" y="9376"/>
                </a:cubicBezTo>
                <a:cubicBezTo>
                  <a:pt x="14896" y="9515"/>
                  <a:pt x="14733" y="9602"/>
                  <a:pt x="14684" y="9748"/>
                </a:cubicBezTo>
                <a:cubicBezTo>
                  <a:pt x="14776" y="9725"/>
                  <a:pt x="14883" y="9674"/>
                  <a:pt x="14982" y="9649"/>
                </a:cubicBezTo>
                <a:cubicBezTo>
                  <a:pt x="15065" y="9628"/>
                  <a:pt x="15154" y="9593"/>
                  <a:pt x="15230" y="957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43000" y="1905120"/>
                <a:ext cx="1447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094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19320" y="3130560"/>
                <a:ext cx="1066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23880" y="3200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700200" y="4575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95280" y="4354560"/>
                <a:ext cx="1143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839880" y="3276720"/>
            <a:ext cx="438120" cy="920520"/>
          </a:xfrm>
          <a:custGeom>
            <a:avLst/>
            <a:gdLst/>
            <a:ahLst/>
            <a:rect l="l" t="t" r="r" b="b"/>
            <a:pathLst>
              <a:path w="1216" h="2556">
                <a:moveTo>
                  <a:pt x="3274" y="9103"/>
                </a:moveTo>
                <a:lnTo>
                  <a:pt x="3274" y="9103"/>
                </a:lnTo>
              </a:path>
              <a:path w="1216" h="2556">
                <a:moveTo>
                  <a:pt x="3324" y="9674"/>
                </a:moveTo>
                <a:cubicBezTo>
                  <a:pt x="3408" y="9748"/>
                  <a:pt x="3487" y="9880"/>
                  <a:pt x="3522" y="9996"/>
                </a:cubicBezTo>
                <a:cubicBezTo>
                  <a:pt x="3522" y="10041"/>
                  <a:pt x="3519" y="10054"/>
                  <a:pt x="3547" y="10071"/>
                </a:cubicBezTo>
              </a:path>
              <a:path w="1216" h="2556">
                <a:moveTo>
                  <a:pt x="3522" y="9847"/>
                </a:moveTo>
                <a:cubicBezTo>
                  <a:pt x="3462" y="9987"/>
                  <a:pt x="3414" y="10130"/>
                  <a:pt x="3349" y="10269"/>
                </a:cubicBezTo>
              </a:path>
              <a:path w="1216" h="2556">
                <a:moveTo>
                  <a:pt x="3026" y="10294"/>
                </a:moveTo>
                <a:cubicBezTo>
                  <a:pt x="3096" y="10278"/>
                  <a:pt x="3166" y="10254"/>
                  <a:pt x="3225" y="10220"/>
                </a:cubicBezTo>
                <a:cubicBezTo>
                  <a:pt x="3238" y="10313"/>
                  <a:pt x="3249" y="10313"/>
                  <a:pt x="3175" y="10393"/>
                </a:cubicBezTo>
                <a:cubicBezTo>
                  <a:pt x="3146" y="10424"/>
                  <a:pt x="3103" y="10447"/>
                  <a:pt x="3200" y="10418"/>
                </a:cubicBezTo>
                <a:cubicBezTo>
                  <a:pt x="3243" y="10396"/>
                  <a:pt x="3255" y="10392"/>
                  <a:pt x="3274" y="10368"/>
                </a:cubicBezTo>
              </a:path>
              <a:path w="1216" h="2556">
                <a:moveTo>
                  <a:pt x="2580" y="10641"/>
                </a:moveTo>
                <a:cubicBezTo>
                  <a:pt x="2559" y="10578"/>
                  <a:pt x="2562" y="10699"/>
                  <a:pt x="2555" y="10765"/>
                </a:cubicBezTo>
                <a:cubicBezTo>
                  <a:pt x="2531" y="10982"/>
                  <a:pt x="2463" y="11189"/>
                  <a:pt x="2480" y="11410"/>
                </a:cubicBezTo>
                <a:cubicBezTo>
                  <a:pt x="2494" y="11592"/>
                  <a:pt x="2567" y="11694"/>
                  <a:pt x="2753" y="11633"/>
                </a:cubicBezTo>
                <a:cubicBezTo>
                  <a:pt x="2915" y="11580"/>
                  <a:pt x="2961" y="11412"/>
                  <a:pt x="2977" y="11261"/>
                </a:cubicBezTo>
                <a:cubicBezTo>
                  <a:pt x="2977" y="11253"/>
                  <a:pt x="2977" y="11245"/>
                  <a:pt x="2977" y="11237"/>
                </a:cubicBezTo>
                <a:cubicBezTo>
                  <a:pt x="2851" y="11272"/>
                  <a:pt x="2806" y="11315"/>
                  <a:pt x="2753" y="11435"/>
                </a:cubicBezTo>
                <a:cubicBezTo>
                  <a:pt x="2745" y="11460"/>
                  <a:pt x="2737" y="11484"/>
                  <a:pt x="2729" y="11509"/>
                </a:cubicBezTo>
              </a:path>
              <a:path w="1216" h="2556">
                <a:moveTo>
                  <a:pt x="2381" y="10666"/>
                </a:moveTo>
                <a:cubicBezTo>
                  <a:pt x="2373" y="10615"/>
                  <a:pt x="2362" y="10568"/>
                  <a:pt x="2356" y="10517"/>
                </a:cubicBezTo>
              </a:path>
              <a:path w="1216" h="2556">
                <a:moveTo>
                  <a:pt x="2332" y="10468"/>
                </a:moveTo>
                <a:cubicBezTo>
                  <a:pt x="2435" y="10468"/>
                  <a:pt x="2528" y="10451"/>
                  <a:pt x="2629" y="10443"/>
                </a:cubicBezTo>
                <a:cubicBezTo>
                  <a:pt x="2685" y="10439"/>
                  <a:pt x="2746" y="10443"/>
                  <a:pt x="2803" y="10443"/>
                </a:cubicBezTo>
              </a:path>
              <a:path w="1216" h="2556">
                <a:moveTo>
                  <a:pt x="3001" y="9773"/>
                </a:moveTo>
                <a:cubicBezTo>
                  <a:pt x="3059" y="9729"/>
                  <a:pt x="3151" y="9714"/>
                  <a:pt x="3225" y="9699"/>
                </a:cubicBezTo>
                <a:cubicBezTo>
                  <a:pt x="3253" y="9699"/>
                  <a:pt x="3263" y="9701"/>
                  <a:pt x="3274" y="9723"/>
                </a:cubicBezTo>
                <a:cubicBezTo>
                  <a:pt x="3246" y="9906"/>
                  <a:pt x="3165" y="9897"/>
                  <a:pt x="3051" y="10021"/>
                </a:cubicBezTo>
                <a:cubicBezTo>
                  <a:pt x="3051" y="10029"/>
                  <a:pt x="3051" y="10038"/>
                  <a:pt x="3051" y="10046"/>
                </a:cubicBezTo>
                <a:cubicBezTo>
                  <a:pt x="3123" y="9998"/>
                  <a:pt x="3195" y="9995"/>
                  <a:pt x="3274" y="9971"/>
                </a:cubicBezTo>
                <a:cubicBezTo>
                  <a:pt x="3291" y="9963"/>
                  <a:pt x="3307" y="9955"/>
                  <a:pt x="3324" y="9947"/>
                </a:cubicBezTo>
              </a:path>
              <a:path w="1216" h="2556">
                <a:moveTo>
                  <a:pt x="2927" y="10319"/>
                </a:moveTo>
                <a:cubicBezTo>
                  <a:pt x="2983" y="10243"/>
                  <a:pt x="3146" y="10218"/>
                  <a:pt x="3249" y="10195"/>
                </a:cubicBezTo>
                <a:cubicBezTo>
                  <a:pt x="3356" y="10173"/>
                  <a:pt x="3380" y="10165"/>
                  <a:pt x="3448" y="10170"/>
                </a:cubicBezTo>
              </a:path>
              <a:path w="1216" h="2556">
                <a:moveTo>
                  <a:pt x="2629" y="9376"/>
                </a:moveTo>
                <a:cubicBezTo>
                  <a:pt x="2613" y="9471"/>
                  <a:pt x="2560" y="9574"/>
                  <a:pt x="2580" y="9674"/>
                </a:cubicBezTo>
                <a:cubicBezTo>
                  <a:pt x="2588" y="9682"/>
                  <a:pt x="2596" y="9691"/>
                  <a:pt x="2604" y="9699"/>
                </a:cubicBezTo>
                <a:cubicBezTo>
                  <a:pt x="2747" y="9658"/>
                  <a:pt x="2796" y="9615"/>
                  <a:pt x="2877" y="9500"/>
                </a:cubicBezTo>
              </a:path>
              <a:path w="1216" h="2556">
                <a:moveTo>
                  <a:pt x="2778" y="9327"/>
                </a:moveTo>
                <a:cubicBezTo>
                  <a:pt x="2770" y="9611"/>
                  <a:pt x="2736" y="9887"/>
                  <a:pt x="2704" y="10170"/>
                </a:cubicBezTo>
                <a:cubicBezTo>
                  <a:pt x="2704" y="10178"/>
                  <a:pt x="2704" y="10187"/>
                  <a:pt x="2704" y="1019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7800" y="2089080"/>
            <a:ext cx="625320" cy="804960"/>
          </a:xfrm>
          <a:custGeom>
            <a:avLst/>
            <a:gdLst/>
            <a:ahLst/>
            <a:rect l="l" t="t" r="r" b="b"/>
            <a:pathLst>
              <a:path w="1738" h="2234">
                <a:moveTo>
                  <a:pt x="2530" y="7367"/>
                </a:moveTo>
                <a:cubicBezTo>
                  <a:pt x="2530" y="7284"/>
                  <a:pt x="2538" y="7483"/>
                  <a:pt x="2530" y="7565"/>
                </a:cubicBezTo>
                <a:cubicBezTo>
                  <a:pt x="2516" y="7700"/>
                  <a:pt x="2505" y="7826"/>
                  <a:pt x="2505" y="7962"/>
                </a:cubicBezTo>
              </a:path>
              <a:path w="1738" h="2234">
                <a:moveTo>
                  <a:pt x="2927" y="7367"/>
                </a:moveTo>
                <a:cubicBezTo>
                  <a:pt x="2861" y="7449"/>
                  <a:pt x="2805" y="7563"/>
                  <a:pt x="2778" y="7665"/>
                </a:cubicBezTo>
                <a:cubicBezTo>
                  <a:pt x="2749" y="7774"/>
                  <a:pt x="2707" y="7951"/>
                  <a:pt x="2828" y="8012"/>
                </a:cubicBezTo>
                <a:cubicBezTo>
                  <a:pt x="2928" y="8062"/>
                  <a:pt x="3041" y="8000"/>
                  <a:pt x="3101" y="7913"/>
                </a:cubicBezTo>
                <a:cubicBezTo>
                  <a:pt x="3165" y="7821"/>
                  <a:pt x="3212" y="7670"/>
                  <a:pt x="3225" y="7565"/>
                </a:cubicBezTo>
                <a:cubicBezTo>
                  <a:pt x="3230" y="7525"/>
                  <a:pt x="3130" y="7456"/>
                  <a:pt x="3101" y="7441"/>
                </a:cubicBezTo>
                <a:cubicBezTo>
                  <a:pt x="3037" y="7408"/>
                  <a:pt x="2971" y="7417"/>
                  <a:pt x="2902" y="7417"/>
                </a:cubicBezTo>
                <a:cubicBezTo>
                  <a:pt x="2874" y="7417"/>
                  <a:pt x="2864" y="7419"/>
                  <a:pt x="2853" y="7441"/>
                </a:cubicBezTo>
              </a:path>
              <a:path w="1738" h="2234">
                <a:moveTo>
                  <a:pt x="4093" y="7069"/>
                </a:moveTo>
                <a:cubicBezTo>
                  <a:pt x="3996" y="7093"/>
                  <a:pt x="3908" y="7384"/>
                  <a:pt x="3870" y="7466"/>
                </a:cubicBezTo>
                <a:cubicBezTo>
                  <a:pt x="3856" y="7496"/>
                  <a:pt x="3636" y="7855"/>
                  <a:pt x="3646" y="7913"/>
                </a:cubicBezTo>
                <a:cubicBezTo>
                  <a:pt x="3654" y="7913"/>
                  <a:pt x="3663" y="7913"/>
                  <a:pt x="3671" y="7913"/>
                </a:cubicBezTo>
              </a:path>
              <a:path w="1738" h="2234">
                <a:moveTo>
                  <a:pt x="3423" y="6648"/>
                </a:moveTo>
                <a:cubicBezTo>
                  <a:pt x="3423" y="6717"/>
                  <a:pt x="3445" y="6776"/>
                  <a:pt x="3448" y="6846"/>
                </a:cubicBezTo>
                <a:cubicBezTo>
                  <a:pt x="3448" y="6863"/>
                  <a:pt x="3448" y="6879"/>
                  <a:pt x="3448" y="6896"/>
                </a:cubicBezTo>
              </a:path>
              <a:path w="1738" h="2234">
                <a:moveTo>
                  <a:pt x="3423" y="6623"/>
                </a:moveTo>
                <a:cubicBezTo>
                  <a:pt x="3423" y="6697"/>
                  <a:pt x="3424" y="6833"/>
                  <a:pt x="3398" y="6896"/>
                </a:cubicBezTo>
                <a:cubicBezTo>
                  <a:pt x="3382" y="6912"/>
                  <a:pt x="3365" y="6929"/>
                  <a:pt x="3349" y="6945"/>
                </a:cubicBezTo>
              </a:path>
              <a:path w="1738" h="2234">
                <a:moveTo>
                  <a:pt x="3076" y="7020"/>
                </a:moveTo>
                <a:cubicBezTo>
                  <a:pt x="3109" y="6995"/>
                  <a:pt x="3135" y="6980"/>
                  <a:pt x="3175" y="6970"/>
                </a:cubicBezTo>
                <a:cubicBezTo>
                  <a:pt x="3189" y="7039"/>
                  <a:pt x="3190" y="7079"/>
                  <a:pt x="3175" y="7119"/>
                </a:cubicBezTo>
                <a:cubicBezTo>
                  <a:pt x="3175" y="7127"/>
                  <a:pt x="3175" y="7136"/>
                  <a:pt x="3175" y="7144"/>
                </a:cubicBezTo>
                <a:cubicBezTo>
                  <a:pt x="3232" y="7144"/>
                  <a:pt x="3276" y="7129"/>
                  <a:pt x="3299" y="7119"/>
                </a:cubicBezTo>
                <a:cubicBezTo>
                  <a:pt x="3307" y="7119"/>
                  <a:pt x="3316" y="7119"/>
                  <a:pt x="3324" y="7119"/>
                </a:cubicBezTo>
              </a:path>
              <a:path w="1738" h="2234">
                <a:moveTo>
                  <a:pt x="3076" y="6747"/>
                </a:moveTo>
                <a:cubicBezTo>
                  <a:pt x="3134" y="6735"/>
                  <a:pt x="3189" y="6707"/>
                  <a:pt x="3249" y="6697"/>
                </a:cubicBezTo>
              </a:path>
              <a:path w="1738" h="2234">
                <a:moveTo>
                  <a:pt x="2356" y="7045"/>
                </a:moveTo>
                <a:cubicBezTo>
                  <a:pt x="2582" y="7045"/>
                  <a:pt x="2802" y="7054"/>
                  <a:pt x="3026" y="7069"/>
                </a:cubicBezTo>
                <a:cubicBezTo>
                  <a:pt x="3084" y="7069"/>
                  <a:pt x="3092" y="7069"/>
                  <a:pt x="3125" y="7069"/>
                </a:cubicBezTo>
              </a:path>
              <a:path w="1738" h="2234">
                <a:moveTo>
                  <a:pt x="2456" y="6003"/>
                </a:moveTo>
                <a:cubicBezTo>
                  <a:pt x="2456" y="5930"/>
                  <a:pt x="2456" y="6184"/>
                  <a:pt x="2456" y="6201"/>
                </a:cubicBezTo>
                <a:cubicBezTo>
                  <a:pt x="2456" y="6267"/>
                  <a:pt x="2456" y="6284"/>
                  <a:pt x="2456" y="6325"/>
                </a:cubicBezTo>
                <a:cubicBezTo>
                  <a:pt x="2581" y="6325"/>
                  <a:pt x="2681" y="6299"/>
                  <a:pt x="2803" y="6276"/>
                </a:cubicBezTo>
                <a:cubicBezTo>
                  <a:pt x="2811" y="6276"/>
                  <a:pt x="2820" y="6276"/>
                  <a:pt x="2828" y="6276"/>
                </a:cubicBezTo>
              </a:path>
              <a:path w="1738" h="2234">
                <a:moveTo>
                  <a:pt x="2778" y="5804"/>
                </a:moveTo>
                <a:cubicBezTo>
                  <a:pt x="2789" y="6072"/>
                  <a:pt x="2832" y="6334"/>
                  <a:pt x="2877" y="6598"/>
                </a:cubicBezTo>
                <a:cubicBezTo>
                  <a:pt x="2892" y="6687"/>
                  <a:pt x="2900" y="6765"/>
                  <a:pt x="2927" y="6846"/>
                </a:cubicBezTo>
              </a:path>
              <a:path w="1738" h="2234">
                <a:moveTo>
                  <a:pt x="3497" y="6623"/>
                </a:moveTo>
                <a:cubicBezTo>
                  <a:pt x="3497" y="6615"/>
                  <a:pt x="3497" y="6606"/>
                  <a:pt x="3497" y="659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14800" y="1874880"/>
            <a:ext cx="1536480" cy="974520"/>
          </a:xfrm>
          <a:custGeom>
            <a:avLst/>
            <a:gdLst/>
            <a:ahLst/>
            <a:rect l="l" t="t" r="r" b="b"/>
            <a:pathLst>
              <a:path w="4267" h="2705">
                <a:moveTo>
                  <a:pt x="9178" y="5358"/>
                </a:moveTo>
                <a:cubicBezTo>
                  <a:pt x="9153" y="5510"/>
                  <a:pt x="9136" y="5672"/>
                  <a:pt x="9128" y="5829"/>
                </a:cubicBezTo>
                <a:cubicBezTo>
                  <a:pt x="9128" y="5945"/>
                  <a:pt x="9128" y="5962"/>
                  <a:pt x="9128" y="6028"/>
                </a:cubicBezTo>
                <a:cubicBezTo>
                  <a:pt x="9328" y="6001"/>
                  <a:pt x="9551" y="5914"/>
                  <a:pt x="9723" y="5804"/>
                </a:cubicBezTo>
                <a:cubicBezTo>
                  <a:pt x="9748" y="5779"/>
                  <a:pt x="9773" y="5755"/>
                  <a:pt x="9798" y="5730"/>
                </a:cubicBezTo>
              </a:path>
              <a:path w="4267" h="2705">
                <a:moveTo>
                  <a:pt x="9575" y="5209"/>
                </a:moveTo>
                <a:cubicBezTo>
                  <a:pt x="9575" y="5497"/>
                  <a:pt x="9605" y="5791"/>
                  <a:pt x="9599" y="6077"/>
                </a:cubicBezTo>
                <a:cubicBezTo>
                  <a:pt x="9596" y="6243"/>
                  <a:pt x="9575" y="6406"/>
                  <a:pt x="9575" y="6573"/>
                </a:cubicBezTo>
              </a:path>
              <a:path w="4267" h="2705">
                <a:moveTo>
                  <a:pt x="8930" y="6722"/>
                </a:moveTo>
                <a:cubicBezTo>
                  <a:pt x="9229" y="6666"/>
                  <a:pt x="9540" y="6548"/>
                  <a:pt x="9847" y="6548"/>
                </a:cubicBezTo>
                <a:cubicBezTo>
                  <a:pt x="9926" y="6574"/>
                  <a:pt x="9947" y="6585"/>
                  <a:pt x="9847" y="6623"/>
                </a:cubicBezTo>
              </a:path>
              <a:path w="4267" h="2705">
                <a:moveTo>
                  <a:pt x="9103" y="7094"/>
                </a:moveTo>
                <a:cubicBezTo>
                  <a:pt x="9103" y="7320"/>
                  <a:pt x="9093" y="7541"/>
                  <a:pt x="9054" y="7764"/>
                </a:cubicBezTo>
                <a:cubicBezTo>
                  <a:pt x="9042" y="7831"/>
                  <a:pt x="8975" y="7915"/>
                  <a:pt x="9029" y="7888"/>
                </a:cubicBezTo>
              </a:path>
              <a:path w="4267" h="2705">
                <a:moveTo>
                  <a:pt x="9699" y="7144"/>
                </a:moveTo>
                <a:cubicBezTo>
                  <a:pt x="9604" y="7207"/>
                  <a:pt x="9471" y="7410"/>
                  <a:pt x="9475" y="7541"/>
                </a:cubicBezTo>
                <a:cubicBezTo>
                  <a:pt x="9492" y="7566"/>
                  <a:pt x="9508" y="7590"/>
                  <a:pt x="9525" y="7615"/>
                </a:cubicBezTo>
                <a:cubicBezTo>
                  <a:pt x="9696" y="7661"/>
                  <a:pt x="9852" y="7605"/>
                  <a:pt x="9996" y="7466"/>
                </a:cubicBezTo>
                <a:cubicBezTo>
                  <a:pt x="10013" y="7441"/>
                  <a:pt x="10029" y="7417"/>
                  <a:pt x="10046" y="7392"/>
                </a:cubicBezTo>
                <a:cubicBezTo>
                  <a:pt x="9866" y="7184"/>
                  <a:pt x="9702" y="7201"/>
                  <a:pt x="9426" y="7193"/>
                </a:cubicBezTo>
              </a:path>
              <a:path w="4267" h="2705">
                <a:moveTo>
                  <a:pt x="10691" y="6400"/>
                </a:moveTo>
                <a:cubicBezTo>
                  <a:pt x="10681" y="6361"/>
                  <a:pt x="10666" y="6345"/>
                  <a:pt x="10666" y="6300"/>
                </a:cubicBezTo>
                <a:cubicBezTo>
                  <a:pt x="10685" y="6431"/>
                  <a:pt x="10736" y="6583"/>
                  <a:pt x="10765" y="6722"/>
                </a:cubicBezTo>
                <a:cubicBezTo>
                  <a:pt x="10780" y="6792"/>
                  <a:pt x="10824" y="6860"/>
                  <a:pt x="10765" y="6821"/>
                </a:cubicBezTo>
              </a:path>
              <a:path w="4267" h="2705">
                <a:moveTo>
                  <a:pt x="10443" y="6623"/>
                </a:moveTo>
                <a:cubicBezTo>
                  <a:pt x="10610" y="6604"/>
                  <a:pt x="10772" y="6555"/>
                  <a:pt x="10939" y="6524"/>
                </a:cubicBezTo>
                <a:cubicBezTo>
                  <a:pt x="10947" y="6524"/>
                  <a:pt x="10956" y="6524"/>
                  <a:pt x="10964" y="6524"/>
                </a:cubicBezTo>
              </a:path>
              <a:path w="4267" h="2705">
                <a:moveTo>
                  <a:pt x="11534" y="5507"/>
                </a:moveTo>
                <a:cubicBezTo>
                  <a:pt x="11602" y="5404"/>
                  <a:pt x="11704" y="5291"/>
                  <a:pt x="11832" y="5259"/>
                </a:cubicBezTo>
                <a:cubicBezTo>
                  <a:pt x="11865" y="5259"/>
                  <a:pt x="11898" y="5259"/>
                  <a:pt x="11931" y="5259"/>
                </a:cubicBezTo>
                <a:cubicBezTo>
                  <a:pt x="12017" y="5462"/>
                  <a:pt x="11877" y="5553"/>
                  <a:pt x="11757" y="5730"/>
                </a:cubicBezTo>
                <a:cubicBezTo>
                  <a:pt x="11749" y="5746"/>
                  <a:pt x="11741" y="5763"/>
                  <a:pt x="11733" y="5779"/>
                </a:cubicBezTo>
                <a:cubicBezTo>
                  <a:pt x="11831" y="5714"/>
                  <a:pt x="11993" y="5686"/>
                  <a:pt x="12080" y="5804"/>
                </a:cubicBezTo>
                <a:cubicBezTo>
                  <a:pt x="12211" y="5982"/>
                  <a:pt x="12007" y="6169"/>
                  <a:pt x="11857" y="6226"/>
                </a:cubicBezTo>
                <a:cubicBezTo>
                  <a:pt x="11698" y="6286"/>
                  <a:pt x="11637" y="6257"/>
                  <a:pt x="11584" y="6152"/>
                </a:cubicBezTo>
              </a:path>
              <a:path w="4267" h="2705">
                <a:moveTo>
                  <a:pt x="11485" y="6648"/>
                </a:moveTo>
                <a:cubicBezTo>
                  <a:pt x="11764" y="6600"/>
                  <a:pt x="12052" y="6538"/>
                  <a:pt x="12328" y="6548"/>
                </a:cubicBezTo>
                <a:cubicBezTo>
                  <a:pt x="12368" y="6548"/>
                  <a:pt x="12366" y="6559"/>
                  <a:pt x="12303" y="6598"/>
                </a:cubicBezTo>
              </a:path>
              <a:path w="4267" h="2705">
                <a:moveTo>
                  <a:pt x="11733" y="6772"/>
                </a:moveTo>
                <a:cubicBezTo>
                  <a:pt x="11699" y="6938"/>
                  <a:pt x="11695" y="7122"/>
                  <a:pt x="11683" y="7293"/>
                </a:cubicBezTo>
                <a:cubicBezTo>
                  <a:pt x="11683" y="7367"/>
                  <a:pt x="11683" y="7376"/>
                  <a:pt x="11683" y="7417"/>
                </a:cubicBezTo>
              </a:path>
              <a:path w="4267" h="2705">
                <a:moveTo>
                  <a:pt x="12080" y="6945"/>
                </a:moveTo>
                <a:cubicBezTo>
                  <a:pt x="11997" y="7055"/>
                  <a:pt x="11789" y="7245"/>
                  <a:pt x="11931" y="7392"/>
                </a:cubicBezTo>
                <a:cubicBezTo>
                  <a:pt x="12081" y="7547"/>
                  <a:pt x="12337" y="7369"/>
                  <a:pt x="12427" y="7243"/>
                </a:cubicBezTo>
                <a:cubicBezTo>
                  <a:pt x="12444" y="7210"/>
                  <a:pt x="12460" y="7177"/>
                  <a:pt x="12477" y="7144"/>
                </a:cubicBezTo>
                <a:cubicBezTo>
                  <a:pt x="12357" y="7012"/>
                  <a:pt x="12230" y="6992"/>
                  <a:pt x="12055" y="6945"/>
                </a:cubicBezTo>
              </a:path>
              <a:path w="4267" h="2705">
                <a:moveTo>
                  <a:pt x="12874" y="6350"/>
                </a:moveTo>
                <a:cubicBezTo>
                  <a:pt x="12983" y="6344"/>
                  <a:pt x="13087" y="6333"/>
                  <a:pt x="13196" y="6325"/>
                </a:cubicBezTo>
              </a:path>
              <a:path w="4267" h="2705">
                <a:moveTo>
                  <a:pt x="12923" y="6598"/>
                </a:moveTo>
                <a:cubicBezTo>
                  <a:pt x="13057" y="6571"/>
                  <a:pt x="13108" y="6560"/>
                  <a:pt x="13196" y="65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1751040"/>
            <a:ext cx="571320" cy="874800"/>
          </a:xfrm>
          <a:custGeom>
            <a:avLst/>
            <a:gdLst/>
            <a:ahLst/>
            <a:rect l="l" t="t" r="r" b="b"/>
            <a:pathLst>
              <a:path w="1588" h="2432">
                <a:moveTo>
                  <a:pt x="14784" y="5011"/>
                </a:moveTo>
                <a:cubicBezTo>
                  <a:pt x="14685" y="4978"/>
                  <a:pt x="14872" y="4964"/>
                  <a:pt x="14883" y="4961"/>
                </a:cubicBezTo>
                <a:cubicBezTo>
                  <a:pt x="15014" y="4926"/>
                  <a:pt x="15164" y="4857"/>
                  <a:pt x="15304" y="4862"/>
                </a:cubicBezTo>
                <a:cubicBezTo>
                  <a:pt x="15312" y="4870"/>
                  <a:pt x="15321" y="4879"/>
                  <a:pt x="15329" y="4887"/>
                </a:cubicBezTo>
                <a:cubicBezTo>
                  <a:pt x="15238" y="5158"/>
                  <a:pt x="15206" y="5431"/>
                  <a:pt x="15131" y="5705"/>
                </a:cubicBezTo>
                <a:cubicBezTo>
                  <a:pt x="15101" y="5813"/>
                  <a:pt x="15081" y="5812"/>
                  <a:pt x="15081" y="5904"/>
                </a:cubicBezTo>
              </a:path>
              <a:path w="1588" h="2432">
                <a:moveTo>
                  <a:pt x="14387" y="6375"/>
                </a:moveTo>
                <a:cubicBezTo>
                  <a:pt x="14764" y="6347"/>
                  <a:pt x="15127" y="6249"/>
                  <a:pt x="15503" y="6201"/>
                </a:cubicBezTo>
                <a:cubicBezTo>
                  <a:pt x="15504" y="6201"/>
                  <a:pt x="15921" y="6122"/>
                  <a:pt x="15974" y="6152"/>
                </a:cubicBezTo>
                <a:cubicBezTo>
                  <a:pt x="15974" y="6176"/>
                  <a:pt x="15974" y="6184"/>
                  <a:pt x="15949" y="6176"/>
                </a:cubicBezTo>
              </a:path>
              <a:path w="1588" h="2432">
                <a:moveTo>
                  <a:pt x="14684" y="6524"/>
                </a:moveTo>
                <a:cubicBezTo>
                  <a:pt x="14684" y="6747"/>
                  <a:pt x="14743" y="7059"/>
                  <a:pt x="14660" y="7268"/>
                </a:cubicBezTo>
                <a:cubicBezTo>
                  <a:pt x="14652" y="7276"/>
                  <a:pt x="14643" y="7285"/>
                  <a:pt x="14635" y="7293"/>
                </a:cubicBezTo>
              </a:path>
              <a:path w="1588" h="2432">
                <a:moveTo>
                  <a:pt x="15329" y="6747"/>
                </a:moveTo>
                <a:cubicBezTo>
                  <a:pt x="15296" y="6681"/>
                  <a:pt x="15175" y="6892"/>
                  <a:pt x="15156" y="6921"/>
                </a:cubicBezTo>
                <a:cubicBezTo>
                  <a:pt x="15093" y="7019"/>
                  <a:pt x="14967" y="7236"/>
                  <a:pt x="15156" y="7293"/>
                </a:cubicBezTo>
                <a:cubicBezTo>
                  <a:pt x="15316" y="7341"/>
                  <a:pt x="15520" y="7270"/>
                  <a:pt x="15627" y="7144"/>
                </a:cubicBezTo>
                <a:cubicBezTo>
                  <a:pt x="15724" y="7030"/>
                  <a:pt x="15724" y="6885"/>
                  <a:pt x="15602" y="6796"/>
                </a:cubicBezTo>
                <a:cubicBezTo>
                  <a:pt x="15517" y="6734"/>
                  <a:pt x="15429" y="6722"/>
                  <a:pt x="15329" y="67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5080" y="3197160"/>
            <a:ext cx="519120" cy="687600"/>
          </a:xfrm>
          <a:custGeom>
            <a:avLst/>
            <a:gdLst/>
            <a:ahLst/>
            <a:rect l="l" t="t" r="r" b="b"/>
            <a:pathLst>
              <a:path w="1440" h="1911">
                <a:moveTo>
                  <a:pt x="8979" y="9004"/>
                </a:moveTo>
                <a:cubicBezTo>
                  <a:pt x="8952" y="9087"/>
                  <a:pt x="8825" y="9328"/>
                  <a:pt x="8930" y="9401"/>
                </a:cubicBezTo>
                <a:cubicBezTo>
                  <a:pt x="9094" y="9516"/>
                  <a:pt x="9334" y="9373"/>
                  <a:pt x="9475" y="9302"/>
                </a:cubicBezTo>
              </a:path>
              <a:path w="1440" h="1911">
                <a:moveTo>
                  <a:pt x="9302" y="8880"/>
                </a:moveTo>
                <a:cubicBezTo>
                  <a:pt x="9268" y="9135"/>
                  <a:pt x="9277" y="9391"/>
                  <a:pt x="9277" y="9649"/>
                </a:cubicBezTo>
                <a:cubicBezTo>
                  <a:pt x="9277" y="9748"/>
                  <a:pt x="9277" y="9765"/>
                  <a:pt x="9277" y="9823"/>
                </a:cubicBezTo>
              </a:path>
              <a:path w="1440" h="1911">
                <a:moveTo>
                  <a:pt x="8930" y="9922"/>
                </a:moveTo>
                <a:cubicBezTo>
                  <a:pt x="9198" y="9863"/>
                  <a:pt x="9521" y="9719"/>
                  <a:pt x="9798" y="9748"/>
                </a:cubicBezTo>
                <a:cubicBezTo>
                  <a:pt x="9806" y="9756"/>
                  <a:pt x="9815" y="9765"/>
                  <a:pt x="9823" y="9773"/>
                </a:cubicBezTo>
              </a:path>
              <a:path w="1440" h="1911">
                <a:moveTo>
                  <a:pt x="9203" y="10170"/>
                </a:moveTo>
                <a:cubicBezTo>
                  <a:pt x="9129" y="10316"/>
                  <a:pt x="9041" y="10446"/>
                  <a:pt x="9054" y="10616"/>
                </a:cubicBezTo>
                <a:cubicBezTo>
                  <a:pt x="9068" y="10795"/>
                  <a:pt x="9244" y="10815"/>
                  <a:pt x="9376" y="10740"/>
                </a:cubicBezTo>
                <a:cubicBezTo>
                  <a:pt x="9499" y="10670"/>
                  <a:pt x="9545" y="10586"/>
                  <a:pt x="9599" y="10468"/>
                </a:cubicBezTo>
                <a:cubicBezTo>
                  <a:pt x="9458" y="10424"/>
                  <a:pt x="9335" y="10482"/>
                  <a:pt x="9252" y="10641"/>
                </a:cubicBezTo>
                <a:cubicBezTo>
                  <a:pt x="9193" y="10754"/>
                  <a:pt x="9390" y="10693"/>
                  <a:pt x="9401" y="10691"/>
                </a:cubicBezTo>
              </a:path>
              <a:path w="1440" h="1911">
                <a:moveTo>
                  <a:pt x="10120" y="9947"/>
                </a:moveTo>
                <a:cubicBezTo>
                  <a:pt x="10197" y="9938"/>
                  <a:pt x="10265" y="9922"/>
                  <a:pt x="10344" y="9922"/>
                </a:cubicBezTo>
              </a:path>
              <a:path w="1440" h="1911">
                <a:moveTo>
                  <a:pt x="9203" y="9451"/>
                </a:moveTo>
                <a:lnTo>
                  <a:pt x="9203" y="9451"/>
                </a:lnTo>
              </a:path>
              <a:path w="1440" h="1911">
                <a:moveTo>
                  <a:pt x="10244" y="10145"/>
                </a:moveTo>
                <a:cubicBezTo>
                  <a:pt x="10252" y="10145"/>
                  <a:pt x="10261" y="10145"/>
                  <a:pt x="10269" y="10145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197160"/>
            <a:ext cx="312480" cy="660600"/>
          </a:xfrm>
          <a:custGeom>
            <a:avLst/>
            <a:gdLst/>
            <a:ahLst/>
            <a:rect l="l" t="t" r="r" b="b"/>
            <a:pathLst>
              <a:path w="869" h="1837">
                <a:moveTo>
                  <a:pt x="11013" y="8930"/>
                </a:moveTo>
                <a:cubicBezTo>
                  <a:pt x="11132" y="8915"/>
                  <a:pt x="11321" y="8831"/>
                  <a:pt x="11435" y="8905"/>
                </a:cubicBezTo>
                <a:cubicBezTo>
                  <a:pt x="11443" y="8930"/>
                  <a:pt x="11452" y="8954"/>
                  <a:pt x="11460" y="8979"/>
                </a:cubicBezTo>
                <a:cubicBezTo>
                  <a:pt x="11401" y="9106"/>
                  <a:pt x="11307" y="9224"/>
                  <a:pt x="11137" y="9227"/>
                </a:cubicBezTo>
                <a:cubicBezTo>
                  <a:pt x="11154" y="9219"/>
                  <a:pt x="11170" y="9211"/>
                  <a:pt x="11187" y="9203"/>
                </a:cubicBezTo>
                <a:cubicBezTo>
                  <a:pt x="11348" y="9230"/>
                  <a:pt x="11409" y="9237"/>
                  <a:pt x="11534" y="9327"/>
                </a:cubicBezTo>
                <a:cubicBezTo>
                  <a:pt x="11499" y="9469"/>
                  <a:pt x="11403" y="9529"/>
                  <a:pt x="11237" y="9525"/>
                </a:cubicBezTo>
                <a:cubicBezTo>
                  <a:pt x="11204" y="9517"/>
                  <a:pt x="11170" y="9508"/>
                  <a:pt x="11137" y="9500"/>
                </a:cubicBezTo>
              </a:path>
              <a:path w="869" h="1837">
                <a:moveTo>
                  <a:pt x="10964" y="9872"/>
                </a:moveTo>
                <a:cubicBezTo>
                  <a:pt x="11240" y="9864"/>
                  <a:pt x="11507" y="9825"/>
                  <a:pt x="11782" y="9798"/>
                </a:cubicBezTo>
                <a:cubicBezTo>
                  <a:pt x="11834" y="9798"/>
                  <a:pt x="11850" y="9799"/>
                  <a:pt x="11807" y="9847"/>
                </a:cubicBezTo>
              </a:path>
              <a:path w="869" h="1837">
                <a:moveTo>
                  <a:pt x="11237" y="10120"/>
                </a:moveTo>
                <a:cubicBezTo>
                  <a:pt x="11173" y="10247"/>
                  <a:pt x="11070" y="10377"/>
                  <a:pt x="11038" y="10517"/>
                </a:cubicBezTo>
                <a:cubicBezTo>
                  <a:pt x="10983" y="10758"/>
                  <a:pt x="11226" y="10705"/>
                  <a:pt x="11361" y="10666"/>
                </a:cubicBezTo>
                <a:cubicBezTo>
                  <a:pt x="11552" y="10611"/>
                  <a:pt x="11644" y="10540"/>
                  <a:pt x="11609" y="10344"/>
                </a:cubicBezTo>
                <a:cubicBezTo>
                  <a:pt x="11478" y="10334"/>
                  <a:pt x="11325" y="10370"/>
                  <a:pt x="11311" y="10542"/>
                </a:cubicBezTo>
                <a:cubicBezTo>
                  <a:pt x="11319" y="10559"/>
                  <a:pt x="11328" y="10575"/>
                  <a:pt x="11336" y="10592"/>
                </a:cubicBezTo>
              </a:path>
              <a:path w="869" h="1837">
                <a:moveTo>
                  <a:pt x="11385" y="9475"/>
                </a:moveTo>
                <a:cubicBezTo>
                  <a:pt x="11361" y="9475"/>
                  <a:pt x="11353" y="9475"/>
                  <a:pt x="11361" y="950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8000" y="346392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2551" y="9798"/>
                </a:moveTo>
                <a:cubicBezTo>
                  <a:pt x="12622" y="9770"/>
                  <a:pt x="12696" y="9703"/>
                  <a:pt x="12774" y="9674"/>
                </a:cubicBezTo>
                <a:cubicBezTo>
                  <a:pt x="12866" y="9651"/>
                  <a:pt x="12891" y="9645"/>
                  <a:pt x="12948" y="9624"/>
                </a:cubicBezTo>
              </a:path>
              <a:path w="448" h="249">
                <a:moveTo>
                  <a:pt x="12675" y="9872"/>
                </a:moveTo>
                <a:cubicBezTo>
                  <a:pt x="12774" y="9842"/>
                  <a:pt x="12874" y="9801"/>
                  <a:pt x="12973" y="9773"/>
                </a:cubicBezTo>
                <a:cubicBezTo>
                  <a:pt x="12981" y="9773"/>
                  <a:pt x="12990" y="9773"/>
                  <a:pt x="12998" y="97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83120" y="2946240"/>
            <a:ext cx="401760" cy="831960"/>
          </a:xfrm>
          <a:custGeom>
            <a:avLst/>
            <a:gdLst/>
            <a:ahLst/>
            <a:rect l="l" t="t" r="r" b="b"/>
            <a:pathLst>
              <a:path w="1117" h="2307">
                <a:moveTo>
                  <a:pt x="14312" y="8186"/>
                </a:moveTo>
                <a:cubicBezTo>
                  <a:pt x="14330" y="8400"/>
                  <a:pt x="14343" y="8617"/>
                  <a:pt x="14362" y="8830"/>
                </a:cubicBezTo>
                <a:cubicBezTo>
                  <a:pt x="14372" y="8940"/>
                  <a:pt x="14387" y="9021"/>
                  <a:pt x="14387" y="9128"/>
                </a:cubicBezTo>
              </a:path>
              <a:path w="1117" h="2307">
                <a:moveTo>
                  <a:pt x="13841" y="9376"/>
                </a:moveTo>
                <a:cubicBezTo>
                  <a:pt x="14096" y="9346"/>
                  <a:pt x="14361" y="9271"/>
                  <a:pt x="14610" y="9203"/>
                </a:cubicBezTo>
                <a:cubicBezTo>
                  <a:pt x="14728" y="9171"/>
                  <a:pt x="14737" y="9153"/>
                  <a:pt x="14833" y="9153"/>
                </a:cubicBezTo>
              </a:path>
              <a:path w="1117" h="2307">
                <a:moveTo>
                  <a:pt x="14362" y="9674"/>
                </a:moveTo>
                <a:cubicBezTo>
                  <a:pt x="14304" y="9655"/>
                  <a:pt x="14343" y="9625"/>
                  <a:pt x="14312" y="9699"/>
                </a:cubicBezTo>
                <a:cubicBezTo>
                  <a:pt x="14247" y="9855"/>
                  <a:pt x="14205" y="10025"/>
                  <a:pt x="14188" y="10195"/>
                </a:cubicBezTo>
                <a:cubicBezTo>
                  <a:pt x="14178" y="10301"/>
                  <a:pt x="14212" y="10412"/>
                  <a:pt x="14312" y="10468"/>
                </a:cubicBezTo>
                <a:cubicBezTo>
                  <a:pt x="14442" y="10541"/>
                  <a:pt x="14605" y="10408"/>
                  <a:pt x="14709" y="10344"/>
                </a:cubicBezTo>
                <a:cubicBezTo>
                  <a:pt x="14833" y="10267"/>
                  <a:pt x="14864" y="10187"/>
                  <a:pt x="14932" y="10071"/>
                </a:cubicBezTo>
                <a:cubicBezTo>
                  <a:pt x="14940" y="10063"/>
                  <a:pt x="14949" y="10054"/>
                  <a:pt x="14957" y="10046"/>
                </a:cubicBezTo>
                <a:cubicBezTo>
                  <a:pt x="14854" y="10007"/>
                  <a:pt x="14759" y="10004"/>
                  <a:pt x="14660" y="10071"/>
                </a:cubicBezTo>
                <a:cubicBezTo>
                  <a:pt x="14529" y="10159"/>
                  <a:pt x="14521" y="10285"/>
                  <a:pt x="14536" y="10418"/>
                </a:cubicBezTo>
                <a:cubicBezTo>
                  <a:pt x="14536" y="10443"/>
                  <a:pt x="14536" y="10451"/>
                  <a:pt x="14536" y="1041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00080" y="4626000"/>
            <a:ext cx="473040" cy="768240"/>
          </a:xfrm>
          <a:custGeom>
            <a:avLst/>
            <a:gdLst/>
            <a:ahLst/>
            <a:rect l="l" t="t" r="r" b="b"/>
            <a:pathLst>
              <a:path w="1316" h="2134">
                <a:moveTo>
                  <a:pt x="3076" y="14412"/>
                </a:moveTo>
                <a:cubicBezTo>
                  <a:pt x="3167" y="14397"/>
                  <a:pt x="3260" y="14366"/>
                  <a:pt x="3349" y="14337"/>
                </a:cubicBezTo>
                <a:cubicBezTo>
                  <a:pt x="3400" y="14321"/>
                  <a:pt x="3447" y="14298"/>
                  <a:pt x="3497" y="14288"/>
                </a:cubicBezTo>
                <a:cubicBezTo>
                  <a:pt x="3509" y="14472"/>
                  <a:pt x="3512" y="14624"/>
                  <a:pt x="3473" y="14808"/>
                </a:cubicBezTo>
                <a:cubicBezTo>
                  <a:pt x="3454" y="14883"/>
                  <a:pt x="3420" y="14916"/>
                  <a:pt x="3473" y="14908"/>
                </a:cubicBezTo>
              </a:path>
              <a:path w="1316" h="2134">
                <a:moveTo>
                  <a:pt x="3671" y="14461"/>
                </a:moveTo>
                <a:cubicBezTo>
                  <a:pt x="3746" y="14403"/>
                  <a:pt x="3809" y="14358"/>
                  <a:pt x="3894" y="14387"/>
                </a:cubicBezTo>
                <a:cubicBezTo>
                  <a:pt x="3882" y="14574"/>
                  <a:pt x="3847" y="14745"/>
                  <a:pt x="3746" y="14908"/>
                </a:cubicBezTo>
                <a:cubicBezTo>
                  <a:pt x="3704" y="14949"/>
                  <a:pt x="3679" y="14957"/>
                  <a:pt x="3721" y="14982"/>
                </a:cubicBezTo>
                <a:cubicBezTo>
                  <a:pt x="3848" y="14918"/>
                  <a:pt x="3966" y="14843"/>
                  <a:pt x="4093" y="14784"/>
                </a:cubicBezTo>
              </a:path>
              <a:path w="1316" h="2134">
                <a:moveTo>
                  <a:pt x="3696" y="13146"/>
                </a:moveTo>
                <a:cubicBezTo>
                  <a:pt x="3739" y="13126"/>
                  <a:pt x="3798" y="13245"/>
                  <a:pt x="3820" y="13320"/>
                </a:cubicBezTo>
                <a:cubicBezTo>
                  <a:pt x="3820" y="13353"/>
                  <a:pt x="3820" y="13353"/>
                  <a:pt x="3820" y="13295"/>
                </a:cubicBezTo>
              </a:path>
              <a:path w="1316" h="2134">
                <a:moveTo>
                  <a:pt x="3770" y="13047"/>
                </a:moveTo>
                <a:cubicBezTo>
                  <a:pt x="3755" y="13157"/>
                  <a:pt x="3745" y="13288"/>
                  <a:pt x="3721" y="13395"/>
                </a:cubicBezTo>
                <a:cubicBezTo>
                  <a:pt x="3701" y="13435"/>
                  <a:pt x="3692" y="13441"/>
                  <a:pt x="3696" y="13469"/>
                </a:cubicBezTo>
              </a:path>
              <a:path w="1316" h="2134">
                <a:moveTo>
                  <a:pt x="3572" y="13568"/>
                </a:moveTo>
                <a:cubicBezTo>
                  <a:pt x="3597" y="13568"/>
                  <a:pt x="3605" y="13568"/>
                  <a:pt x="3597" y="13543"/>
                </a:cubicBezTo>
                <a:cubicBezTo>
                  <a:pt x="3579" y="13491"/>
                  <a:pt x="3498" y="13524"/>
                  <a:pt x="3448" y="13543"/>
                </a:cubicBezTo>
                <a:cubicBezTo>
                  <a:pt x="3431" y="13551"/>
                  <a:pt x="3415" y="13560"/>
                  <a:pt x="3398" y="13568"/>
                </a:cubicBezTo>
                <a:cubicBezTo>
                  <a:pt x="3398" y="13616"/>
                  <a:pt x="3417" y="13644"/>
                  <a:pt x="3473" y="13667"/>
                </a:cubicBezTo>
                <a:cubicBezTo>
                  <a:pt x="3519" y="13686"/>
                  <a:pt x="3697" y="13722"/>
                  <a:pt x="3597" y="13816"/>
                </a:cubicBezTo>
                <a:cubicBezTo>
                  <a:pt x="3537" y="13856"/>
                  <a:pt x="3525" y="13860"/>
                  <a:pt x="3497" y="13891"/>
                </a:cubicBezTo>
                <a:cubicBezTo>
                  <a:pt x="3506" y="13806"/>
                  <a:pt x="3539" y="13726"/>
                  <a:pt x="3547" y="13643"/>
                </a:cubicBezTo>
                <a:cubicBezTo>
                  <a:pt x="3547" y="13610"/>
                  <a:pt x="3547" y="13593"/>
                  <a:pt x="3547" y="13568"/>
                </a:cubicBezTo>
              </a:path>
              <a:path w="1316" h="2134">
                <a:moveTo>
                  <a:pt x="3349" y="13395"/>
                </a:moveTo>
                <a:cubicBezTo>
                  <a:pt x="3369" y="13314"/>
                  <a:pt x="3454" y="13331"/>
                  <a:pt x="3497" y="13295"/>
                </a:cubicBezTo>
                <a:cubicBezTo>
                  <a:pt x="3505" y="13279"/>
                  <a:pt x="3514" y="13262"/>
                  <a:pt x="3522" y="13246"/>
                </a:cubicBezTo>
              </a:path>
              <a:path w="1316" h="2134">
                <a:moveTo>
                  <a:pt x="3274" y="12849"/>
                </a:moveTo>
                <a:cubicBezTo>
                  <a:pt x="3197" y="12849"/>
                  <a:pt x="3157" y="12931"/>
                  <a:pt x="3125" y="12998"/>
                </a:cubicBezTo>
                <a:cubicBezTo>
                  <a:pt x="3125" y="13006"/>
                  <a:pt x="3125" y="13014"/>
                  <a:pt x="3125" y="13022"/>
                </a:cubicBezTo>
                <a:cubicBezTo>
                  <a:pt x="3193" y="13040"/>
                  <a:pt x="3376" y="13024"/>
                  <a:pt x="3423" y="13097"/>
                </a:cubicBezTo>
                <a:cubicBezTo>
                  <a:pt x="3457" y="13150"/>
                  <a:pt x="3352" y="13218"/>
                  <a:pt x="3324" y="13246"/>
                </a:cubicBezTo>
                <a:cubicBezTo>
                  <a:pt x="3324" y="13128"/>
                  <a:pt x="3372" y="13037"/>
                  <a:pt x="3398" y="12923"/>
                </a:cubicBezTo>
                <a:cubicBezTo>
                  <a:pt x="3398" y="12915"/>
                  <a:pt x="3398" y="12906"/>
                  <a:pt x="3398" y="12898"/>
                </a:cubicBezTo>
              </a:path>
              <a:path w="1316" h="2134">
                <a:moveTo>
                  <a:pt x="3001" y="14288"/>
                </a:moveTo>
                <a:cubicBezTo>
                  <a:pt x="2864" y="14288"/>
                  <a:pt x="3215" y="14217"/>
                  <a:pt x="3349" y="14188"/>
                </a:cubicBezTo>
                <a:cubicBezTo>
                  <a:pt x="3563" y="14141"/>
                  <a:pt x="3788" y="14108"/>
                  <a:pt x="3994" y="14039"/>
                </a:cubicBezTo>
              </a:path>
              <a:path w="1316" h="2134">
                <a:moveTo>
                  <a:pt x="2927" y="13841"/>
                </a:moveTo>
                <a:lnTo>
                  <a:pt x="2927" y="13841"/>
                </a:lnTo>
              </a:path>
              <a:path w="1316" h="2134">
                <a:moveTo>
                  <a:pt x="3001" y="13692"/>
                </a:moveTo>
                <a:cubicBezTo>
                  <a:pt x="2927" y="13717"/>
                  <a:pt x="2828" y="13803"/>
                  <a:pt x="2778" y="13866"/>
                </a:cubicBezTo>
                <a:cubicBezTo>
                  <a:pt x="2748" y="13904"/>
                  <a:pt x="2813" y="14080"/>
                  <a:pt x="2828" y="14114"/>
                </a:cubicBezTo>
                <a:cubicBezTo>
                  <a:pt x="2836" y="14122"/>
                  <a:pt x="2845" y="14131"/>
                  <a:pt x="2853" y="14139"/>
                </a:cubicBezTo>
                <a:cubicBezTo>
                  <a:pt x="2891" y="14023"/>
                  <a:pt x="2993" y="13925"/>
                  <a:pt x="3125" y="13915"/>
                </a:cubicBezTo>
                <a:cubicBezTo>
                  <a:pt x="3142" y="13923"/>
                  <a:pt x="3158" y="13932"/>
                  <a:pt x="3175" y="13940"/>
                </a:cubicBezTo>
                <a:cubicBezTo>
                  <a:pt x="3200" y="14100"/>
                  <a:pt x="3165" y="14214"/>
                  <a:pt x="3001" y="14288"/>
                </a:cubicBezTo>
                <a:cubicBezTo>
                  <a:pt x="2884" y="14316"/>
                  <a:pt x="2836" y="14313"/>
                  <a:pt x="2778" y="14213"/>
                </a:cubicBezTo>
              </a:path>
              <a:path w="1316" h="2134">
                <a:moveTo>
                  <a:pt x="3076" y="13568"/>
                </a:moveTo>
                <a:cubicBezTo>
                  <a:pt x="3104" y="13681"/>
                  <a:pt x="3176" y="13873"/>
                  <a:pt x="3249" y="13965"/>
                </a:cubicBezTo>
                <a:cubicBezTo>
                  <a:pt x="3360" y="14103"/>
                  <a:pt x="3510" y="13957"/>
                  <a:pt x="3547" y="13841"/>
                </a:cubicBezTo>
                <a:cubicBezTo>
                  <a:pt x="3547" y="13808"/>
                  <a:pt x="3547" y="13775"/>
                  <a:pt x="3547" y="13742"/>
                </a:cubicBezTo>
                <a:cubicBezTo>
                  <a:pt x="3471" y="13842"/>
                  <a:pt x="3512" y="13972"/>
                  <a:pt x="3522" y="140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441180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6499" y="13047"/>
                </a:moveTo>
                <a:cubicBezTo>
                  <a:pt x="6520" y="13138"/>
                  <a:pt x="6542" y="13382"/>
                  <a:pt x="6598" y="13444"/>
                </a:cubicBezTo>
                <a:cubicBezTo>
                  <a:pt x="6606" y="13436"/>
                  <a:pt x="6615" y="13427"/>
                  <a:pt x="6623" y="13419"/>
                </a:cubicBezTo>
              </a:path>
              <a:path w="1787" h="1365">
                <a:moveTo>
                  <a:pt x="6648" y="13022"/>
                </a:moveTo>
                <a:cubicBezTo>
                  <a:pt x="6625" y="13160"/>
                  <a:pt x="6582" y="13306"/>
                  <a:pt x="6548" y="13444"/>
                </a:cubicBezTo>
                <a:cubicBezTo>
                  <a:pt x="6528" y="13505"/>
                  <a:pt x="6531" y="13520"/>
                  <a:pt x="6499" y="13543"/>
                </a:cubicBezTo>
              </a:path>
              <a:path w="1787" h="1365">
                <a:moveTo>
                  <a:pt x="7218" y="13271"/>
                </a:moveTo>
                <a:cubicBezTo>
                  <a:pt x="7218" y="13182"/>
                  <a:pt x="7180" y="13146"/>
                  <a:pt x="7094" y="13122"/>
                </a:cubicBezTo>
                <a:cubicBezTo>
                  <a:pt x="6955" y="13083"/>
                  <a:pt x="6951" y="13291"/>
                  <a:pt x="6945" y="13370"/>
                </a:cubicBezTo>
                <a:cubicBezTo>
                  <a:pt x="7101" y="13387"/>
                  <a:pt x="7097" y="13275"/>
                  <a:pt x="7193" y="13171"/>
                </a:cubicBezTo>
                <a:cubicBezTo>
                  <a:pt x="7201" y="13171"/>
                  <a:pt x="7210" y="13171"/>
                  <a:pt x="7218" y="13171"/>
                </a:cubicBezTo>
                <a:cubicBezTo>
                  <a:pt x="7218" y="13297"/>
                  <a:pt x="7197" y="13417"/>
                  <a:pt x="7193" y="13543"/>
                </a:cubicBezTo>
                <a:cubicBezTo>
                  <a:pt x="7193" y="13568"/>
                  <a:pt x="7193" y="13593"/>
                  <a:pt x="7193" y="13618"/>
                </a:cubicBezTo>
              </a:path>
              <a:path w="1787" h="1365">
                <a:moveTo>
                  <a:pt x="6945" y="13047"/>
                </a:moveTo>
                <a:cubicBezTo>
                  <a:pt x="6987" y="12978"/>
                  <a:pt x="7065" y="12958"/>
                  <a:pt x="7144" y="12923"/>
                </a:cubicBezTo>
              </a:path>
              <a:path w="1787" h="1365">
                <a:moveTo>
                  <a:pt x="6970" y="12378"/>
                </a:moveTo>
                <a:cubicBezTo>
                  <a:pt x="6939" y="12354"/>
                  <a:pt x="6927" y="12352"/>
                  <a:pt x="6896" y="12328"/>
                </a:cubicBezTo>
                <a:cubicBezTo>
                  <a:pt x="6808" y="12438"/>
                  <a:pt x="6780" y="12489"/>
                  <a:pt x="6821" y="12626"/>
                </a:cubicBezTo>
                <a:cubicBezTo>
                  <a:pt x="6913" y="12609"/>
                  <a:pt x="6980" y="12579"/>
                  <a:pt x="7020" y="12477"/>
                </a:cubicBezTo>
                <a:cubicBezTo>
                  <a:pt x="7020" y="12469"/>
                  <a:pt x="7020" y="12460"/>
                  <a:pt x="7020" y="12452"/>
                </a:cubicBezTo>
                <a:cubicBezTo>
                  <a:pt x="7020" y="12562"/>
                  <a:pt x="7064" y="12669"/>
                  <a:pt x="7094" y="12774"/>
                </a:cubicBezTo>
                <a:cubicBezTo>
                  <a:pt x="7115" y="12848"/>
                  <a:pt x="7119" y="12853"/>
                  <a:pt x="7119" y="12923"/>
                </a:cubicBezTo>
              </a:path>
              <a:path w="1787" h="1365">
                <a:moveTo>
                  <a:pt x="7590" y="13271"/>
                </a:moveTo>
                <a:cubicBezTo>
                  <a:pt x="7751" y="13198"/>
                  <a:pt x="7916" y="13167"/>
                  <a:pt x="8086" y="13122"/>
                </a:cubicBezTo>
                <a:cubicBezTo>
                  <a:pt x="8169" y="13101"/>
                  <a:pt x="8184" y="13093"/>
                  <a:pt x="8235" y="13097"/>
                </a:cubicBezTo>
              </a:path>
              <a:path w="1787" h="1365">
                <a:moveTo>
                  <a:pt x="7689" y="12452"/>
                </a:moveTo>
                <a:cubicBezTo>
                  <a:pt x="7643" y="12460"/>
                  <a:pt x="7588" y="12516"/>
                  <a:pt x="7565" y="12576"/>
                </a:cubicBezTo>
                <a:cubicBezTo>
                  <a:pt x="7565" y="12621"/>
                  <a:pt x="7569" y="12634"/>
                  <a:pt x="7541" y="12650"/>
                </a:cubicBezTo>
                <a:cubicBezTo>
                  <a:pt x="7660" y="12650"/>
                  <a:pt x="7717" y="12612"/>
                  <a:pt x="7838" y="12675"/>
                </a:cubicBezTo>
                <a:cubicBezTo>
                  <a:pt x="7950" y="12733"/>
                  <a:pt x="7909" y="12854"/>
                  <a:pt x="7813" y="12898"/>
                </a:cubicBezTo>
                <a:cubicBezTo>
                  <a:pt x="7687" y="12956"/>
                  <a:pt x="7664" y="12906"/>
                  <a:pt x="7590" y="12824"/>
                </a:cubicBezTo>
              </a:path>
              <a:path w="1787" h="1365">
                <a:moveTo>
                  <a:pt x="7640" y="12526"/>
                </a:moveTo>
                <a:cubicBezTo>
                  <a:pt x="7723" y="12417"/>
                  <a:pt x="7812" y="12402"/>
                  <a:pt x="7938" y="12353"/>
                </a:cubicBezTo>
                <a:cubicBezTo>
                  <a:pt x="7989" y="12333"/>
                  <a:pt x="8001" y="12337"/>
                  <a:pt x="8012" y="12303"/>
                </a:cubicBezTo>
                <a:cubicBezTo>
                  <a:pt x="8022" y="12326"/>
                  <a:pt x="8039" y="12518"/>
                  <a:pt x="8062" y="12526"/>
                </a:cubicBezTo>
                <a:cubicBezTo>
                  <a:pt x="8148" y="12526"/>
                  <a:pt x="8184" y="12521"/>
                  <a:pt x="8235" y="12477"/>
                </a:cubicBezTo>
              </a:path>
              <a:path w="1787" h="1365">
                <a:moveTo>
                  <a:pt x="8260" y="12254"/>
                </a:moveTo>
                <a:cubicBezTo>
                  <a:pt x="8260" y="12442"/>
                  <a:pt x="8240" y="12645"/>
                  <a:pt x="8285" y="1282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2920" y="5054760"/>
            <a:ext cx="322200" cy="25848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6896" y="14263"/>
                </a:moveTo>
                <a:cubicBezTo>
                  <a:pt x="6956" y="14248"/>
                  <a:pt x="7035" y="14193"/>
                  <a:pt x="7094" y="14163"/>
                </a:cubicBezTo>
                <a:cubicBezTo>
                  <a:pt x="7165" y="14127"/>
                  <a:pt x="7217" y="14102"/>
                  <a:pt x="7293" y="14089"/>
                </a:cubicBezTo>
                <a:cubicBezTo>
                  <a:pt x="7272" y="14238"/>
                  <a:pt x="7223" y="14384"/>
                  <a:pt x="7193" y="14536"/>
                </a:cubicBezTo>
                <a:cubicBezTo>
                  <a:pt x="7187" y="14568"/>
                  <a:pt x="7120" y="14785"/>
                  <a:pt x="7193" y="14734"/>
                </a:cubicBezTo>
              </a:path>
              <a:path w="894" h="721">
                <a:moveTo>
                  <a:pt x="7417" y="14114"/>
                </a:moveTo>
                <a:cubicBezTo>
                  <a:pt x="7517" y="14063"/>
                  <a:pt x="7578" y="14039"/>
                  <a:pt x="7689" y="14039"/>
                </a:cubicBezTo>
                <a:cubicBezTo>
                  <a:pt x="7719" y="14174"/>
                  <a:pt x="7638" y="14290"/>
                  <a:pt x="7565" y="14412"/>
                </a:cubicBezTo>
                <a:cubicBezTo>
                  <a:pt x="7516" y="14494"/>
                  <a:pt x="7496" y="14476"/>
                  <a:pt x="7541" y="14536"/>
                </a:cubicBezTo>
                <a:cubicBezTo>
                  <a:pt x="7629" y="14491"/>
                  <a:pt x="7713" y="14450"/>
                  <a:pt x="7789" y="143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920" y="3125880"/>
            <a:ext cx="5207040" cy="2367000"/>
          </a:xfrm>
          <a:custGeom>
            <a:avLst/>
            <a:gdLst/>
            <a:ahLst/>
            <a:rect l="l" t="t" r="r" b="b"/>
            <a:pathLst>
              <a:path w="14462" h="6574">
                <a:moveTo>
                  <a:pt x="10244" y="12402"/>
                </a:moveTo>
                <a:cubicBezTo>
                  <a:pt x="10392" y="12317"/>
                  <a:pt x="10065" y="12495"/>
                  <a:pt x="10046" y="12502"/>
                </a:cubicBezTo>
                <a:cubicBezTo>
                  <a:pt x="9879" y="12561"/>
                  <a:pt x="9930" y="12554"/>
                  <a:pt x="9947" y="12725"/>
                </a:cubicBezTo>
                <a:cubicBezTo>
                  <a:pt x="9947" y="12793"/>
                  <a:pt x="9944" y="12812"/>
                  <a:pt x="9971" y="12849"/>
                </a:cubicBezTo>
                <a:cubicBezTo>
                  <a:pt x="10076" y="12823"/>
                  <a:pt x="10175" y="12751"/>
                  <a:pt x="10294" y="12725"/>
                </a:cubicBezTo>
                <a:cubicBezTo>
                  <a:pt x="10474" y="12686"/>
                  <a:pt x="10506" y="12677"/>
                  <a:pt x="10592" y="12799"/>
                </a:cubicBezTo>
                <a:cubicBezTo>
                  <a:pt x="10532" y="12859"/>
                  <a:pt x="10184" y="13113"/>
                  <a:pt x="10096" y="12948"/>
                </a:cubicBezTo>
                <a:cubicBezTo>
                  <a:pt x="10104" y="12898"/>
                  <a:pt x="10112" y="12849"/>
                  <a:pt x="10120" y="12799"/>
                </a:cubicBezTo>
              </a:path>
              <a:path w="14462" h="6574">
                <a:moveTo>
                  <a:pt x="10641" y="12204"/>
                </a:moveTo>
                <a:cubicBezTo>
                  <a:pt x="10688" y="12365"/>
                  <a:pt x="10696" y="12511"/>
                  <a:pt x="10716" y="12675"/>
                </a:cubicBezTo>
                <a:cubicBezTo>
                  <a:pt x="10736" y="12840"/>
                  <a:pt x="10783" y="12972"/>
                  <a:pt x="10964" y="12923"/>
                </a:cubicBezTo>
                <a:cubicBezTo>
                  <a:pt x="11134" y="12877"/>
                  <a:pt x="11220" y="12762"/>
                  <a:pt x="11187" y="12601"/>
                </a:cubicBezTo>
                <a:cubicBezTo>
                  <a:pt x="11020" y="12630"/>
                  <a:pt x="10894" y="12688"/>
                  <a:pt x="10840" y="12874"/>
                </a:cubicBezTo>
                <a:cubicBezTo>
                  <a:pt x="10840" y="12899"/>
                  <a:pt x="10840" y="12923"/>
                  <a:pt x="10840" y="12948"/>
                </a:cubicBezTo>
              </a:path>
              <a:path w="14462" h="6574">
                <a:moveTo>
                  <a:pt x="10071" y="13246"/>
                </a:moveTo>
                <a:cubicBezTo>
                  <a:pt x="10402" y="13208"/>
                  <a:pt x="10730" y="13176"/>
                  <a:pt x="11063" y="13171"/>
                </a:cubicBezTo>
                <a:cubicBezTo>
                  <a:pt x="11174" y="13171"/>
                  <a:pt x="11197" y="13198"/>
                  <a:pt x="11237" y="13146"/>
                </a:cubicBezTo>
              </a:path>
              <a:path w="14462" h="6574">
                <a:moveTo>
                  <a:pt x="10195" y="13618"/>
                </a:moveTo>
                <a:cubicBezTo>
                  <a:pt x="10333" y="13587"/>
                  <a:pt x="10469" y="13504"/>
                  <a:pt x="10616" y="13519"/>
                </a:cubicBezTo>
                <a:cubicBezTo>
                  <a:pt x="10633" y="13527"/>
                  <a:pt x="10649" y="13535"/>
                  <a:pt x="10666" y="13543"/>
                </a:cubicBezTo>
                <a:cubicBezTo>
                  <a:pt x="10648" y="13728"/>
                  <a:pt x="10591" y="13902"/>
                  <a:pt x="10567" y="14089"/>
                </a:cubicBezTo>
                <a:cubicBezTo>
                  <a:pt x="10567" y="14146"/>
                  <a:pt x="10572" y="14158"/>
                  <a:pt x="10616" y="14089"/>
                </a:cubicBezTo>
              </a:path>
              <a:path w="14462" h="6574">
                <a:moveTo>
                  <a:pt x="10964" y="13419"/>
                </a:moveTo>
                <a:cubicBezTo>
                  <a:pt x="11027" y="13419"/>
                  <a:pt x="11271" y="13396"/>
                  <a:pt x="11311" y="13469"/>
                </a:cubicBezTo>
                <a:cubicBezTo>
                  <a:pt x="11389" y="13613"/>
                  <a:pt x="11190" y="13807"/>
                  <a:pt x="11112" y="13891"/>
                </a:cubicBezTo>
                <a:cubicBezTo>
                  <a:pt x="11096" y="13907"/>
                  <a:pt x="11079" y="13924"/>
                  <a:pt x="11063" y="13940"/>
                </a:cubicBezTo>
                <a:cubicBezTo>
                  <a:pt x="11197" y="13913"/>
                  <a:pt x="11339" y="13861"/>
                  <a:pt x="11460" y="13791"/>
                </a:cubicBezTo>
                <a:cubicBezTo>
                  <a:pt x="11493" y="13766"/>
                  <a:pt x="11526" y="13742"/>
                  <a:pt x="11559" y="13717"/>
                </a:cubicBezTo>
              </a:path>
              <a:path w="14462" h="6574">
                <a:moveTo>
                  <a:pt x="12055" y="12675"/>
                </a:moveTo>
                <a:cubicBezTo>
                  <a:pt x="12110" y="12799"/>
                  <a:pt x="12141" y="12937"/>
                  <a:pt x="12154" y="13072"/>
                </a:cubicBezTo>
                <a:cubicBezTo>
                  <a:pt x="12154" y="13156"/>
                  <a:pt x="12167" y="13183"/>
                  <a:pt x="12105" y="13196"/>
                </a:cubicBezTo>
              </a:path>
              <a:path w="14462" h="6574">
                <a:moveTo>
                  <a:pt x="12005" y="13022"/>
                </a:moveTo>
                <a:cubicBezTo>
                  <a:pt x="12153" y="12962"/>
                  <a:pt x="12298" y="12912"/>
                  <a:pt x="12452" y="12874"/>
                </a:cubicBezTo>
              </a:path>
              <a:path w="14462" h="6574">
                <a:moveTo>
                  <a:pt x="13419" y="11981"/>
                </a:moveTo>
                <a:cubicBezTo>
                  <a:pt x="13374" y="11999"/>
                  <a:pt x="13320" y="12067"/>
                  <a:pt x="13271" y="12080"/>
                </a:cubicBezTo>
                <a:cubicBezTo>
                  <a:pt x="13161" y="12110"/>
                  <a:pt x="13212" y="12083"/>
                  <a:pt x="13171" y="12229"/>
                </a:cubicBezTo>
                <a:cubicBezTo>
                  <a:pt x="13150" y="12304"/>
                  <a:pt x="13146" y="12307"/>
                  <a:pt x="13146" y="12378"/>
                </a:cubicBezTo>
                <a:cubicBezTo>
                  <a:pt x="13228" y="12357"/>
                  <a:pt x="13330" y="12291"/>
                  <a:pt x="13419" y="12278"/>
                </a:cubicBezTo>
                <a:cubicBezTo>
                  <a:pt x="13555" y="12278"/>
                  <a:pt x="13594" y="12272"/>
                  <a:pt x="13667" y="12328"/>
                </a:cubicBezTo>
                <a:cubicBezTo>
                  <a:pt x="13635" y="12493"/>
                  <a:pt x="13544" y="12568"/>
                  <a:pt x="13370" y="12601"/>
                </a:cubicBezTo>
                <a:cubicBezTo>
                  <a:pt x="13147" y="12644"/>
                  <a:pt x="13220" y="12511"/>
                  <a:pt x="13246" y="12378"/>
                </a:cubicBezTo>
              </a:path>
              <a:path w="14462" h="6574">
                <a:moveTo>
                  <a:pt x="13816" y="11981"/>
                </a:moveTo>
                <a:cubicBezTo>
                  <a:pt x="13830" y="12069"/>
                  <a:pt x="13814" y="12307"/>
                  <a:pt x="13915" y="12353"/>
                </a:cubicBezTo>
                <a:cubicBezTo>
                  <a:pt x="13995" y="12353"/>
                  <a:pt x="14024" y="12350"/>
                  <a:pt x="14064" y="12303"/>
                </a:cubicBezTo>
              </a:path>
              <a:path w="14462" h="6574">
                <a:moveTo>
                  <a:pt x="14064" y="11857"/>
                </a:moveTo>
                <a:cubicBezTo>
                  <a:pt x="14064" y="12015"/>
                  <a:pt x="14086" y="12169"/>
                  <a:pt x="14089" y="12328"/>
                </a:cubicBezTo>
                <a:cubicBezTo>
                  <a:pt x="14091" y="12438"/>
                  <a:pt x="14079" y="12502"/>
                  <a:pt x="14039" y="12601"/>
                </a:cubicBezTo>
              </a:path>
              <a:path w="14462" h="6574">
                <a:moveTo>
                  <a:pt x="13171" y="13047"/>
                </a:moveTo>
                <a:cubicBezTo>
                  <a:pt x="13468" y="12924"/>
                  <a:pt x="13749" y="12882"/>
                  <a:pt x="14064" y="12824"/>
                </a:cubicBezTo>
                <a:cubicBezTo>
                  <a:pt x="14138" y="12805"/>
                  <a:pt x="14145" y="12797"/>
                  <a:pt x="14188" y="12799"/>
                </a:cubicBezTo>
              </a:path>
              <a:path w="14462" h="6574">
                <a:moveTo>
                  <a:pt x="13271" y="13395"/>
                </a:moveTo>
                <a:cubicBezTo>
                  <a:pt x="13366" y="13379"/>
                  <a:pt x="13441" y="13364"/>
                  <a:pt x="13568" y="13370"/>
                </a:cubicBezTo>
                <a:cubicBezTo>
                  <a:pt x="13741" y="13379"/>
                  <a:pt x="13744" y="13446"/>
                  <a:pt x="13667" y="13593"/>
                </a:cubicBezTo>
                <a:cubicBezTo>
                  <a:pt x="13587" y="13745"/>
                  <a:pt x="13504" y="13840"/>
                  <a:pt x="13494" y="14015"/>
                </a:cubicBezTo>
                <a:cubicBezTo>
                  <a:pt x="13494" y="14054"/>
                  <a:pt x="13505" y="14051"/>
                  <a:pt x="13543" y="13990"/>
                </a:cubicBezTo>
              </a:path>
              <a:path w="14462" h="6574">
                <a:moveTo>
                  <a:pt x="13965" y="13345"/>
                </a:moveTo>
                <a:cubicBezTo>
                  <a:pt x="14097" y="13307"/>
                  <a:pt x="14191" y="13262"/>
                  <a:pt x="14288" y="13345"/>
                </a:cubicBezTo>
                <a:cubicBezTo>
                  <a:pt x="14251" y="13503"/>
                  <a:pt x="14154" y="13619"/>
                  <a:pt x="14039" y="13742"/>
                </a:cubicBezTo>
                <a:cubicBezTo>
                  <a:pt x="14000" y="13781"/>
                  <a:pt x="13984" y="13782"/>
                  <a:pt x="13990" y="13816"/>
                </a:cubicBezTo>
                <a:cubicBezTo>
                  <a:pt x="14137" y="13826"/>
                  <a:pt x="14302" y="13798"/>
                  <a:pt x="14436" y="13717"/>
                </a:cubicBezTo>
                <a:cubicBezTo>
                  <a:pt x="14444" y="13709"/>
                  <a:pt x="14453" y="13700"/>
                  <a:pt x="14461" y="13692"/>
                </a:cubicBezTo>
              </a:path>
              <a:path w="14462" h="6574">
                <a:moveTo>
                  <a:pt x="14957" y="12849"/>
                </a:moveTo>
                <a:cubicBezTo>
                  <a:pt x="15074" y="12826"/>
                  <a:pt x="15183" y="12824"/>
                  <a:pt x="15304" y="12824"/>
                </a:cubicBezTo>
              </a:path>
              <a:path w="14462" h="6574">
                <a:moveTo>
                  <a:pt x="15081" y="13022"/>
                </a:moveTo>
                <a:cubicBezTo>
                  <a:pt x="15199" y="13016"/>
                  <a:pt x="15291" y="13005"/>
                  <a:pt x="15404" y="12973"/>
                </a:cubicBezTo>
              </a:path>
              <a:path w="14462" h="6574">
                <a:moveTo>
                  <a:pt x="16197" y="11857"/>
                </a:moveTo>
                <a:cubicBezTo>
                  <a:pt x="16150" y="11889"/>
                  <a:pt x="16156" y="12186"/>
                  <a:pt x="16148" y="12254"/>
                </a:cubicBezTo>
                <a:cubicBezTo>
                  <a:pt x="16133" y="12388"/>
                  <a:pt x="16108" y="12517"/>
                  <a:pt x="16098" y="12650"/>
                </a:cubicBezTo>
              </a:path>
              <a:path w="14462" h="6574">
                <a:moveTo>
                  <a:pt x="16446" y="11931"/>
                </a:moveTo>
                <a:cubicBezTo>
                  <a:pt x="16499" y="12152"/>
                  <a:pt x="16497" y="12385"/>
                  <a:pt x="16545" y="12601"/>
                </a:cubicBezTo>
                <a:cubicBezTo>
                  <a:pt x="16553" y="12609"/>
                  <a:pt x="16562" y="12618"/>
                  <a:pt x="16570" y="12626"/>
                </a:cubicBezTo>
              </a:path>
              <a:path w="14462" h="6574">
                <a:moveTo>
                  <a:pt x="16842" y="11881"/>
                </a:moveTo>
                <a:cubicBezTo>
                  <a:pt x="16780" y="12070"/>
                  <a:pt x="16709" y="12251"/>
                  <a:pt x="16768" y="12452"/>
                </a:cubicBezTo>
                <a:cubicBezTo>
                  <a:pt x="16785" y="12477"/>
                  <a:pt x="16801" y="12501"/>
                  <a:pt x="16818" y="12526"/>
                </a:cubicBezTo>
                <a:cubicBezTo>
                  <a:pt x="17000" y="12509"/>
                  <a:pt x="17239" y="12480"/>
                  <a:pt x="17239" y="12229"/>
                </a:cubicBezTo>
                <a:cubicBezTo>
                  <a:pt x="17239" y="11924"/>
                  <a:pt x="16980" y="11984"/>
                  <a:pt x="16793" y="12030"/>
                </a:cubicBezTo>
              </a:path>
              <a:path w="14462" h="6574">
                <a:moveTo>
                  <a:pt x="15776" y="12948"/>
                </a:moveTo>
                <a:cubicBezTo>
                  <a:pt x="16026" y="12897"/>
                  <a:pt x="16289" y="12884"/>
                  <a:pt x="16545" y="12849"/>
                </a:cubicBezTo>
                <a:cubicBezTo>
                  <a:pt x="16704" y="12827"/>
                  <a:pt x="17118" y="12695"/>
                  <a:pt x="17289" y="12750"/>
                </a:cubicBezTo>
                <a:cubicBezTo>
                  <a:pt x="17289" y="12758"/>
                  <a:pt x="17289" y="12766"/>
                  <a:pt x="17289" y="12774"/>
                </a:cubicBezTo>
              </a:path>
              <a:path w="14462" h="6574">
                <a:moveTo>
                  <a:pt x="16098" y="13271"/>
                </a:moveTo>
                <a:cubicBezTo>
                  <a:pt x="16219" y="13227"/>
                  <a:pt x="16341" y="13203"/>
                  <a:pt x="16470" y="13196"/>
                </a:cubicBezTo>
                <a:cubicBezTo>
                  <a:pt x="16478" y="13196"/>
                  <a:pt x="16487" y="13196"/>
                  <a:pt x="16495" y="13196"/>
                </a:cubicBezTo>
                <a:cubicBezTo>
                  <a:pt x="16495" y="13365"/>
                  <a:pt x="16454" y="13507"/>
                  <a:pt x="16396" y="13667"/>
                </a:cubicBezTo>
                <a:cubicBezTo>
                  <a:pt x="16347" y="13802"/>
                  <a:pt x="16235" y="13915"/>
                  <a:pt x="16421" y="13791"/>
                </a:cubicBezTo>
              </a:path>
              <a:path w="14462" h="6574">
                <a:moveTo>
                  <a:pt x="16718" y="13295"/>
                </a:moveTo>
                <a:cubicBezTo>
                  <a:pt x="16839" y="13259"/>
                  <a:pt x="16902" y="13231"/>
                  <a:pt x="17016" y="13295"/>
                </a:cubicBezTo>
                <a:cubicBezTo>
                  <a:pt x="16989" y="13470"/>
                  <a:pt x="16893" y="13541"/>
                  <a:pt x="16768" y="13667"/>
                </a:cubicBezTo>
                <a:cubicBezTo>
                  <a:pt x="16706" y="13730"/>
                  <a:pt x="16689" y="13740"/>
                  <a:pt x="16669" y="13791"/>
                </a:cubicBezTo>
                <a:cubicBezTo>
                  <a:pt x="16796" y="13820"/>
                  <a:pt x="16952" y="13769"/>
                  <a:pt x="17090" y="13742"/>
                </a:cubicBezTo>
                <a:cubicBezTo>
                  <a:pt x="17184" y="13723"/>
                  <a:pt x="17204" y="13736"/>
                  <a:pt x="17239" y="13692"/>
                </a:cubicBezTo>
              </a:path>
              <a:path w="14462" h="6574">
                <a:moveTo>
                  <a:pt x="17835" y="12824"/>
                </a:moveTo>
                <a:cubicBezTo>
                  <a:pt x="17917" y="12824"/>
                  <a:pt x="17983" y="12827"/>
                  <a:pt x="18058" y="12799"/>
                </a:cubicBezTo>
              </a:path>
              <a:path w="14462" h="6574">
                <a:moveTo>
                  <a:pt x="17810" y="13047"/>
                </a:moveTo>
                <a:cubicBezTo>
                  <a:pt x="17884" y="13047"/>
                  <a:pt x="17959" y="13047"/>
                  <a:pt x="18033" y="13047"/>
                </a:cubicBezTo>
              </a:path>
              <a:path w="14462" h="6574">
                <a:moveTo>
                  <a:pt x="19893" y="12229"/>
                </a:moveTo>
                <a:lnTo>
                  <a:pt x="19893" y="12229"/>
                </a:lnTo>
                <a:lnTo>
                  <a:pt x="19893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204"/>
                </a:lnTo>
                <a:lnTo>
                  <a:pt x="19918" y="12378"/>
                </a:lnTo>
                <a:lnTo>
                  <a:pt x="19918" y="12650"/>
                </a:lnTo>
                <a:lnTo>
                  <a:pt x="19893" y="12874"/>
                </a:lnTo>
                <a:lnTo>
                  <a:pt x="19869" y="13022"/>
                </a:lnTo>
                <a:lnTo>
                  <a:pt x="19869" y="13097"/>
                </a:lnTo>
                <a:lnTo>
                  <a:pt x="19869" y="13072"/>
                </a:lnTo>
              </a:path>
              <a:path w="14462" h="6574">
                <a:moveTo>
                  <a:pt x="20365" y="12179"/>
                </a:moveTo>
                <a:cubicBezTo>
                  <a:pt x="20385" y="12410"/>
                  <a:pt x="20393" y="12617"/>
                  <a:pt x="20365" y="12849"/>
                </a:cubicBezTo>
                <a:cubicBezTo>
                  <a:pt x="20346" y="12964"/>
                  <a:pt x="20337" y="12980"/>
                  <a:pt x="20340" y="13047"/>
                </a:cubicBezTo>
              </a:path>
              <a:path w="14462" h="6574">
                <a:moveTo>
                  <a:pt x="20886" y="12204"/>
                </a:moveTo>
                <a:cubicBezTo>
                  <a:pt x="20796" y="12428"/>
                  <a:pt x="20678" y="12701"/>
                  <a:pt x="20712" y="12948"/>
                </a:cubicBezTo>
                <a:cubicBezTo>
                  <a:pt x="20729" y="12981"/>
                  <a:pt x="20745" y="13014"/>
                  <a:pt x="20762" y="13047"/>
                </a:cubicBezTo>
                <a:cubicBezTo>
                  <a:pt x="20999" y="13001"/>
                  <a:pt x="21337" y="12882"/>
                  <a:pt x="21282" y="12551"/>
                </a:cubicBezTo>
                <a:cubicBezTo>
                  <a:pt x="21178" y="12370"/>
                  <a:pt x="21136" y="12310"/>
                  <a:pt x="20960" y="12328"/>
                </a:cubicBezTo>
              </a:path>
              <a:path w="14462" h="6574">
                <a:moveTo>
                  <a:pt x="19720" y="13469"/>
                </a:moveTo>
                <a:cubicBezTo>
                  <a:pt x="19713" y="13220"/>
                  <a:pt x="19703" y="12973"/>
                  <a:pt x="19670" y="12725"/>
                </a:cubicBezTo>
                <a:cubicBezTo>
                  <a:pt x="19635" y="12460"/>
                  <a:pt x="19581" y="12208"/>
                  <a:pt x="19496" y="11956"/>
                </a:cubicBezTo>
                <a:cubicBezTo>
                  <a:pt x="19772" y="11946"/>
                  <a:pt x="20039" y="11905"/>
                  <a:pt x="20315" y="11881"/>
                </a:cubicBezTo>
                <a:cubicBezTo>
                  <a:pt x="20653" y="11852"/>
                  <a:pt x="20998" y="11846"/>
                  <a:pt x="21332" y="11807"/>
                </a:cubicBezTo>
                <a:cubicBezTo>
                  <a:pt x="21340" y="11807"/>
                  <a:pt x="21349" y="11807"/>
                  <a:pt x="21357" y="11807"/>
                </a:cubicBezTo>
              </a:path>
              <a:path w="14462" h="6574">
                <a:moveTo>
                  <a:pt x="18331" y="12526"/>
                </a:moveTo>
                <a:cubicBezTo>
                  <a:pt x="18446" y="12396"/>
                  <a:pt x="18560" y="12387"/>
                  <a:pt x="18728" y="12353"/>
                </a:cubicBezTo>
                <a:cubicBezTo>
                  <a:pt x="18795" y="12422"/>
                  <a:pt x="18788" y="12504"/>
                  <a:pt x="18777" y="12601"/>
                </a:cubicBezTo>
                <a:cubicBezTo>
                  <a:pt x="18757" y="12784"/>
                  <a:pt x="18685" y="12973"/>
                  <a:pt x="18628" y="13146"/>
                </a:cubicBezTo>
                <a:cubicBezTo>
                  <a:pt x="18620" y="13163"/>
                  <a:pt x="18612" y="13179"/>
                  <a:pt x="18604" y="13196"/>
                </a:cubicBezTo>
              </a:path>
              <a:path w="14462" h="6574">
                <a:moveTo>
                  <a:pt x="19025" y="12502"/>
                </a:moveTo>
                <a:cubicBezTo>
                  <a:pt x="19092" y="12480"/>
                  <a:pt x="19110" y="12468"/>
                  <a:pt x="19149" y="12502"/>
                </a:cubicBezTo>
                <a:cubicBezTo>
                  <a:pt x="19198" y="12646"/>
                  <a:pt x="19153" y="12764"/>
                  <a:pt x="19075" y="12898"/>
                </a:cubicBezTo>
                <a:cubicBezTo>
                  <a:pt x="19021" y="12991"/>
                  <a:pt x="18992" y="12997"/>
                  <a:pt x="18976" y="13097"/>
                </a:cubicBezTo>
                <a:cubicBezTo>
                  <a:pt x="19128" y="13075"/>
                  <a:pt x="19258" y="12988"/>
                  <a:pt x="19397" y="12923"/>
                </a:cubicBezTo>
                <a:cubicBezTo>
                  <a:pt x="19414" y="12915"/>
                  <a:pt x="19430" y="12906"/>
                  <a:pt x="19447" y="12898"/>
                </a:cubicBezTo>
              </a:path>
              <a:path w="14462" h="6574">
                <a:moveTo>
                  <a:pt x="20811" y="10790"/>
                </a:moveTo>
                <a:cubicBezTo>
                  <a:pt x="20811" y="10690"/>
                  <a:pt x="20777" y="10938"/>
                  <a:pt x="20786" y="11038"/>
                </a:cubicBezTo>
                <a:cubicBezTo>
                  <a:pt x="20794" y="11132"/>
                  <a:pt x="20816" y="11230"/>
                  <a:pt x="20836" y="11311"/>
                </a:cubicBezTo>
              </a:path>
              <a:path w="14462" h="6574">
                <a:moveTo>
                  <a:pt x="20315" y="13419"/>
                </a:moveTo>
                <a:cubicBezTo>
                  <a:pt x="20386" y="13473"/>
                  <a:pt x="20439" y="13476"/>
                  <a:pt x="20538" y="13444"/>
                </a:cubicBezTo>
                <a:cubicBezTo>
                  <a:pt x="20609" y="13421"/>
                  <a:pt x="20700" y="13380"/>
                  <a:pt x="20762" y="13345"/>
                </a:cubicBezTo>
                <a:cubicBezTo>
                  <a:pt x="20736" y="13528"/>
                  <a:pt x="20663" y="13708"/>
                  <a:pt x="20638" y="13891"/>
                </a:cubicBezTo>
                <a:cubicBezTo>
                  <a:pt x="20638" y="13985"/>
                  <a:pt x="20617" y="14005"/>
                  <a:pt x="20662" y="14039"/>
                </a:cubicBezTo>
              </a:path>
              <a:path w="14462" h="6574">
                <a:moveTo>
                  <a:pt x="21010" y="13370"/>
                </a:moveTo>
                <a:cubicBezTo>
                  <a:pt x="21118" y="13343"/>
                  <a:pt x="21254" y="13303"/>
                  <a:pt x="21258" y="13469"/>
                </a:cubicBezTo>
                <a:cubicBezTo>
                  <a:pt x="21263" y="13672"/>
                  <a:pt x="21080" y="13844"/>
                  <a:pt x="20960" y="13990"/>
                </a:cubicBezTo>
                <a:cubicBezTo>
                  <a:pt x="20952" y="13998"/>
                  <a:pt x="20943" y="14007"/>
                  <a:pt x="20935" y="14015"/>
                </a:cubicBezTo>
                <a:cubicBezTo>
                  <a:pt x="21083" y="13978"/>
                  <a:pt x="21227" y="13915"/>
                  <a:pt x="21382" y="13891"/>
                </a:cubicBezTo>
                <a:cubicBezTo>
                  <a:pt x="21423" y="13891"/>
                  <a:pt x="21439" y="13883"/>
                  <a:pt x="21431" y="13915"/>
                </a:cubicBezTo>
              </a:path>
              <a:path w="14462" h="6574">
                <a:moveTo>
                  <a:pt x="19670" y="14263"/>
                </a:moveTo>
                <a:cubicBezTo>
                  <a:pt x="20148" y="14175"/>
                  <a:pt x="20627" y="14101"/>
                  <a:pt x="21109" y="14039"/>
                </a:cubicBezTo>
                <a:cubicBezTo>
                  <a:pt x="21367" y="14006"/>
                  <a:pt x="21619" y="13975"/>
                  <a:pt x="21878" y="13965"/>
                </a:cubicBezTo>
              </a:path>
              <a:path w="14462" h="6574">
                <a:moveTo>
                  <a:pt x="19496" y="13816"/>
                </a:moveTo>
                <a:cubicBezTo>
                  <a:pt x="19516" y="13738"/>
                  <a:pt x="19626" y="13720"/>
                  <a:pt x="19695" y="13692"/>
                </a:cubicBezTo>
                <a:cubicBezTo>
                  <a:pt x="19736" y="13676"/>
                  <a:pt x="19778" y="13659"/>
                  <a:pt x="19819" y="13643"/>
                </a:cubicBezTo>
              </a:path>
              <a:path w="14462" h="6574">
                <a:moveTo>
                  <a:pt x="20513" y="14610"/>
                </a:moveTo>
                <a:cubicBezTo>
                  <a:pt x="20452" y="14525"/>
                  <a:pt x="20532" y="14510"/>
                  <a:pt x="20613" y="14486"/>
                </a:cubicBezTo>
                <a:cubicBezTo>
                  <a:pt x="20751" y="14444"/>
                  <a:pt x="20913" y="14535"/>
                  <a:pt x="20836" y="14709"/>
                </a:cubicBezTo>
                <a:cubicBezTo>
                  <a:pt x="20777" y="14842"/>
                  <a:pt x="20645" y="14910"/>
                  <a:pt x="20538" y="14982"/>
                </a:cubicBezTo>
                <a:cubicBezTo>
                  <a:pt x="20617" y="14857"/>
                  <a:pt x="20698" y="14832"/>
                  <a:pt x="20836" y="14908"/>
                </a:cubicBezTo>
                <a:cubicBezTo>
                  <a:pt x="20853" y="14924"/>
                  <a:pt x="20869" y="14941"/>
                  <a:pt x="20886" y="14957"/>
                </a:cubicBezTo>
                <a:cubicBezTo>
                  <a:pt x="20846" y="15129"/>
                  <a:pt x="20749" y="15215"/>
                  <a:pt x="20563" y="15255"/>
                </a:cubicBezTo>
                <a:cubicBezTo>
                  <a:pt x="20369" y="15297"/>
                  <a:pt x="20418" y="15196"/>
                  <a:pt x="20439" y="15081"/>
                </a:cubicBezTo>
              </a:path>
              <a:path w="14462" h="6574">
                <a:moveTo>
                  <a:pt x="21158" y="14560"/>
                </a:moveTo>
                <a:cubicBezTo>
                  <a:pt x="21089" y="14607"/>
                  <a:pt x="21069" y="14619"/>
                  <a:pt x="21034" y="14660"/>
                </a:cubicBezTo>
                <a:cubicBezTo>
                  <a:pt x="21092" y="14751"/>
                  <a:pt x="21307" y="14830"/>
                  <a:pt x="21307" y="14957"/>
                </a:cubicBezTo>
                <a:cubicBezTo>
                  <a:pt x="21307" y="15081"/>
                  <a:pt x="21189" y="15111"/>
                  <a:pt x="21109" y="15131"/>
                </a:cubicBezTo>
                <a:cubicBezTo>
                  <a:pt x="21096" y="14932"/>
                  <a:pt x="21201" y="14743"/>
                  <a:pt x="21233" y="14536"/>
                </a:cubicBezTo>
                <a:cubicBezTo>
                  <a:pt x="21233" y="14494"/>
                  <a:pt x="21233" y="14486"/>
                  <a:pt x="21233" y="14461"/>
                </a:cubicBezTo>
              </a:path>
              <a:path w="14462" h="6574">
                <a:moveTo>
                  <a:pt x="21729" y="9401"/>
                </a:moveTo>
                <a:cubicBezTo>
                  <a:pt x="21760" y="9338"/>
                  <a:pt x="21854" y="9326"/>
                  <a:pt x="21927" y="9302"/>
                </a:cubicBezTo>
                <a:cubicBezTo>
                  <a:pt x="21969" y="9427"/>
                  <a:pt x="21929" y="9536"/>
                  <a:pt x="21853" y="9649"/>
                </a:cubicBezTo>
                <a:cubicBezTo>
                  <a:pt x="21836" y="9666"/>
                  <a:pt x="21820" y="9682"/>
                  <a:pt x="21803" y="9699"/>
                </a:cubicBezTo>
                <a:cubicBezTo>
                  <a:pt x="21865" y="9687"/>
                  <a:pt x="22002" y="9657"/>
                  <a:pt x="22051" y="9723"/>
                </a:cubicBezTo>
                <a:cubicBezTo>
                  <a:pt x="22143" y="9846"/>
                  <a:pt x="21928" y="10035"/>
                  <a:pt x="21828" y="10071"/>
                </a:cubicBezTo>
                <a:cubicBezTo>
                  <a:pt x="21736" y="10071"/>
                  <a:pt x="21709" y="10073"/>
                  <a:pt x="21654" y="10046"/>
                </a:cubicBezTo>
              </a:path>
              <a:path w="14462" h="6574">
                <a:moveTo>
                  <a:pt x="22299" y="9302"/>
                </a:moveTo>
                <a:cubicBezTo>
                  <a:pt x="22221" y="9351"/>
                  <a:pt x="22128" y="9440"/>
                  <a:pt x="22175" y="9550"/>
                </a:cubicBezTo>
                <a:cubicBezTo>
                  <a:pt x="22254" y="9735"/>
                  <a:pt x="22472" y="9796"/>
                  <a:pt x="22498" y="10021"/>
                </a:cubicBezTo>
                <a:cubicBezTo>
                  <a:pt x="22510" y="10121"/>
                  <a:pt x="22462" y="10152"/>
                  <a:pt x="22399" y="10170"/>
                </a:cubicBezTo>
                <a:cubicBezTo>
                  <a:pt x="22291" y="10015"/>
                  <a:pt x="22310" y="9875"/>
                  <a:pt x="22423" y="9699"/>
                </a:cubicBezTo>
                <a:cubicBezTo>
                  <a:pt x="22468" y="9628"/>
                  <a:pt x="22539" y="9600"/>
                  <a:pt x="22523" y="9550"/>
                </a:cubicBezTo>
              </a:path>
              <a:path w="14462" h="6574">
                <a:moveTo>
                  <a:pt x="21927" y="10344"/>
                </a:moveTo>
                <a:cubicBezTo>
                  <a:pt x="22038" y="10263"/>
                  <a:pt x="22177" y="10178"/>
                  <a:pt x="22324" y="10195"/>
                </a:cubicBezTo>
                <a:cubicBezTo>
                  <a:pt x="22341" y="10203"/>
                  <a:pt x="22357" y="10212"/>
                  <a:pt x="22374" y="10220"/>
                </a:cubicBezTo>
              </a:path>
              <a:path w="14462" h="6574">
                <a:moveTo>
                  <a:pt x="21679" y="10666"/>
                </a:moveTo>
                <a:cubicBezTo>
                  <a:pt x="21760" y="10646"/>
                  <a:pt x="21831" y="10579"/>
                  <a:pt x="21927" y="10567"/>
                </a:cubicBezTo>
                <a:cubicBezTo>
                  <a:pt x="22095" y="10546"/>
                  <a:pt x="22149" y="10606"/>
                  <a:pt x="22101" y="10765"/>
                </a:cubicBezTo>
                <a:cubicBezTo>
                  <a:pt x="22065" y="10884"/>
                  <a:pt x="21995" y="10974"/>
                  <a:pt x="21952" y="11088"/>
                </a:cubicBezTo>
              </a:path>
              <a:path w="14462" h="6574">
                <a:moveTo>
                  <a:pt x="22349" y="10666"/>
                </a:moveTo>
                <a:cubicBezTo>
                  <a:pt x="22450" y="10635"/>
                  <a:pt x="22496" y="10625"/>
                  <a:pt x="22597" y="10641"/>
                </a:cubicBezTo>
                <a:cubicBezTo>
                  <a:pt x="22555" y="10795"/>
                  <a:pt x="22451" y="10933"/>
                  <a:pt x="22349" y="11063"/>
                </a:cubicBezTo>
                <a:cubicBezTo>
                  <a:pt x="22276" y="11156"/>
                  <a:pt x="22692" y="10990"/>
                  <a:pt x="22696" y="10988"/>
                </a:cubicBezTo>
              </a:path>
              <a:path w="14462" h="6574">
                <a:moveTo>
                  <a:pt x="20786" y="10294"/>
                </a:moveTo>
                <a:cubicBezTo>
                  <a:pt x="20777" y="10269"/>
                  <a:pt x="20762" y="10138"/>
                  <a:pt x="20762" y="10195"/>
                </a:cubicBezTo>
                <a:cubicBezTo>
                  <a:pt x="20762" y="10439"/>
                  <a:pt x="20798" y="10672"/>
                  <a:pt x="20811" y="10914"/>
                </a:cubicBezTo>
                <a:cubicBezTo>
                  <a:pt x="20819" y="11070"/>
                  <a:pt x="20836" y="11229"/>
                  <a:pt x="20836" y="11385"/>
                </a:cubicBezTo>
              </a:path>
              <a:path w="14462" h="6574">
                <a:moveTo>
                  <a:pt x="22275" y="9227"/>
                </a:moveTo>
                <a:cubicBezTo>
                  <a:pt x="22360" y="9199"/>
                  <a:pt x="22442" y="9197"/>
                  <a:pt x="22523" y="9252"/>
                </a:cubicBezTo>
                <a:cubicBezTo>
                  <a:pt x="22646" y="9335"/>
                  <a:pt x="22581" y="9474"/>
                  <a:pt x="22523" y="9575"/>
                </a:cubicBezTo>
                <a:cubicBezTo>
                  <a:pt x="22503" y="9610"/>
                  <a:pt x="22452" y="9645"/>
                  <a:pt x="22423" y="9674"/>
                </a:cubicBezTo>
              </a:path>
              <a:path w="14462" h="6574">
                <a:moveTo>
                  <a:pt x="22771" y="10071"/>
                </a:moveTo>
                <a:cubicBezTo>
                  <a:pt x="22827" y="10057"/>
                  <a:pt x="22878" y="10028"/>
                  <a:pt x="22944" y="10021"/>
                </a:cubicBezTo>
              </a:path>
              <a:path w="14462" h="6574">
                <a:moveTo>
                  <a:pt x="22796" y="10269"/>
                </a:moveTo>
                <a:cubicBezTo>
                  <a:pt x="22857" y="10247"/>
                  <a:pt x="22911" y="10224"/>
                  <a:pt x="22969" y="10195"/>
                </a:cubicBezTo>
              </a:path>
              <a:path w="14462" h="6574">
                <a:moveTo>
                  <a:pt x="23341" y="9252"/>
                </a:moveTo>
                <a:cubicBezTo>
                  <a:pt x="23373" y="9535"/>
                  <a:pt x="23371" y="9785"/>
                  <a:pt x="23366" y="10071"/>
                </a:cubicBezTo>
                <a:cubicBezTo>
                  <a:pt x="23362" y="10309"/>
                  <a:pt x="23390" y="10588"/>
                  <a:pt x="23292" y="10815"/>
                </a:cubicBezTo>
                <a:cubicBezTo>
                  <a:pt x="23292" y="10807"/>
                  <a:pt x="23292" y="10798"/>
                  <a:pt x="23292" y="10790"/>
                </a:cubicBezTo>
              </a:path>
              <a:path w="14462" h="6574">
                <a:moveTo>
                  <a:pt x="23564" y="9079"/>
                </a:moveTo>
                <a:lnTo>
                  <a:pt x="23589" y="9103"/>
                </a:lnTo>
                <a:lnTo>
                  <a:pt x="23589" y="9153"/>
                </a:lnTo>
                <a:lnTo>
                  <a:pt x="23614" y="9277"/>
                </a:lnTo>
                <a:lnTo>
                  <a:pt x="23614" y="9376"/>
                </a:lnTo>
                <a:lnTo>
                  <a:pt x="23614" y="9451"/>
                </a:lnTo>
                <a:lnTo>
                  <a:pt x="23614" y="9426"/>
                </a:lnTo>
              </a:path>
              <a:path w="14462" h="6574">
                <a:moveTo>
                  <a:pt x="23937" y="8930"/>
                </a:moveTo>
                <a:cubicBezTo>
                  <a:pt x="23838" y="8890"/>
                  <a:pt x="23823" y="8989"/>
                  <a:pt x="23812" y="9079"/>
                </a:cubicBezTo>
                <a:cubicBezTo>
                  <a:pt x="23806" y="9130"/>
                  <a:pt x="23867" y="9079"/>
                  <a:pt x="23912" y="9054"/>
                </a:cubicBezTo>
                <a:cubicBezTo>
                  <a:pt x="23920" y="9054"/>
                  <a:pt x="23929" y="9054"/>
                  <a:pt x="23937" y="9054"/>
                </a:cubicBezTo>
                <a:cubicBezTo>
                  <a:pt x="23937" y="9146"/>
                  <a:pt x="23915" y="9234"/>
                  <a:pt x="23912" y="9327"/>
                </a:cubicBezTo>
                <a:cubicBezTo>
                  <a:pt x="23912" y="9418"/>
                  <a:pt x="23912" y="9442"/>
                  <a:pt x="23912" y="9500"/>
                </a:cubicBezTo>
              </a:path>
              <a:path w="14462" h="6574">
                <a:moveTo>
                  <a:pt x="23589" y="9947"/>
                </a:moveTo>
                <a:cubicBezTo>
                  <a:pt x="23733" y="9931"/>
                  <a:pt x="23829" y="9845"/>
                  <a:pt x="23961" y="9798"/>
                </a:cubicBezTo>
                <a:cubicBezTo>
                  <a:pt x="24052" y="9780"/>
                  <a:pt x="24127" y="9771"/>
                  <a:pt x="24061" y="9773"/>
                </a:cubicBezTo>
              </a:path>
              <a:path w="14462" h="6574">
                <a:moveTo>
                  <a:pt x="23391" y="10492"/>
                </a:moveTo>
                <a:cubicBezTo>
                  <a:pt x="23413" y="10408"/>
                  <a:pt x="23534" y="10347"/>
                  <a:pt x="23614" y="10319"/>
                </a:cubicBezTo>
                <a:cubicBezTo>
                  <a:pt x="23655" y="10319"/>
                  <a:pt x="23663" y="10319"/>
                  <a:pt x="23688" y="10319"/>
                </a:cubicBezTo>
                <a:cubicBezTo>
                  <a:pt x="23663" y="10484"/>
                  <a:pt x="23589" y="10529"/>
                  <a:pt x="23465" y="10641"/>
                </a:cubicBezTo>
                <a:cubicBezTo>
                  <a:pt x="23483" y="10676"/>
                  <a:pt x="23575" y="10603"/>
                  <a:pt x="23639" y="10641"/>
                </a:cubicBezTo>
                <a:cubicBezTo>
                  <a:pt x="23754" y="10709"/>
                  <a:pt x="23578" y="10871"/>
                  <a:pt x="23515" y="10889"/>
                </a:cubicBezTo>
                <a:cubicBezTo>
                  <a:pt x="23459" y="10889"/>
                  <a:pt x="23437" y="10884"/>
                  <a:pt x="23416" y="10840"/>
                </a:cubicBezTo>
              </a:path>
              <a:path w="14462" h="6574">
                <a:moveTo>
                  <a:pt x="23837" y="10269"/>
                </a:moveTo>
                <a:cubicBezTo>
                  <a:pt x="23869" y="10409"/>
                  <a:pt x="23862" y="10546"/>
                  <a:pt x="23862" y="10691"/>
                </a:cubicBezTo>
                <a:cubicBezTo>
                  <a:pt x="23862" y="10707"/>
                  <a:pt x="23862" y="10724"/>
                  <a:pt x="23862" y="10740"/>
                </a:cubicBezTo>
                <a:cubicBezTo>
                  <a:pt x="23982" y="10727"/>
                  <a:pt x="24070" y="10697"/>
                  <a:pt x="24110" y="10567"/>
                </a:cubicBezTo>
                <a:cubicBezTo>
                  <a:pt x="24132" y="10496"/>
                  <a:pt x="24073" y="10457"/>
                  <a:pt x="24061" y="10393"/>
                </a:cubicBezTo>
                <a:cubicBezTo>
                  <a:pt x="24047" y="10490"/>
                  <a:pt x="24015" y="10582"/>
                  <a:pt x="24011" y="10691"/>
                </a:cubicBezTo>
                <a:cubicBezTo>
                  <a:pt x="24011" y="10707"/>
                  <a:pt x="24011" y="10724"/>
                  <a:pt x="24011" y="10740"/>
                </a:cubicBezTo>
              </a:path>
              <a:path w="14462" h="6574">
                <a:moveTo>
                  <a:pt x="23118" y="11237"/>
                </a:moveTo>
                <a:cubicBezTo>
                  <a:pt x="23391" y="11248"/>
                  <a:pt x="23695" y="11189"/>
                  <a:pt x="23937" y="11038"/>
                </a:cubicBezTo>
                <a:cubicBezTo>
                  <a:pt x="24219" y="10861"/>
                  <a:pt x="24292" y="10522"/>
                  <a:pt x="24333" y="10220"/>
                </a:cubicBezTo>
                <a:cubicBezTo>
                  <a:pt x="24375" y="9906"/>
                  <a:pt x="24408" y="9540"/>
                  <a:pt x="24358" y="9227"/>
                </a:cubicBezTo>
                <a:cubicBezTo>
                  <a:pt x="24323" y="9006"/>
                  <a:pt x="24186" y="8830"/>
                  <a:pt x="23986" y="8731"/>
                </a:cubicBezTo>
                <a:cubicBezTo>
                  <a:pt x="23705" y="8591"/>
                  <a:pt x="23386" y="8729"/>
                  <a:pt x="23217" y="8979"/>
                </a:cubicBezTo>
                <a:cubicBezTo>
                  <a:pt x="22953" y="9369"/>
                  <a:pt x="22647" y="10303"/>
                  <a:pt x="22870" y="10765"/>
                </a:cubicBezTo>
                <a:cubicBezTo>
                  <a:pt x="23058" y="11156"/>
                  <a:pt x="23519" y="11030"/>
                  <a:pt x="23837" y="110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ve mixed numbers, you add or subtract fractions first, then whole numb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e place at a time just like when adding or subtracting whole numbers.)  Remember to stack before you attack so digits are set up by plac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76520" y="4191120"/>
                <a:ext cx="1676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572080" y="3419640"/>
            <a:ext cx="687600" cy="652320"/>
          </a:xfrm>
          <a:custGeom>
            <a:avLst/>
            <a:gdLst/>
            <a:ahLst/>
            <a:rect l="l" t="t" r="r" b="b"/>
            <a:pathLst>
              <a:path w="1911" h="1812">
                <a:moveTo>
                  <a:pt x="17041" y="10716"/>
                </a:moveTo>
                <a:cubicBezTo>
                  <a:pt x="17041" y="10691"/>
                  <a:pt x="17041" y="10666"/>
                  <a:pt x="17041" y="10641"/>
                </a:cubicBezTo>
                <a:cubicBezTo>
                  <a:pt x="17021" y="10721"/>
                  <a:pt x="17003" y="10799"/>
                  <a:pt x="16991" y="10889"/>
                </a:cubicBezTo>
                <a:cubicBezTo>
                  <a:pt x="16971" y="11040"/>
                  <a:pt x="16950" y="11124"/>
                  <a:pt x="17016" y="11261"/>
                </a:cubicBezTo>
                <a:cubicBezTo>
                  <a:pt x="17061" y="11356"/>
                  <a:pt x="17121" y="11307"/>
                  <a:pt x="17190" y="11261"/>
                </a:cubicBezTo>
                <a:cubicBezTo>
                  <a:pt x="17276" y="11203"/>
                  <a:pt x="17346" y="11110"/>
                  <a:pt x="17388" y="11013"/>
                </a:cubicBezTo>
                <a:cubicBezTo>
                  <a:pt x="17388" y="11005"/>
                  <a:pt x="17388" y="10996"/>
                  <a:pt x="17388" y="10988"/>
                </a:cubicBezTo>
                <a:cubicBezTo>
                  <a:pt x="17264" y="10948"/>
                  <a:pt x="17237" y="10965"/>
                  <a:pt x="17190" y="11088"/>
                </a:cubicBezTo>
                <a:cubicBezTo>
                  <a:pt x="17163" y="11159"/>
                  <a:pt x="17165" y="11212"/>
                  <a:pt x="17165" y="11286"/>
                </a:cubicBezTo>
              </a:path>
              <a:path w="1911" h="1812">
                <a:moveTo>
                  <a:pt x="16842" y="10418"/>
                </a:moveTo>
                <a:cubicBezTo>
                  <a:pt x="16811" y="10384"/>
                  <a:pt x="17036" y="10356"/>
                  <a:pt x="17090" y="10344"/>
                </a:cubicBezTo>
                <a:cubicBezTo>
                  <a:pt x="17170" y="10326"/>
                  <a:pt x="17239" y="10291"/>
                  <a:pt x="17314" y="10269"/>
                </a:cubicBezTo>
              </a:path>
              <a:path w="1911" h="1812">
                <a:moveTo>
                  <a:pt x="15503" y="10418"/>
                </a:moveTo>
                <a:cubicBezTo>
                  <a:pt x="15503" y="10393"/>
                  <a:pt x="15503" y="10385"/>
                  <a:pt x="15478" y="10393"/>
                </a:cubicBezTo>
                <a:cubicBezTo>
                  <a:pt x="15539" y="10441"/>
                  <a:pt x="15624" y="10589"/>
                  <a:pt x="15677" y="10666"/>
                </a:cubicBezTo>
                <a:cubicBezTo>
                  <a:pt x="15706" y="10708"/>
                  <a:pt x="15708" y="10744"/>
                  <a:pt x="15726" y="10691"/>
                </a:cubicBezTo>
              </a:path>
              <a:path w="1911" h="1812">
                <a:moveTo>
                  <a:pt x="15652" y="10319"/>
                </a:moveTo>
                <a:cubicBezTo>
                  <a:pt x="15627" y="10470"/>
                  <a:pt x="15627" y="10592"/>
                  <a:pt x="15652" y="10740"/>
                </a:cubicBezTo>
                <a:cubicBezTo>
                  <a:pt x="15652" y="10765"/>
                  <a:pt x="15652" y="10773"/>
                  <a:pt x="15652" y="10790"/>
                </a:cubicBezTo>
              </a:path>
              <a:path w="1911" h="1812">
                <a:moveTo>
                  <a:pt x="15875" y="10592"/>
                </a:moveTo>
                <a:cubicBezTo>
                  <a:pt x="15944" y="10592"/>
                  <a:pt x="16037" y="10549"/>
                  <a:pt x="16098" y="10567"/>
                </a:cubicBezTo>
                <a:cubicBezTo>
                  <a:pt x="16199" y="10596"/>
                  <a:pt x="16114" y="10787"/>
                  <a:pt x="16098" y="10840"/>
                </a:cubicBezTo>
                <a:cubicBezTo>
                  <a:pt x="16078" y="10900"/>
                  <a:pt x="16079" y="10914"/>
                  <a:pt x="16049" y="10939"/>
                </a:cubicBezTo>
                <a:cubicBezTo>
                  <a:pt x="16138" y="10924"/>
                  <a:pt x="16189" y="10869"/>
                  <a:pt x="16272" y="10840"/>
                </a:cubicBezTo>
                <a:cubicBezTo>
                  <a:pt x="16280" y="10840"/>
                  <a:pt x="16289" y="10840"/>
                  <a:pt x="16297" y="10840"/>
                </a:cubicBezTo>
              </a:path>
              <a:path w="1911" h="1812">
                <a:moveTo>
                  <a:pt x="15801" y="10542"/>
                </a:moveTo>
                <a:cubicBezTo>
                  <a:pt x="15793" y="10542"/>
                  <a:pt x="15784" y="10542"/>
                  <a:pt x="15776" y="10542"/>
                </a:cubicBezTo>
                <a:cubicBezTo>
                  <a:pt x="15832" y="10528"/>
                  <a:pt x="15918" y="10497"/>
                  <a:pt x="15974" y="10468"/>
                </a:cubicBezTo>
                <a:cubicBezTo>
                  <a:pt x="16030" y="10438"/>
                  <a:pt x="16011" y="10395"/>
                  <a:pt x="16073" y="10443"/>
                </a:cubicBezTo>
              </a:path>
              <a:path w="1911" h="1812">
                <a:moveTo>
                  <a:pt x="15776" y="10021"/>
                </a:moveTo>
                <a:cubicBezTo>
                  <a:pt x="15722" y="10003"/>
                  <a:pt x="15783" y="9946"/>
                  <a:pt x="15825" y="9922"/>
                </a:cubicBezTo>
                <a:cubicBezTo>
                  <a:pt x="15853" y="9922"/>
                  <a:pt x="15864" y="9920"/>
                  <a:pt x="15875" y="9897"/>
                </a:cubicBezTo>
                <a:cubicBezTo>
                  <a:pt x="15891" y="9991"/>
                  <a:pt x="15901" y="10076"/>
                  <a:pt x="15850" y="10170"/>
                </a:cubicBezTo>
                <a:cubicBezTo>
                  <a:pt x="15794" y="10245"/>
                  <a:pt x="15790" y="10258"/>
                  <a:pt x="15751" y="10294"/>
                </a:cubicBezTo>
                <a:cubicBezTo>
                  <a:pt x="15816" y="10303"/>
                  <a:pt x="15871" y="10252"/>
                  <a:pt x="15949" y="10244"/>
                </a:cubicBezTo>
                <a:cubicBezTo>
                  <a:pt x="15957" y="10244"/>
                  <a:pt x="15966" y="10244"/>
                  <a:pt x="15974" y="10244"/>
                </a:cubicBezTo>
              </a:path>
              <a:path w="1911" h="1812">
                <a:moveTo>
                  <a:pt x="16867" y="9649"/>
                </a:moveTo>
                <a:cubicBezTo>
                  <a:pt x="16867" y="9674"/>
                  <a:pt x="16910" y="9613"/>
                  <a:pt x="16966" y="9575"/>
                </a:cubicBezTo>
                <a:cubicBezTo>
                  <a:pt x="17039" y="9525"/>
                  <a:pt x="17080" y="9509"/>
                  <a:pt x="17165" y="9500"/>
                </a:cubicBezTo>
                <a:cubicBezTo>
                  <a:pt x="17211" y="9714"/>
                  <a:pt x="17154" y="9791"/>
                  <a:pt x="17041" y="9971"/>
                </a:cubicBezTo>
                <a:cubicBezTo>
                  <a:pt x="16989" y="10053"/>
                  <a:pt x="16939" y="10136"/>
                  <a:pt x="16892" y="10220"/>
                </a:cubicBezTo>
                <a:cubicBezTo>
                  <a:pt x="16987" y="10220"/>
                  <a:pt x="17055" y="10185"/>
                  <a:pt x="17140" y="10145"/>
                </a:cubicBezTo>
                <a:cubicBezTo>
                  <a:pt x="17201" y="10116"/>
                  <a:pt x="17251" y="10084"/>
                  <a:pt x="17314" y="100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62800" y="3071880"/>
            <a:ext cx="1679400" cy="1071360"/>
          </a:xfrm>
          <a:custGeom>
            <a:avLst/>
            <a:gdLst/>
            <a:ahLst/>
            <a:rect l="l" t="t" r="r" b="b"/>
            <a:pathLst>
              <a:path w="4665" h="2977">
                <a:moveTo>
                  <a:pt x="20241" y="8533"/>
                </a:moveTo>
                <a:cubicBezTo>
                  <a:pt x="20235" y="8574"/>
                  <a:pt x="20230" y="8596"/>
                  <a:pt x="20216" y="8632"/>
                </a:cubicBezTo>
                <a:cubicBezTo>
                  <a:pt x="20310" y="8670"/>
                  <a:pt x="20469" y="8635"/>
                  <a:pt x="20588" y="8632"/>
                </a:cubicBezTo>
                <a:cubicBezTo>
                  <a:pt x="20927" y="8622"/>
                  <a:pt x="21268" y="8617"/>
                  <a:pt x="21605" y="8582"/>
                </a:cubicBezTo>
                <a:cubicBezTo>
                  <a:pt x="21685" y="8574"/>
                  <a:pt x="21851" y="8559"/>
                  <a:pt x="21903" y="8533"/>
                </a:cubicBezTo>
              </a:path>
              <a:path w="4665" h="2977">
                <a:moveTo>
                  <a:pt x="21034" y="9475"/>
                </a:moveTo>
                <a:cubicBezTo>
                  <a:pt x="21068" y="9407"/>
                  <a:pt x="21250" y="9271"/>
                  <a:pt x="21357" y="9277"/>
                </a:cubicBezTo>
                <a:cubicBezTo>
                  <a:pt x="21390" y="9294"/>
                  <a:pt x="21423" y="9310"/>
                  <a:pt x="21456" y="9327"/>
                </a:cubicBezTo>
                <a:cubicBezTo>
                  <a:pt x="21473" y="9511"/>
                  <a:pt x="21362" y="9599"/>
                  <a:pt x="21208" y="9699"/>
                </a:cubicBezTo>
                <a:cubicBezTo>
                  <a:pt x="21191" y="9707"/>
                  <a:pt x="21175" y="9715"/>
                  <a:pt x="21158" y="9723"/>
                </a:cubicBezTo>
                <a:cubicBezTo>
                  <a:pt x="21244" y="9723"/>
                  <a:pt x="21416" y="9683"/>
                  <a:pt x="21481" y="9748"/>
                </a:cubicBezTo>
                <a:cubicBezTo>
                  <a:pt x="21638" y="9905"/>
                  <a:pt x="21279" y="10078"/>
                  <a:pt x="21183" y="10096"/>
                </a:cubicBezTo>
                <a:cubicBezTo>
                  <a:pt x="20969" y="10136"/>
                  <a:pt x="21001" y="10070"/>
                  <a:pt x="21010" y="9922"/>
                </a:cubicBezTo>
              </a:path>
              <a:path w="4665" h="2977">
                <a:moveTo>
                  <a:pt x="21729" y="9302"/>
                </a:moveTo>
                <a:cubicBezTo>
                  <a:pt x="21935" y="9319"/>
                  <a:pt x="22193" y="9334"/>
                  <a:pt x="22225" y="9599"/>
                </a:cubicBezTo>
                <a:cubicBezTo>
                  <a:pt x="22259" y="9873"/>
                  <a:pt x="21975" y="9981"/>
                  <a:pt x="21754" y="9971"/>
                </a:cubicBezTo>
                <a:cubicBezTo>
                  <a:pt x="21686" y="9949"/>
                  <a:pt x="21658" y="9948"/>
                  <a:pt x="21704" y="9897"/>
                </a:cubicBezTo>
                <a:cubicBezTo>
                  <a:pt x="21833" y="9830"/>
                  <a:pt x="22065" y="9705"/>
                  <a:pt x="22200" y="9847"/>
                </a:cubicBezTo>
                <a:cubicBezTo>
                  <a:pt x="22219" y="9905"/>
                  <a:pt x="22246" y="9930"/>
                  <a:pt x="22200" y="9922"/>
                </a:cubicBezTo>
              </a:path>
              <a:path w="4665" h="2977">
                <a:moveTo>
                  <a:pt x="20191" y="10716"/>
                </a:moveTo>
                <a:cubicBezTo>
                  <a:pt x="20358" y="10679"/>
                  <a:pt x="20517" y="10650"/>
                  <a:pt x="20687" y="10641"/>
                </a:cubicBezTo>
              </a:path>
              <a:path w="4665" h="2977">
                <a:moveTo>
                  <a:pt x="21307" y="10319"/>
                </a:moveTo>
                <a:cubicBezTo>
                  <a:pt x="21373" y="10523"/>
                  <a:pt x="21393" y="10727"/>
                  <a:pt x="21431" y="10939"/>
                </a:cubicBezTo>
                <a:cubicBezTo>
                  <a:pt x="21448" y="11035"/>
                  <a:pt x="21433" y="11103"/>
                  <a:pt x="21481" y="11088"/>
                </a:cubicBezTo>
              </a:path>
              <a:path w="4665" h="2977">
                <a:moveTo>
                  <a:pt x="21952" y="10368"/>
                </a:moveTo>
                <a:cubicBezTo>
                  <a:pt x="22086" y="10349"/>
                  <a:pt x="22212" y="10323"/>
                  <a:pt x="22349" y="10319"/>
                </a:cubicBezTo>
                <a:cubicBezTo>
                  <a:pt x="22508" y="10315"/>
                  <a:pt x="22491" y="10519"/>
                  <a:pt x="22498" y="10641"/>
                </a:cubicBezTo>
                <a:cubicBezTo>
                  <a:pt x="22509" y="10832"/>
                  <a:pt x="22515" y="11022"/>
                  <a:pt x="22523" y="11212"/>
                </a:cubicBezTo>
                <a:cubicBezTo>
                  <a:pt x="22523" y="11220"/>
                  <a:pt x="22523" y="11229"/>
                  <a:pt x="22523" y="11237"/>
                </a:cubicBezTo>
              </a:path>
              <a:path w="4665" h="2977">
                <a:moveTo>
                  <a:pt x="20538" y="11509"/>
                </a:moveTo>
                <a:cubicBezTo>
                  <a:pt x="21122" y="11482"/>
                  <a:pt x="21714" y="11443"/>
                  <a:pt x="22299" y="11460"/>
                </a:cubicBezTo>
                <a:cubicBezTo>
                  <a:pt x="22481" y="11465"/>
                  <a:pt x="22724" y="11476"/>
                  <a:pt x="22895" y="11509"/>
                </a:cubicBezTo>
              </a:path>
              <a:path w="4665" h="2977">
                <a:moveTo>
                  <a:pt x="18256" y="10294"/>
                </a:moveTo>
                <a:cubicBezTo>
                  <a:pt x="18220" y="10329"/>
                  <a:pt x="18231" y="10395"/>
                  <a:pt x="18231" y="10468"/>
                </a:cubicBezTo>
                <a:cubicBezTo>
                  <a:pt x="18231" y="10668"/>
                  <a:pt x="18221" y="10385"/>
                  <a:pt x="18231" y="10368"/>
                </a:cubicBezTo>
                <a:cubicBezTo>
                  <a:pt x="18286" y="10276"/>
                  <a:pt x="18466" y="10294"/>
                  <a:pt x="18554" y="10294"/>
                </a:cubicBezTo>
                <a:cubicBezTo>
                  <a:pt x="18562" y="10294"/>
                  <a:pt x="18571" y="10294"/>
                  <a:pt x="18579" y="10294"/>
                </a:cubicBezTo>
                <a:cubicBezTo>
                  <a:pt x="18662" y="10560"/>
                  <a:pt x="18610" y="10852"/>
                  <a:pt x="18579" y="11137"/>
                </a:cubicBezTo>
                <a:cubicBezTo>
                  <a:pt x="18577" y="11159"/>
                  <a:pt x="18474" y="11674"/>
                  <a:pt x="18579" y="11385"/>
                </a:cubicBezTo>
              </a:path>
              <a:path w="4665" h="2977">
                <a:moveTo>
                  <a:pt x="18827" y="9947"/>
                </a:moveTo>
                <a:cubicBezTo>
                  <a:pt x="18921" y="9926"/>
                  <a:pt x="19065" y="9950"/>
                  <a:pt x="19050" y="10096"/>
                </a:cubicBezTo>
                <a:cubicBezTo>
                  <a:pt x="19037" y="10225"/>
                  <a:pt x="18965" y="10288"/>
                  <a:pt x="18876" y="10344"/>
                </a:cubicBezTo>
                <a:cubicBezTo>
                  <a:pt x="18891" y="10211"/>
                  <a:pt x="18936" y="10184"/>
                  <a:pt x="19075" y="10244"/>
                </a:cubicBezTo>
                <a:cubicBezTo>
                  <a:pt x="19100" y="10261"/>
                  <a:pt x="19124" y="10277"/>
                  <a:pt x="19149" y="10294"/>
                </a:cubicBezTo>
              </a:path>
              <a:path w="4665" h="2977">
                <a:moveTo>
                  <a:pt x="18951" y="10567"/>
                </a:moveTo>
                <a:cubicBezTo>
                  <a:pt x="19094" y="10567"/>
                  <a:pt x="19196" y="10558"/>
                  <a:pt x="19323" y="10616"/>
                </a:cubicBezTo>
              </a:path>
              <a:path w="4665" h="2977">
                <a:moveTo>
                  <a:pt x="19050" y="10840"/>
                </a:moveTo>
                <a:cubicBezTo>
                  <a:pt x="19050" y="10998"/>
                  <a:pt x="19036" y="11157"/>
                  <a:pt x="19075" y="11311"/>
                </a:cubicBezTo>
                <a:cubicBezTo>
                  <a:pt x="19083" y="11336"/>
                  <a:pt x="19092" y="11360"/>
                  <a:pt x="19100" y="11385"/>
                </a:cubicBezTo>
                <a:cubicBezTo>
                  <a:pt x="19210" y="11335"/>
                  <a:pt x="19367" y="11248"/>
                  <a:pt x="19397" y="11112"/>
                </a:cubicBezTo>
                <a:cubicBezTo>
                  <a:pt x="19389" y="11104"/>
                  <a:pt x="19380" y="11096"/>
                  <a:pt x="19372" y="11088"/>
                </a:cubicBezTo>
                <a:cubicBezTo>
                  <a:pt x="19255" y="11146"/>
                  <a:pt x="19172" y="11209"/>
                  <a:pt x="19199" y="11361"/>
                </a:cubicBezTo>
                <a:cubicBezTo>
                  <a:pt x="19207" y="11377"/>
                  <a:pt x="19216" y="11394"/>
                  <a:pt x="19224" y="1141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99000" y="3732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74" y="10368"/>
                </a:moveTo>
                <a:lnTo>
                  <a:pt x="12774" y="10368"/>
                </a:lnTo>
                <a:lnTo>
                  <a:pt x="12774" y="10368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45000" y="3490920"/>
            <a:ext cx="2975040" cy="2359080"/>
          </a:xfrm>
          <a:custGeom>
            <a:avLst/>
            <a:gdLst/>
            <a:ahLst/>
            <a:rect l="l" t="t" r="r" b="b"/>
            <a:pathLst>
              <a:path w="8261" h="6549">
                <a:moveTo>
                  <a:pt x="13593" y="10269"/>
                </a:moveTo>
                <a:cubicBezTo>
                  <a:pt x="13734" y="10322"/>
                  <a:pt x="13910" y="10266"/>
                  <a:pt x="14064" y="10244"/>
                </a:cubicBezTo>
                <a:cubicBezTo>
                  <a:pt x="14190" y="10226"/>
                  <a:pt x="14296" y="10199"/>
                  <a:pt x="14412" y="10220"/>
                </a:cubicBezTo>
                <a:cubicBezTo>
                  <a:pt x="14364" y="10521"/>
                  <a:pt x="14222" y="10784"/>
                  <a:pt x="14089" y="11063"/>
                </a:cubicBezTo>
                <a:cubicBezTo>
                  <a:pt x="14050" y="11144"/>
                  <a:pt x="13877" y="11497"/>
                  <a:pt x="14089" y="11261"/>
                </a:cubicBezTo>
              </a:path>
              <a:path w="8261" h="6549">
                <a:moveTo>
                  <a:pt x="15404" y="9699"/>
                </a:moveTo>
                <a:cubicBezTo>
                  <a:pt x="15404" y="9857"/>
                  <a:pt x="15382" y="10011"/>
                  <a:pt x="15379" y="10170"/>
                </a:cubicBezTo>
                <a:cubicBezTo>
                  <a:pt x="15379" y="10294"/>
                  <a:pt x="15379" y="10319"/>
                  <a:pt x="15379" y="10393"/>
                </a:cubicBezTo>
              </a:path>
              <a:path w="8261" h="6549">
                <a:moveTo>
                  <a:pt x="14932" y="10517"/>
                </a:moveTo>
                <a:cubicBezTo>
                  <a:pt x="15186" y="10485"/>
                  <a:pt x="15452" y="10413"/>
                  <a:pt x="15701" y="10443"/>
                </a:cubicBezTo>
              </a:path>
              <a:path w="8261" h="6549">
                <a:moveTo>
                  <a:pt x="15230" y="10864"/>
                </a:moveTo>
                <a:cubicBezTo>
                  <a:pt x="15182" y="10864"/>
                  <a:pt x="15303" y="10800"/>
                  <a:pt x="15329" y="10790"/>
                </a:cubicBezTo>
                <a:cubicBezTo>
                  <a:pt x="15413" y="10756"/>
                  <a:pt x="15590" y="10777"/>
                  <a:pt x="15553" y="10914"/>
                </a:cubicBezTo>
                <a:cubicBezTo>
                  <a:pt x="15518" y="11044"/>
                  <a:pt x="15395" y="11106"/>
                  <a:pt x="15280" y="11137"/>
                </a:cubicBezTo>
                <a:cubicBezTo>
                  <a:pt x="15255" y="11137"/>
                  <a:pt x="15247" y="11137"/>
                  <a:pt x="15255" y="11112"/>
                </a:cubicBezTo>
                <a:cubicBezTo>
                  <a:pt x="15382" y="11054"/>
                  <a:pt x="15495" y="11031"/>
                  <a:pt x="15627" y="11112"/>
                </a:cubicBezTo>
                <a:cubicBezTo>
                  <a:pt x="15644" y="11129"/>
                  <a:pt x="15660" y="11145"/>
                  <a:pt x="15677" y="11162"/>
                </a:cubicBezTo>
                <a:cubicBezTo>
                  <a:pt x="15635" y="11319"/>
                  <a:pt x="15523" y="11410"/>
                  <a:pt x="15329" y="11410"/>
                </a:cubicBezTo>
                <a:cubicBezTo>
                  <a:pt x="15255" y="11385"/>
                  <a:pt x="15230" y="11377"/>
                  <a:pt x="15280" y="11311"/>
                </a:cubicBezTo>
              </a:path>
              <a:path w="8261" h="6549">
                <a:moveTo>
                  <a:pt x="12774" y="12700"/>
                </a:moveTo>
                <a:cubicBezTo>
                  <a:pt x="12797" y="12884"/>
                  <a:pt x="12821" y="13034"/>
                  <a:pt x="12799" y="13221"/>
                </a:cubicBezTo>
                <a:cubicBezTo>
                  <a:pt x="12780" y="13332"/>
                  <a:pt x="12799" y="13353"/>
                  <a:pt x="12750" y="13395"/>
                </a:cubicBezTo>
              </a:path>
              <a:path w="8261" h="6549">
                <a:moveTo>
                  <a:pt x="12626" y="13146"/>
                </a:moveTo>
                <a:cubicBezTo>
                  <a:pt x="12819" y="13090"/>
                  <a:pt x="12999" y="13075"/>
                  <a:pt x="13196" y="13047"/>
                </a:cubicBezTo>
              </a:path>
              <a:path w="8261" h="6549">
                <a:moveTo>
                  <a:pt x="13618" y="12700"/>
                </a:moveTo>
                <a:cubicBezTo>
                  <a:pt x="13606" y="12871"/>
                  <a:pt x="13545" y="13027"/>
                  <a:pt x="13519" y="13196"/>
                </a:cubicBezTo>
                <a:cubicBezTo>
                  <a:pt x="13519" y="13213"/>
                  <a:pt x="13519" y="13229"/>
                  <a:pt x="13519" y="13246"/>
                </a:cubicBezTo>
                <a:cubicBezTo>
                  <a:pt x="13732" y="13203"/>
                  <a:pt x="13948" y="13162"/>
                  <a:pt x="14163" y="13122"/>
                </a:cubicBezTo>
                <a:cubicBezTo>
                  <a:pt x="14289" y="13099"/>
                  <a:pt x="14300" y="13118"/>
                  <a:pt x="14238" y="13072"/>
                </a:cubicBezTo>
              </a:path>
              <a:path w="8261" h="6549">
                <a:moveTo>
                  <a:pt x="14114" y="12477"/>
                </a:moveTo>
                <a:cubicBezTo>
                  <a:pt x="14114" y="12816"/>
                  <a:pt x="14130" y="13157"/>
                  <a:pt x="14089" y="13494"/>
                </a:cubicBezTo>
                <a:cubicBezTo>
                  <a:pt x="14079" y="13577"/>
                  <a:pt x="14064" y="13775"/>
                  <a:pt x="14064" y="13692"/>
                </a:cubicBezTo>
              </a:path>
              <a:path w="8261" h="6549">
                <a:moveTo>
                  <a:pt x="15429" y="12005"/>
                </a:moveTo>
                <a:cubicBezTo>
                  <a:pt x="15429" y="12146"/>
                  <a:pt x="15429" y="12286"/>
                  <a:pt x="15429" y="12427"/>
                </a:cubicBezTo>
              </a:path>
              <a:path w="8261" h="6549">
                <a:moveTo>
                  <a:pt x="15255" y="12675"/>
                </a:moveTo>
                <a:cubicBezTo>
                  <a:pt x="15463" y="12650"/>
                  <a:pt x="15665" y="12626"/>
                  <a:pt x="15875" y="12626"/>
                </a:cubicBezTo>
              </a:path>
              <a:path w="8261" h="6549">
                <a:moveTo>
                  <a:pt x="15329" y="13072"/>
                </a:moveTo>
                <a:cubicBezTo>
                  <a:pt x="15430" y="13052"/>
                  <a:pt x="15544" y="12995"/>
                  <a:pt x="15652" y="12998"/>
                </a:cubicBezTo>
                <a:cubicBezTo>
                  <a:pt x="15736" y="13018"/>
                  <a:pt x="15755" y="13020"/>
                  <a:pt x="15801" y="13047"/>
                </a:cubicBezTo>
                <a:cubicBezTo>
                  <a:pt x="15815" y="13244"/>
                  <a:pt x="15666" y="13351"/>
                  <a:pt x="15503" y="13469"/>
                </a:cubicBezTo>
                <a:cubicBezTo>
                  <a:pt x="15395" y="13534"/>
                  <a:pt x="15363" y="13543"/>
                  <a:pt x="15329" y="13618"/>
                </a:cubicBezTo>
                <a:cubicBezTo>
                  <a:pt x="15516" y="13656"/>
                  <a:pt x="15662" y="13612"/>
                  <a:pt x="15850" y="13593"/>
                </a:cubicBezTo>
                <a:cubicBezTo>
                  <a:pt x="15917" y="13586"/>
                  <a:pt x="15936" y="13577"/>
                  <a:pt x="15949" y="13618"/>
                </a:cubicBezTo>
              </a:path>
              <a:path w="8261" h="6549">
                <a:moveTo>
                  <a:pt x="17165" y="13072"/>
                </a:moveTo>
                <a:cubicBezTo>
                  <a:pt x="17183" y="12984"/>
                  <a:pt x="17159" y="13134"/>
                  <a:pt x="17140" y="13221"/>
                </a:cubicBezTo>
                <a:cubicBezTo>
                  <a:pt x="17114" y="13343"/>
                  <a:pt x="17098" y="13425"/>
                  <a:pt x="17115" y="13543"/>
                </a:cubicBezTo>
                <a:cubicBezTo>
                  <a:pt x="17232" y="13578"/>
                  <a:pt x="17343" y="13571"/>
                  <a:pt x="17413" y="13444"/>
                </a:cubicBezTo>
                <a:cubicBezTo>
                  <a:pt x="17465" y="13350"/>
                  <a:pt x="17459" y="13302"/>
                  <a:pt x="17413" y="13246"/>
                </a:cubicBezTo>
                <a:cubicBezTo>
                  <a:pt x="17301" y="13357"/>
                  <a:pt x="17276" y="13409"/>
                  <a:pt x="17264" y="13568"/>
                </a:cubicBezTo>
              </a:path>
              <a:path w="8261" h="6549">
                <a:moveTo>
                  <a:pt x="17090" y="12849"/>
                </a:moveTo>
                <a:cubicBezTo>
                  <a:pt x="17203" y="12849"/>
                  <a:pt x="17303" y="12835"/>
                  <a:pt x="17413" y="12824"/>
                </a:cubicBezTo>
                <a:cubicBezTo>
                  <a:pt x="17487" y="12817"/>
                  <a:pt x="17537" y="12774"/>
                  <a:pt x="17537" y="12849"/>
                </a:cubicBezTo>
              </a:path>
              <a:path w="8261" h="6549">
                <a:moveTo>
                  <a:pt x="16098" y="12601"/>
                </a:moveTo>
                <a:cubicBezTo>
                  <a:pt x="16140" y="12580"/>
                  <a:pt x="16244" y="12738"/>
                  <a:pt x="16297" y="12799"/>
                </a:cubicBezTo>
                <a:cubicBezTo>
                  <a:pt x="16349" y="12859"/>
                  <a:pt x="16351" y="12926"/>
                  <a:pt x="16371" y="12849"/>
                </a:cubicBezTo>
              </a:path>
              <a:path w="8261" h="6549">
                <a:moveTo>
                  <a:pt x="16272" y="12502"/>
                </a:moveTo>
                <a:cubicBezTo>
                  <a:pt x="16281" y="12661"/>
                  <a:pt x="16270" y="12842"/>
                  <a:pt x="16297" y="12998"/>
                </a:cubicBezTo>
                <a:cubicBezTo>
                  <a:pt x="16305" y="13014"/>
                  <a:pt x="16313" y="13031"/>
                  <a:pt x="16321" y="13047"/>
                </a:cubicBezTo>
              </a:path>
              <a:path w="8261" h="6549">
                <a:moveTo>
                  <a:pt x="16545" y="12948"/>
                </a:moveTo>
                <a:cubicBezTo>
                  <a:pt x="16619" y="12929"/>
                  <a:pt x="16709" y="12831"/>
                  <a:pt x="16793" y="12898"/>
                </a:cubicBezTo>
                <a:cubicBezTo>
                  <a:pt x="16897" y="12981"/>
                  <a:pt x="16763" y="13129"/>
                  <a:pt x="16718" y="13196"/>
                </a:cubicBezTo>
                <a:cubicBezTo>
                  <a:pt x="16718" y="13204"/>
                  <a:pt x="16718" y="13213"/>
                  <a:pt x="16718" y="13221"/>
                </a:cubicBezTo>
                <a:cubicBezTo>
                  <a:pt x="16728" y="13174"/>
                  <a:pt x="16855" y="12975"/>
                  <a:pt x="16892" y="13122"/>
                </a:cubicBezTo>
                <a:cubicBezTo>
                  <a:pt x="16932" y="13282"/>
                  <a:pt x="16792" y="13483"/>
                  <a:pt x="16619" y="13469"/>
                </a:cubicBezTo>
                <a:cubicBezTo>
                  <a:pt x="16508" y="13413"/>
                  <a:pt x="16473" y="13384"/>
                  <a:pt x="16495" y="13271"/>
                </a:cubicBezTo>
              </a:path>
              <a:path w="8261" h="6549">
                <a:moveTo>
                  <a:pt x="16545" y="12774"/>
                </a:moveTo>
                <a:cubicBezTo>
                  <a:pt x="16617" y="12758"/>
                  <a:pt x="16751" y="12753"/>
                  <a:pt x="16818" y="12725"/>
                </a:cubicBezTo>
                <a:cubicBezTo>
                  <a:pt x="16818" y="12717"/>
                  <a:pt x="16818" y="12708"/>
                  <a:pt x="16818" y="12700"/>
                </a:cubicBezTo>
              </a:path>
              <a:path w="8261" h="6549">
                <a:moveTo>
                  <a:pt x="16421" y="12179"/>
                </a:moveTo>
                <a:cubicBezTo>
                  <a:pt x="16495" y="12160"/>
                  <a:pt x="16497" y="12092"/>
                  <a:pt x="16594" y="12105"/>
                </a:cubicBezTo>
                <a:cubicBezTo>
                  <a:pt x="16750" y="12126"/>
                  <a:pt x="16674" y="12342"/>
                  <a:pt x="16644" y="12427"/>
                </a:cubicBezTo>
                <a:cubicBezTo>
                  <a:pt x="16636" y="12444"/>
                  <a:pt x="16627" y="12460"/>
                  <a:pt x="16619" y="12477"/>
                </a:cubicBezTo>
                <a:cubicBezTo>
                  <a:pt x="16636" y="12393"/>
                  <a:pt x="16698" y="12360"/>
                  <a:pt x="16768" y="12452"/>
                </a:cubicBezTo>
                <a:cubicBezTo>
                  <a:pt x="16855" y="12566"/>
                  <a:pt x="16779" y="12686"/>
                  <a:pt x="16669" y="12725"/>
                </a:cubicBezTo>
                <a:cubicBezTo>
                  <a:pt x="16577" y="12748"/>
                  <a:pt x="16552" y="12759"/>
                  <a:pt x="16495" y="12725"/>
                </a:cubicBezTo>
              </a:path>
              <a:path w="8261" h="6549">
                <a:moveTo>
                  <a:pt x="17214" y="12030"/>
                </a:moveTo>
                <a:cubicBezTo>
                  <a:pt x="17134" y="12030"/>
                  <a:pt x="17172" y="12021"/>
                  <a:pt x="17140" y="12080"/>
                </a:cubicBezTo>
                <a:cubicBezTo>
                  <a:pt x="17132" y="12088"/>
                  <a:pt x="17123" y="12097"/>
                  <a:pt x="17115" y="12105"/>
                </a:cubicBezTo>
                <a:cubicBezTo>
                  <a:pt x="17124" y="12087"/>
                  <a:pt x="17232" y="11930"/>
                  <a:pt x="17289" y="11956"/>
                </a:cubicBezTo>
                <a:cubicBezTo>
                  <a:pt x="17402" y="12007"/>
                  <a:pt x="17296" y="12221"/>
                  <a:pt x="17264" y="12278"/>
                </a:cubicBezTo>
                <a:cubicBezTo>
                  <a:pt x="17161" y="12465"/>
                  <a:pt x="17340" y="12144"/>
                  <a:pt x="17487" y="12254"/>
                </a:cubicBezTo>
                <a:cubicBezTo>
                  <a:pt x="17676" y="12396"/>
                  <a:pt x="17484" y="12636"/>
                  <a:pt x="17338" y="12700"/>
                </a:cubicBezTo>
                <a:cubicBezTo>
                  <a:pt x="17219" y="12724"/>
                  <a:pt x="17182" y="12735"/>
                  <a:pt x="17115" y="12675"/>
                </a:cubicBezTo>
              </a:path>
              <a:path w="8261" h="6549">
                <a:moveTo>
                  <a:pt x="17934" y="12477"/>
                </a:moveTo>
                <a:cubicBezTo>
                  <a:pt x="17965" y="12615"/>
                  <a:pt x="18039" y="12808"/>
                  <a:pt x="18033" y="12948"/>
                </a:cubicBezTo>
                <a:cubicBezTo>
                  <a:pt x="18025" y="12956"/>
                  <a:pt x="18016" y="12965"/>
                  <a:pt x="18008" y="12973"/>
                </a:cubicBezTo>
              </a:path>
              <a:path w="8261" h="6549">
                <a:moveTo>
                  <a:pt x="17959" y="12849"/>
                </a:moveTo>
                <a:cubicBezTo>
                  <a:pt x="18048" y="12789"/>
                  <a:pt x="18105" y="12759"/>
                  <a:pt x="18207" y="12725"/>
                </a:cubicBezTo>
              </a:path>
              <a:path w="8261" h="6549">
                <a:moveTo>
                  <a:pt x="18479" y="12502"/>
                </a:moveTo>
                <a:cubicBezTo>
                  <a:pt x="18549" y="12589"/>
                  <a:pt x="18529" y="12746"/>
                  <a:pt x="18529" y="12874"/>
                </a:cubicBezTo>
                <a:cubicBezTo>
                  <a:pt x="18529" y="12902"/>
                  <a:pt x="18532" y="12912"/>
                  <a:pt x="18554" y="12923"/>
                </a:cubicBezTo>
                <a:cubicBezTo>
                  <a:pt x="18689" y="12899"/>
                  <a:pt x="18764" y="12835"/>
                  <a:pt x="18876" y="12774"/>
                </a:cubicBezTo>
                <a:cubicBezTo>
                  <a:pt x="18901" y="12774"/>
                  <a:pt x="18909" y="12774"/>
                  <a:pt x="18901" y="12750"/>
                </a:cubicBezTo>
              </a:path>
              <a:path w="8261" h="6549">
                <a:moveTo>
                  <a:pt x="18752" y="12254"/>
                </a:moveTo>
                <a:cubicBezTo>
                  <a:pt x="18752" y="12453"/>
                  <a:pt x="18782" y="12651"/>
                  <a:pt x="18802" y="12849"/>
                </a:cubicBezTo>
                <a:cubicBezTo>
                  <a:pt x="18825" y="13076"/>
                  <a:pt x="18815" y="13270"/>
                  <a:pt x="18802" y="13494"/>
                </a:cubicBezTo>
                <a:cubicBezTo>
                  <a:pt x="18802" y="13519"/>
                  <a:pt x="18802" y="13527"/>
                  <a:pt x="18802" y="13494"/>
                </a:cubicBezTo>
              </a:path>
              <a:path w="8261" h="6549">
                <a:moveTo>
                  <a:pt x="18976" y="12204"/>
                </a:moveTo>
                <a:cubicBezTo>
                  <a:pt x="18933" y="12190"/>
                  <a:pt x="18932" y="12188"/>
                  <a:pt x="18951" y="12154"/>
                </a:cubicBezTo>
                <a:cubicBezTo>
                  <a:pt x="18973" y="12111"/>
                  <a:pt x="18977" y="12100"/>
                  <a:pt x="19000" y="12080"/>
                </a:cubicBezTo>
                <a:cubicBezTo>
                  <a:pt x="19058" y="12109"/>
                  <a:pt x="19087" y="12258"/>
                  <a:pt x="19050" y="12353"/>
                </a:cubicBezTo>
                <a:cubicBezTo>
                  <a:pt x="19008" y="12394"/>
                  <a:pt x="19000" y="12402"/>
                  <a:pt x="18976" y="12427"/>
                </a:cubicBezTo>
                <a:cubicBezTo>
                  <a:pt x="18998" y="12368"/>
                  <a:pt x="19096" y="12254"/>
                  <a:pt x="19174" y="12353"/>
                </a:cubicBezTo>
                <a:cubicBezTo>
                  <a:pt x="19215" y="12405"/>
                  <a:pt x="19214" y="12495"/>
                  <a:pt x="19149" y="12526"/>
                </a:cubicBezTo>
                <a:cubicBezTo>
                  <a:pt x="19089" y="12546"/>
                  <a:pt x="19074" y="12545"/>
                  <a:pt x="19050" y="12576"/>
                </a:cubicBezTo>
              </a:path>
              <a:path w="8261" h="6549">
                <a:moveTo>
                  <a:pt x="19100" y="12849"/>
                </a:moveTo>
                <a:cubicBezTo>
                  <a:pt x="19234" y="12830"/>
                  <a:pt x="19359" y="12771"/>
                  <a:pt x="19496" y="12750"/>
                </a:cubicBezTo>
                <a:cubicBezTo>
                  <a:pt x="19548" y="12750"/>
                  <a:pt x="19564" y="12751"/>
                  <a:pt x="19521" y="12799"/>
                </a:cubicBezTo>
              </a:path>
              <a:path w="8261" h="6549">
                <a:moveTo>
                  <a:pt x="19273" y="13122"/>
                </a:moveTo>
                <a:cubicBezTo>
                  <a:pt x="19234" y="13213"/>
                  <a:pt x="19227" y="13337"/>
                  <a:pt x="19224" y="13444"/>
                </a:cubicBezTo>
                <a:cubicBezTo>
                  <a:pt x="19220" y="13609"/>
                  <a:pt x="19311" y="13725"/>
                  <a:pt x="19496" y="13667"/>
                </a:cubicBezTo>
                <a:cubicBezTo>
                  <a:pt x="19612" y="13630"/>
                  <a:pt x="19768" y="13514"/>
                  <a:pt x="19720" y="13419"/>
                </a:cubicBezTo>
                <a:cubicBezTo>
                  <a:pt x="19679" y="13433"/>
                  <a:pt x="19450" y="13549"/>
                  <a:pt x="19521" y="13643"/>
                </a:cubicBezTo>
                <a:cubicBezTo>
                  <a:pt x="19529" y="13635"/>
                  <a:pt x="19538" y="13626"/>
                  <a:pt x="19546" y="13618"/>
                </a:cubicBezTo>
              </a:path>
              <a:path w="8261" h="6549">
                <a:moveTo>
                  <a:pt x="18256" y="14114"/>
                </a:moveTo>
                <a:cubicBezTo>
                  <a:pt x="18528" y="14029"/>
                  <a:pt x="18803" y="13950"/>
                  <a:pt x="19075" y="13866"/>
                </a:cubicBezTo>
                <a:cubicBezTo>
                  <a:pt x="19571" y="13713"/>
                  <a:pt x="20059" y="13584"/>
                  <a:pt x="20563" y="13469"/>
                </a:cubicBezTo>
                <a:cubicBezTo>
                  <a:pt x="20672" y="13444"/>
                  <a:pt x="20778" y="13416"/>
                  <a:pt x="20886" y="13395"/>
                </a:cubicBezTo>
              </a:path>
              <a:path w="8261" h="6549">
                <a:moveTo>
                  <a:pt x="20414" y="14337"/>
                </a:moveTo>
                <a:cubicBezTo>
                  <a:pt x="20383" y="14337"/>
                  <a:pt x="20274" y="14310"/>
                  <a:pt x="20265" y="14312"/>
                </a:cubicBezTo>
                <a:cubicBezTo>
                  <a:pt x="20197" y="14328"/>
                  <a:pt x="20115" y="14555"/>
                  <a:pt x="20092" y="14610"/>
                </a:cubicBezTo>
                <a:cubicBezTo>
                  <a:pt x="20073" y="14667"/>
                  <a:pt x="20064" y="14674"/>
                  <a:pt x="20067" y="14709"/>
                </a:cubicBezTo>
                <a:cubicBezTo>
                  <a:pt x="20155" y="14709"/>
                  <a:pt x="20286" y="14658"/>
                  <a:pt x="20365" y="14684"/>
                </a:cubicBezTo>
                <a:cubicBezTo>
                  <a:pt x="20469" y="14718"/>
                  <a:pt x="20575" y="14852"/>
                  <a:pt x="20489" y="14957"/>
                </a:cubicBezTo>
                <a:cubicBezTo>
                  <a:pt x="20399" y="15067"/>
                  <a:pt x="20226" y="15034"/>
                  <a:pt x="20117" y="14982"/>
                </a:cubicBezTo>
                <a:cubicBezTo>
                  <a:pt x="20094" y="14959"/>
                  <a:pt x="20086" y="14948"/>
                  <a:pt x="20092" y="14982"/>
                </a:cubicBezTo>
              </a:path>
              <a:path w="8261" h="6549">
                <a:moveTo>
                  <a:pt x="19844" y="15354"/>
                </a:moveTo>
                <a:cubicBezTo>
                  <a:pt x="20113" y="15345"/>
                  <a:pt x="20394" y="15280"/>
                  <a:pt x="20662" y="15304"/>
                </a:cubicBezTo>
                <a:cubicBezTo>
                  <a:pt x="20782" y="15315"/>
                  <a:pt x="20765" y="15335"/>
                  <a:pt x="20737" y="15429"/>
                </a:cubicBezTo>
              </a:path>
              <a:path w="8261" h="6549">
                <a:moveTo>
                  <a:pt x="20265" y="15577"/>
                </a:moveTo>
                <a:cubicBezTo>
                  <a:pt x="20247" y="15692"/>
                  <a:pt x="20180" y="15780"/>
                  <a:pt x="20166" y="15900"/>
                </a:cubicBezTo>
                <a:cubicBezTo>
                  <a:pt x="20149" y="16048"/>
                  <a:pt x="20141" y="16154"/>
                  <a:pt x="20265" y="16222"/>
                </a:cubicBezTo>
                <a:cubicBezTo>
                  <a:pt x="20399" y="16296"/>
                  <a:pt x="20510" y="16140"/>
                  <a:pt x="20613" y="16073"/>
                </a:cubicBezTo>
                <a:cubicBezTo>
                  <a:pt x="20656" y="16052"/>
                  <a:pt x="20668" y="16048"/>
                  <a:pt x="20687" y="16024"/>
                </a:cubicBezTo>
                <a:cubicBezTo>
                  <a:pt x="20645" y="15960"/>
                  <a:pt x="20550" y="16035"/>
                  <a:pt x="20489" y="16073"/>
                </a:cubicBezTo>
                <a:cubicBezTo>
                  <a:pt x="20402" y="16127"/>
                  <a:pt x="20423" y="16118"/>
                  <a:pt x="20389" y="16197"/>
                </a:cubicBezTo>
              </a:path>
              <a:path w="8261" h="6549">
                <a:moveTo>
                  <a:pt x="15577" y="14263"/>
                </a:moveTo>
                <a:lnTo>
                  <a:pt x="15577" y="14263"/>
                </a:lnTo>
              </a:path>
              <a:path w="8261" h="6549">
                <a:moveTo>
                  <a:pt x="18380" y="14660"/>
                </a:moveTo>
                <a:cubicBezTo>
                  <a:pt x="18451" y="14706"/>
                  <a:pt x="18429" y="14862"/>
                  <a:pt x="18430" y="14957"/>
                </a:cubicBezTo>
                <a:cubicBezTo>
                  <a:pt x="18434" y="15332"/>
                  <a:pt x="18325" y="15680"/>
                  <a:pt x="18306" y="16049"/>
                </a:cubicBezTo>
                <a:cubicBezTo>
                  <a:pt x="18303" y="16109"/>
                  <a:pt x="18371" y="16008"/>
                  <a:pt x="18380" y="15999"/>
                </a:cubicBezTo>
              </a:path>
              <a:path w="8261" h="6549">
                <a:moveTo>
                  <a:pt x="19050" y="14784"/>
                </a:moveTo>
                <a:cubicBezTo>
                  <a:pt x="19068" y="15017"/>
                  <a:pt x="19082" y="15270"/>
                  <a:pt x="19050" y="15503"/>
                </a:cubicBezTo>
                <a:cubicBezTo>
                  <a:pt x="19033" y="15625"/>
                  <a:pt x="19026" y="15939"/>
                  <a:pt x="18976" y="16049"/>
                </a:cubicBezTo>
                <a:cubicBezTo>
                  <a:pt x="18951" y="16049"/>
                  <a:pt x="18943" y="16049"/>
                  <a:pt x="18976" y="1604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83080" y="3429000"/>
            <a:ext cx="1928880" cy="1652760"/>
          </a:xfrm>
          <a:custGeom>
            <a:avLst/>
            <a:gdLst/>
            <a:ahLst/>
            <a:rect l="l" t="t" r="r" b="b"/>
            <a:pathLst>
              <a:path w="5359" h="4590">
                <a:moveTo>
                  <a:pt x="14511" y="9525"/>
                </a:moveTo>
                <a:cubicBezTo>
                  <a:pt x="14539" y="9553"/>
                  <a:pt x="14548" y="9566"/>
                  <a:pt x="14536" y="9599"/>
                </a:cubicBezTo>
              </a:path>
              <a:path w="5359" h="4590">
                <a:moveTo>
                  <a:pt x="14610" y="10269"/>
                </a:moveTo>
                <a:cubicBezTo>
                  <a:pt x="14610" y="10277"/>
                  <a:pt x="14610" y="10286"/>
                  <a:pt x="14610" y="10294"/>
                </a:cubicBezTo>
              </a:path>
              <a:path w="5359" h="4590">
                <a:moveTo>
                  <a:pt x="14560" y="10740"/>
                </a:moveTo>
                <a:cubicBezTo>
                  <a:pt x="14568" y="10740"/>
                  <a:pt x="14577" y="10740"/>
                  <a:pt x="14585" y="10740"/>
                </a:cubicBezTo>
              </a:path>
              <a:path w="5359" h="4590">
                <a:moveTo>
                  <a:pt x="14536" y="11187"/>
                </a:moveTo>
                <a:cubicBezTo>
                  <a:pt x="14505" y="11218"/>
                  <a:pt x="14527" y="11225"/>
                  <a:pt x="14560" y="11237"/>
                </a:cubicBezTo>
              </a:path>
              <a:path w="5359" h="4590">
                <a:moveTo>
                  <a:pt x="14635" y="11658"/>
                </a:moveTo>
                <a:cubicBezTo>
                  <a:pt x="14641" y="11770"/>
                  <a:pt x="14650" y="11827"/>
                  <a:pt x="14684" y="11931"/>
                </a:cubicBezTo>
              </a:path>
              <a:path w="5359" h="4590">
                <a:moveTo>
                  <a:pt x="14684" y="12799"/>
                </a:moveTo>
                <a:cubicBezTo>
                  <a:pt x="14655" y="12829"/>
                  <a:pt x="14650" y="12844"/>
                  <a:pt x="14684" y="12874"/>
                </a:cubicBezTo>
              </a:path>
              <a:path w="5359" h="4590">
                <a:moveTo>
                  <a:pt x="14585" y="13494"/>
                </a:moveTo>
                <a:cubicBezTo>
                  <a:pt x="14585" y="13538"/>
                  <a:pt x="14582" y="13552"/>
                  <a:pt x="14610" y="13568"/>
                </a:cubicBezTo>
              </a:path>
              <a:path w="5359" h="4590">
                <a:moveTo>
                  <a:pt x="14709" y="13866"/>
                </a:moveTo>
                <a:cubicBezTo>
                  <a:pt x="14709" y="13874"/>
                  <a:pt x="14709" y="13883"/>
                  <a:pt x="14709" y="13891"/>
                </a:cubicBezTo>
              </a:path>
              <a:path w="5359" h="4590">
                <a:moveTo>
                  <a:pt x="12452" y="14114"/>
                </a:moveTo>
                <a:cubicBezTo>
                  <a:pt x="12505" y="14114"/>
                  <a:pt x="12523" y="14114"/>
                  <a:pt x="12576" y="14114"/>
                </a:cubicBezTo>
                <a:cubicBezTo>
                  <a:pt x="13528" y="14114"/>
                  <a:pt x="14478" y="14079"/>
                  <a:pt x="15429" y="14064"/>
                </a:cubicBezTo>
                <a:cubicBezTo>
                  <a:pt x="16008" y="14055"/>
                  <a:pt x="16586" y="14039"/>
                  <a:pt x="17165" y="14039"/>
                </a:cubicBezTo>
                <a:cubicBezTo>
                  <a:pt x="17348" y="14039"/>
                  <a:pt x="17667" y="14049"/>
                  <a:pt x="17810" y="140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6720" y="380376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18852" y="10567"/>
                </a:moveTo>
                <a:cubicBezTo>
                  <a:pt x="18860" y="10575"/>
                  <a:pt x="18868" y="10584"/>
                  <a:pt x="18876" y="105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31000" y="3990960"/>
            <a:ext cx="144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18976" y="11088"/>
                </a:moveTo>
                <a:cubicBezTo>
                  <a:pt x="18976" y="11137"/>
                  <a:pt x="18976" y="11154"/>
                  <a:pt x="18976" y="1118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268880"/>
            <a:ext cx="936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19050" y="11857"/>
                </a:moveTo>
                <a:cubicBezTo>
                  <a:pt x="19058" y="11882"/>
                  <a:pt x="19067" y="11906"/>
                  <a:pt x="19075" y="1193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5640" y="4500720"/>
            <a:ext cx="9360" cy="27000"/>
          </a:xfrm>
          <a:custGeom>
            <a:avLst/>
            <a:gdLst/>
            <a:ahLst/>
            <a:rect l="l" t="t" r="r" b="b"/>
            <a:pathLst>
              <a:path w="25" h="75">
                <a:moveTo>
                  <a:pt x="19100" y="12502"/>
                </a:moveTo>
                <a:cubicBezTo>
                  <a:pt x="19120" y="12542"/>
                  <a:pt x="19128" y="12549"/>
                  <a:pt x="19124" y="1257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8640" y="4705200"/>
            <a:ext cx="28440" cy="3672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9025" y="13072"/>
                </a:moveTo>
                <a:cubicBezTo>
                  <a:pt x="19052" y="13126"/>
                  <a:pt x="19064" y="13146"/>
                  <a:pt x="19100" y="13171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85000" y="4929120"/>
            <a:ext cx="17280" cy="81000"/>
          </a:xfrm>
          <a:custGeom>
            <a:avLst/>
            <a:gdLst/>
            <a:ahLst/>
            <a:rect l="l" t="t" r="r" b="b"/>
            <a:pathLst>
              <a:path w="51" h="224">
                <a:moveTo>
                  <a:pt x="19124" y="13692"/>
                </a:moveTo>
                <a:cubicBezTo>
                  <a:pt x="19132" y="13709"/>
                  <a:pt x="19141" y="13725"/>
                  <a:pt x="19149" y="13742"/>
                </a:cubicBezTo>
              </a:path>
              <a:path w="51" h="224">
                <a:moveTo>
                  <a:pt x="19174" y="13915"/>
                </a:moveTo>
                <a:lnTo>
                  <a:pt x="19174" y="13915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6960" y="620568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935" y="17239"/>
                </a:moveTo>
                <a:cubicBezTo>
                  <a:pt x="1943" y="17247"/>
                  <a:pt x="1952" y="17256"/>
                  <a:pt x="1960" y="1726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4040" y="3303720"/>
            <a:ext cx="1751040" cy="161640"/>
          </a:xfrm>
          <a:custGeom>
            <a:avLst/>
            <a:gdLst/>
            <a:ahLst/>
            <a:rect l="l" t="t" r="r" b="b"/>
            <a:pathLst>
              <a:path w="4863" h="447">
                <a:moveTo>
                  <a:pt x="1563" y="9624"/>
                </a:moveTo>
                <a:cubicBezTo>
                  <a:pt x="1679" y="9624"/>
                  <a:pt x="1744" y="9624"/>
                  <a:pt x="1860" y="9624"/>
                </a:cubicBezTo>
                <a:cubicBezTo>
                  <a:pt x="2127" y="9624"/>
                  <a:pt x="2389" y="9611"/>
                  <a:pt x="2654" y="9599"/>
                </a:cubicBezTo>
                <a:cubicBezTo>
                  <a:pt x="2914" y="9587"/>
                  <a:pt x="3163" y="9582"/>
                  <a:pt x="3423" y="9550"/>
                </a:cubicBezTo>
                <a:cubicBezTo>
                  <a:pt x="3665" y="9520"/>
                  <a:pt x="3900" y="9461"/>
                  <a:pt x="4142" y="9426"/>
                </a:cubicBezTo>
                <a:cubicBezTo>
                  <a:pt x="4383" y="9391"/>
                  <a:pt x="4621" y="9373"/>
                  <a:pt x="4862" y="9351"/>
                </a:cubicBezTo>
                <a:cubicBezTo>
                  <a:pt x="5083" y="9331"/>
                  <a:pt x="5312" y="9304"/>
                  <a:pt x="5531" y="9277"/>
                </a:cubicBezTo>
                <a:cubicBezTo>
                  <a:pt x="5689" y="9257"/>
                  <a:pt x="5844" y="9213"/>
                  <a:pt x="6003" y="9203"/>
                </a:cubicBezTo>
                <a:cubicBezTo>
                  <a:pt x="6122" y="9195"/>
                  <a:pt x="6234" y="9190"/>
                  <a:pt x="6350" y="9178"/>
                </a:cubicBezTo>
                <a:cubicBezTo>
                  <a:pt x="6375" y="9178"/>
                  <a:pt x="6383" y="9178"/>
                  <a:pt x="6400" y="917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S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00200" y="251460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54000" y="40194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4191120"/>
                <a:ext cx="1676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32740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regroup if necess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1428840"/>
            <a:ext cx="704880" cy="714240"/>
          </a:xfrm>
          <a:custGeom>
            <a:avLst/>
            <a:gdLst/>
            <a:ahLst/>
            <a:rect l="l" t="t" r="r" b="b"/>
            <a:pathLst>
              <a:path w="1960" h="1985">
                <a:moveTo>
                  <a:pt x="12948" y="4415"/>
                </a:moveTo>
                <a:cubicBezTo>
                  <a:pt x="12941" y="4475"/>
                  <a:pt x="12936" y="4492"/>
                  <a:pt x="12898" y="4539"/>
                </a:cubicBezTo>
                <a:cubicBezTo>
                  <a:pt x="12962" y="4500"/>
                  <a:pt x="13081" y="4400"/>
                  <a:pt x="13171" y="4415"/>
                </a:cubicBezTo>
                <a:cubicBezTo>
                  <a:pt x="13462" y="4462"/>
                  <a:pt x="13075" y="4942"/>
                  <a:pt x="13022" y="5011"/>
                </a:cubicBezTo>
                <a:cubicBezTo>
                  <a:pt x="12997" y="5044"/>
                  <a:pt x="12973" y="5077"/>
                  <a:pt x="12948" y="5110"/>
                </a:cubicBezTo>
                <a:cubicBezTo>
                  <a:pt x="12879" y="5144"/>
                  <a:pt x="13090" y="4980"/>
                  <a:pt x="13171" y="5011"/>
                </a:cubicBezTo>
                <a:cubicBezTo>
                  <a:pt x="13442" y="5115"/>
                  <a:pt x="13169" y="5479"/>
                  <a:pt x="13072" y="5581"/>
                </a:cubicBezTo>
                <a:cubicBezTo>
                  <a:pt x="12843" y="5823"/>
                  <a:pt x="12666" y="5857"/>
                  <a:pt x="12601" y="5556"/>
                </a:cubicBezTo>
              </a:path>
              <a:path w="1960" h="1985">
                <a:moveTo>
                  <a:pt x="14015" y="3969"/>
                </a:moveTo>
                <a:cubicBezTo>
                  <a:pt x="14187" y="4102"/>
                  <a:pt x="14314" y="4245"/>
                  <a:pt x="14139" y="4465"/>
                </a:cubicBezTo>
                <a:cubicBezTo>
                  <a:pt x="14028" y="4605"/>
                  <a:pt x="13899" y="4637"/>
                  <a:pt x="13742" y="4663"/>
                </a:cubicBezTo>
                <a:cubicBezTo>
                  <a:pt x="13772" y="4528"/>
                  <a:pt x="14016" y="4472"/>
                  <a:pt x="14188" y="4490"/>
                </a:cubicBezTo>
                <a:cubicBezTo>
                  <a:pt x="14238" y="4506"/>
                  <a:pt x="14287" y="4523"/>
                  <a:pt x="14337" y="4539"/>
                </a:cubicBezTo>
              </a:path>
              <a:path w="1960" h="1985">
                <a:moveTo>
                  <a:pt x="13791" y="4986"/>
                </a:moveTo>
                <a:cubicBezTo>
                  <a:pt x="14061" y="4975"/>
                  <a:pt x="14277" y="4904"/>
                  <a:pt x="14536" y="4837"/>
                </a:cubicBezTo>
                <a:cubicBezTo>
                  <a:pt x="14544" y="4837"/>
                  <a:pt x="14552" y="4837"/>
                  <a:pt x="14560" y="4837"/>
                </a:cubicBezTo>
              </a:path>
              <a:path w="1960" h="1985">
                <a:moveTo>
                  <a:pt x="13965" y="5383"/>
                </a:moveTo>
                <a:cubicBezTo>
                  <a:pt x="14003" y="5373"/>
                  <a:pt x="14406" y="5251"/>
                  <a:pt x="14387" y="5383"/>
                </a:cubicBezTo>
                <a:cubicBezTo>
                  <a:pt x="14375" y="5468"/>
                  <a:pt x="14243" y="5572"/>
                  <a:pt x="14188" y="5631"/>
                </a:cubicBezTo>
                <a:cubicBezTo>
                  <a:pt x="14180" y="5639"/>
                  <a:pt x="14171" y="5647"/>
                  <a:pt x="14163" y="5655"/>
                </a:cubicBezTo>
                <a:cubicBezTo>
                  <a:pt x="14228" y="5615"/>
                  <a:pt x="14450" y="5456"/>
                  <a:pt x="14511" y="5581"/>
                </a:cubicBezTo>
                <a:cubicBezTo>
                  <a:pt x="14626" y="5818"/>
                  <a:pt x="14243" y="5949"/>
                  <a:pt x="14089" y="5953"/>
                </a:cubicBezTo>
                <a:cubicBezTo>
                  <a:pt x="14023" y="5945"/>
                  <a:pt x="13957" y="5936"/>
                  <a:pt x="13891" y="592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5160" y="2401920"/>
            <a:ext cx="1036800" cy="669960"/>
          </a:xfrm>
          <a:custGeom>
            <a:avLst/>
            <a:gdLst/>
            <a:ahLst/>
            <a:rect l="l" t="t" r="r" b="b"/>
            <a:pathLst>
              <a:path w="2878" h="1862">
                <a:moveTo>
                  <a:pt x="11683" y="7441"/>
                </a:moveTo>
                <a:cubicBezTo>
                  <a:pt x="11715" y="7615"/>
                  <a:pt x="11733" y="7740"/>
                  <a:pt x="11733" y="7913"/>
                </a:cubicBezTo>
              </a:path>
              <a:path w="2878" h="1862">
                <a:moveTo>
                  <a:pt x="11757" y="7541"/>
                </a:moveTo>
                <a:cubicBezTo>
                  <a:pt x="11945" y="7460"/>
                  <a:pt x="12017" y="7430"/>
                  <a:pt x="12154" y="7392"/>
                </a:cubicBezTo>
              </a:path>
              <a:path w="2878" h="1862">
                <a:moveTo>
                  <a:pt x="12626" y="7169"/>
                </a:moveTo>
                <a:cubicBezTo>
                  <a:pt x="12603" y="7321"/>
                  <a:pt x="12548" y="7517"/>
                  <a:pt x="12601" y="7665"/>
                </a:cubicBezTo>
                <a:cubicBezTo>
                  <a:pt x="12681" y="7887"/>
                  <a:pt x="12865" y="7665"/>
                  <a:pt x="12948" y="7590"/>
                </a:cubicBezTo>
              </a:path>
              <a:path w="2878" h="1862">
                <a:moveTo>
                  <a:pt x="12923" y="7193"/>
                </a:moveTo>
                <a:cubicBezTo>
                  <a:pt x="12880" y="7442"/>
                  <a:pt x="12875" y="7689"/>
                  <a:pt x="12849" y="7938"/>
                </a:cubicBezTo>
                <a:cubicBezTo>
                  <a:pt x="12848" y="7951"/>
                  <a:pt x="12796" y="8141"/>
                  <a:pt x="12849" y="8086"/>
                </a:cubicBezTo>
              </a:path>
              <a:path w="2878" h="1862">
                <a:moveTo>
                  <a:pt x="13866" y="6921"/>
                </a:moveTo>
                <a:cubicBezTo>
                  <a:pt x="13801" y="6976"/>
                  <a:pt x="13796" y="7006"/>
                  <a:pt x="13767" y="7094"/>
                </a:cubicBezTo>
                <a:cubicBezTo>
                  <a:pt x="13864" y="7160"/>
                  <a:pt x="14023" y="7192"/>
                  <a:pt x="14139" y="7218"/>
                </a:cubicBezTo>
                <a:cubicBezTo>
                  <a:pt x="14245" y="7242"/>
                  <a:pt x="14049" y="7263"/>
                  <a:pt x="13940" y="7268"/>
                </a:cubicBezTo>
              </a:path>
              <a:path w="2878" h="1862">
                <a:moveTo>
                  <a:pt x="14064" y="6796"/>
                </a:moveTo>
                <a:cubicBezTo>
                  <a:pt x="14210" y="6731"/>
                  <a:pt x="14328" y="6701"/>
                  <a:pt x="14486" y="6672"/>
                </a:cubicBezTo>
              </a:path>
              <a:path w="2878" h="1862">
                <a:moveTo>
                  <a:pt x="13593" y="7516"/>
                </a:moveTo>
                <a:cubicBezTo>
                  <a:pt x="13885" y="7461"/>
                  <a:pt x="14172" y="7386"/>
                  <a:pt x="14461" y="7317"/>
                </a:cubicBezTo>
                <a:cubicBezTo>
                  <a:pt x="14494" y="7309"/>
                  <a:pt x="14527" y="7301"/>
                  <a:pt x="14560" y="7293"/>
                </a:cubicBezTo>
              </a:path>
              <a:path w="2878" h="1862">
                <a:moveTo>
                  <a:pt x="14288" y="7888"/>
                </a:moveTo>
                <a:cubicBezTo>
                  <a:pt x="14110" y="7982"/>
                  <a:pt x="13986" y="8069"/>
                  <a:pt x="13866" y="8235"/>
                </a:cubicBezTo>
                <a:cubicBezTo>
                  <a:pt x="13858" y="8252"/>
                  <a:pt x="13849" y="8268"/>
                  <a:pt x="13841" y="8285"/>
                </a:cubicBezTo>
                <a:cubicBezTo>
                  <a:pt x="13950" y="8285"/>
                  <a:pt x="14251" y="8243"/>
                  <a:pt x="14337" y="8334"/>
                </a:cubicBezTo>
                <a:cubicBezTo>
                  <a:pt x="14337" y="8359"/>
                  <a:pt x="14337" y="8384"/>
                  <a:pt x="14337" y="8409"/>
                </a:cubicBezTo>
                <a:cubicBezTo>
                  <a:pt x="14265" y="8456"/>
                  <a:pt x="13924" y="8669"/>
                  <a:pt x="13990" y="8384"/>
                </a:cubicBezTo>
                <a:cubicBezTo>
                  <a:pt x="14037" y="8181"/>
                  <a:pt x="14537" y="8001"/>
                  <a:pt x="14362" y="7888"/>
                </a:cubicBezTo>
                <a:cubicBezTo>
                  <a:pt x="14345" y="7896"/>
                  <a:pt x="14329" y="7905"/>
                  <a:pt x="14312" y="791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96080" y="9360"/>
            <a:ext cx="1455840" cy="625680"/>
          </a:xfrm>
          <a:custGeom>
            <a:avLst/>
            <a:gdLst/>
            <a:ahLst/>
            <a:rect l="l" t="t" r="r" b="b"/>
            <a:pathLst>
              <a:path w="4045" h="1737">
                <a:moveTo>
                  <a:pt x="20737" y="843"/>
                </a:moveTo>
                <a:cubicBezTo>
                  <a:pt x="20737" y="779"/>
                  <a:pt x="20765" y="744"/>
                  <a:pt x="20836" y="719"/>
                </a:cubicBezTo>
                <a:cubicBezTo>
                  <a:pt x="20853" y="719"/>
                  <a:pt x="20869" y="719"/>
                  <a:pt x="20886" y="719"/>
                </a:cubicBezTo>
                <a:cubicBezTo>
                  <a:pt x="20886" y="894"/>
                  <a:pt x="20855" y="914"/>
                  <a:pt x="20762" y="1042"/>
                </a:cubicBezTo>
                <a:cubicBezTo>
                  <a:pt x="20742" y="1069"/>
                  <a:pt x="20762" y="1057"/>
                  <a:pt x="20762" y="1017"/>
                </a:cubicBezTo>
                <a:cubicBezTo>
                  <a:pt x="20822" y="977"/>
                  <a:pt x="20991" y="932"/>
                  <a:pt x="20960" y="1091"/>
                </a:cubicBezTo>
                <a:cubicBezTo>
                  <a:pt x="20947" y="1158"/>
                  <a:pt x="20718" y="1396"/>
                  <a:pt x="20638" y="1315"/>
                </a:cubicBezTo>
                <a:cubicBezTo>
                  <a:pt x="20638" y="1290"/>
                  <a:pt x="20638" y="1265"/>
                  <a:pt x="20638" y="1240"/>
                </a:cubicBezTo>
              </a:path>
              <a:path w="4045" h="1737">
                <a:moveTo>
                  <a:pt x="21059" y="769"/>
                </a:moveTo>
                <a:cubicBezTo>
                  <a:pt x="21102" y="948"/>
                  <a:pt x="21140" y="1131"/>
                  <a:pt x="21158" y="1315"/>
                </a:cubicBezTo>
                <a:cubicBezTo>
                  <a:pt x="21158" y="1376"/>
                  <a:pt x="21167" y="1391"/>
                  <a:pt x="21134" y="1414"/>
                </a:cubicBezTo>
              </a:path>
              <a:path w="4045" h="1737">
                <a:moveTo>
                  <a:pt x="20464" y="1563"/>
                </a:moveTo>
                <a:cubicBezTo>
                  <a:pt x="20388" y="1455"/>
                  <a:pt x="20294" y="1325"/>
                  <a:pt x="20241" y="1191"/>
                </a:cubicBezTo>
                <a:cubicBezTo>
                  <a:pt x="20215" y="1125"/>
                  <a:pt x="20179" y="1016"/>
                  <a:pt x="20191" y="943"/>
                </a:cubicBezTo>
                <a:cubicBezTo>
                  <a:pt x="20203" y="866"/>
                  <a:pt x="20263" y="798"/>
                  <a:pt x="20340" y="769"/>
                </a:cubicBezTo>
                <a:cubicBezTo>
                  <a:pt x="20591" y="674"/>
                  <a:pt x="20915" y="620"/>
                  <a:pt x="21183" y="595"/>
                </a:cubicBezTo>
                <a:cubicBezTo>
                  <a:pt x="21280" y="586"/>
                  <a:pt x="21384" y="595"/>
                  <a:pt x="21481" y="595"/>
                </a:cubicBezTo>
              </a:path>
              <a:path w="4045" h="1737">
                <a:moveTo>
                  <a:pt x="19050" y="1042"/>
                </a:moveTo>
                <a:cubicBezTo>
                  <a:pt x="19050" y="927"/>
                  <a:pt x="19098" y="935"/>
                  <a:pt x="19199" y="918"/>
                </a:cubicBezTo>
                <a:cubicBezTo>
                  <a:pt x="19330" y="1088"/>
                  <a:pt x="19238" y="1216"/>
                  <a:pt x="19124" y="1389"/>
                </a:cubicBezTo>
                <a:cubicBezTo>
                  <a:pt x="19009" y="1564"/>
                  <a:pt x="18938" y="1484"/>
                  <a:pt x="18876" y="1339"/>
                </a:cubicBezTo>
                <a:cubicBezTo>
                  <a:pt x="18941" y="1277"/>
                  <a:pt x="19106" y="1321"/>
                  <a:pt x="19199" y="1364"/>
                </a:cubicBezTo>
                <a:cubicBezTo>
                  <a:pt x="19273" y="1414"/>
                  <a:pt x="19298" y="1431"/>
                  <a:pt x="19348" y="1463"/>
                </a:cubicBezTo>
              </a:path>
              <a:path w="4045" h="1737">
                <a:moveTo>
                  <a:pt x="19422" y="918"/>
                </a:moveTo>
                <a:cubicBezTo>
                  <a:pt x="19422" y="1023"/>
                  <a:pt x="19387" y="1213"/>
                  <a:pt x="19521" y="1265"/>
                </a:cubicBezTo>
                <a:cubicBezTo>
                  <a:pt x="19659" y="1319"/>
                  <a:pt x="19702" y="1143"/>
                  <a:pt x="19745" y="1067"/>
                </a:cubicBezTo>
              </a:path>
              <a:path w="4045" h="1737">
                <a:moveTo>
                  <a:pt x="19596" y="992"/>
                </a:moveTo>
                <a:cubicBezTo>
                  <a:pt x="19644" y="1197"/>
                  <a:pt x="19711" y="1388"/>
                  <a:pt x="19769" y="1588"/>
                </a:cubicBezTo>
                <a:cubicBezTo>
                  <a:pt x="19769" y="1596"/>
                  <a:pt x="19769" y="1604"/>
                  <a:pt x="19769" y="1612"/>
                </a:cubicBezTo>
              </a:path>
              <a:path w="4045" h="1737">
                <a:moveTo>
                  <a:pt x="21059" y="50"/>
                </a:moveTo>
                <a:cubicBezTo>
                  <a:pt x="21059" y="5"/>
                  <a:pt x="21083" y="307"/>
                  <a:pt x="21084" y="347"/>
                </a:cubicBezTo>
                <a:cubicBezTo>
                  <a:pt x="21086" y="427"/>
                  <a:pt x="21109" y="493"/>
                  <a:pt x="21109" y="571"/>
                </a:cubicBezTo>
                <a:cubicBezTo>
                  <a:pt x="21109" y="625"/>
                  <a:pt x="21089" y="705"/>
                  <a:pt x="21134" y="719"/>
                </a:cubicBezTo>
              </a:path>
              <a:path w="4045" h="1737">
                <a:moveTo>
                  <a:pt x="22200" y="446"/>
                </a:moveTo>
                <a:cubicBezTo>
                  <a:pt x="22306" y="412"/>
                  <a:pt x="22386" y="397"/>
                  <a:pt x="22498" y="397"/>
                </a:cubicBezTo>
                <a:cubicBezTo>
                  <a:pt x="22498" y="518"/>
                  <a:pt x="22502" y="628"/>
                  <a:pt x="22473" y="744"/>
                </a:cubicBezTo>
              </a:path>
              <a:path w="4045" h="1737">
                <a:moveTo>
                  <a:pt x="22101" y="1091"/>
                </a:moveTo>
                <a:cubicBezTo>
                  <a:pt x="22295" y="1021"/>
                  <a:pt x="22490" y="923"/>
                  <a:pt x="22696" y="893"/>
                </a:cubicBezTo>
                <a:cubicBezTo>
                  <a:pt x="22754" y="893"/>
                  <a:pt x="22763" y="893"/>
                  <a:pt x="22796" y="893"/>
                </a:cubicBezTo>
              </a:path>
              <a:path w="4045" h="1737">
                <a:moveTo>
                  <a:pt x="22101" y="1389"/>
                </a:moveTo>
                <a:cubicBezTo>
                  <a:pt x="22168" y="1372"/>
                  <a:pt x="22219" y="1343"/>
                  <a:pt x="22299" y="1339"/>
                </a:cubicBezTo>
                <a:cubicBezTo>
                  <a:pt x="22316" y="1339"/>
                  <a:pt x="22332" y="1339"/>
                  <a:pt x="22349" y="1339"/>
                </a:cubicBezTo>
                <a:cubicBezTo>
                  <a:pt x="22330" y="1472"/>
                  <a:pt x="22263" y="1561"/>
                  <a:pt x="22175" y="1662"/>
                </a:cubicBezTo>
                <a:cubicBezTo>
                  <a:pt x="22120" y="1717"/>
                  <a:pt x="22095" y="1715"/>
                  <a:pt x="22101" y="1761"/>
                </a:cubicBezTo>
                <a:cubicBezTo>
                  <a:pt x="22195" y="1761"/>
                  <a:pt x="22266" y="1733"/>
                  <a:pt x="22349" y="1687"/>
                </a:cubicBezTo>
                <a:cubicBezTo>
                  <a:pt x="22414" y="1643"/>
                  <a:pt x="22428" y="1632"/>
                  <a:pt x="22473" y="1612"/>
                </a:cubicBezTo>
              </a:path>
              <a:path w="4045" h="1737">
                <a:moveTo>
                  <a:pt x="22597" y="1265"/>
                </a:moveTo>
                <a:cubicBezTo>
                  <a:pt x="22612" y="1385"/>
                  <a:pt x="22655" y="1394"/>
                  <a:pt x="22771" y="1364"/>
                </a:cubicBezTo>
                <a:cubicBezTo>
                  <a:pt x="22854" y="1336"/>
                  <a:pt x="22885" y="1321"/>
                  <a:pt x="22920" y="1265"/>
                </a:cubicBezTo>
              </a:path>
              <a:path w="4045" h="1737">
                <a:moveTo>
                  <a:pt x="22796" y="1091"/>
                </a:moveTo>
                <a:cubicBezTo>
                  <a:pt x="22796" y="1275"/>
                  <a:pt x="22764" y="1488"/>
                  <a:pt x="22820" y="166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16840" y="81000"/>
            <a:ext cx="785880" cy="285840"/>
          </a:xfrm>
          <a:custGeom>
            <a:avLst/>
            <a:gdLst/>
            <a:ahLst/>
            <a:rect l="l" t="t" r="r" b="b"/>
            <a:pathLst>
              <a:path w="2184" h="795">
                <a:moveTo>
                  <a:pt x="20141" y="546"/>
                </a:moveTo>
                <a:cubicBezTo>
                  <a:pt x="20176" y="540"/>
                  <a:pt x="20162" y="532"/>
                  <a:pt x="20241" y="571"/>
                </a:cubicBezTo>
                <a:cubicBezTo>
                  <a:pt x="20425" y="662"/>
                  <a:pt x="20635" y="685"/>
                  <a:pt x="20836" y="719"/>
                </a:cubicBezTo>
                <a:cubicBezTo>
                  <a:pt x="21028" y="751"/>
                  <a:pt x="21214" y="725"/>
                  <a:pt x="21406" y="744"/>
                </a:cubicBezTo>
                <a:cubicBezTo>
                  <a:pt x="21558" y="759"/>
                  <a:pt x="21683" y="791"/>
                  <a:pt x="21828" y="719"/>
                </a:cubicBezTo>
                <a:cubicBezTo>
                  <a:pt x="21883" y="692"/>
                  <a:pt x="21939" y="628"/>
                  <a:pt x="21952" y="571"/>
                </a:cubicBezTo>
                <a:cubicBezTo>
                  <a:pt x="21971" y="486"/>
                  <a:pt x="21874" y="398"/>
                  <a:pt x="21803" y="372"/>
                </a:cubicBezTo>
                <a:cubicBezTo>
                  <a:pt x="21585" y="293"/>
                  <a:pt x="21334" y="320"/>
                  <a:pt x="21109" y="298"/>
                </a:cubicBezTo>
                <a:cubicBezTo>
                  <a:pt x="20953" y="283"/>
                  <a:pt x="20767" y="219"/>
                  <a:pt x="20613" y="223"/>
                </a:cubicBezTo>
                <a:cubicBezTo>
                  <a:pt x="20403" y="228"/>
                  <a:pt x="20124" y="320"/>
                  <a:pt x="19943" y="422"/>
                </a:cubicBezTo>
                <a:cubicBezTo>
                  <a:pt x="19805" y="500"/>
                  <a:pt x="19725" y="651"/>
                  <a:pt x="19819" y="794"/>
                </a:cubicBezTo>
                <a:cubicBezTo>
                  <a:pt x="20018" y="1096"/>
                  <a:pt x="20399" y="997"/>
                  <a:pt x="20687" y="96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08920" y="830160"/>
            <a:ext cx="52200" cy="349200"/>
          </a:xfrm>
          <a:custGeom>
            <a:avLst/>
            <a:gdLst/>
            <a:ahLst/>
            <a:rect l="l" t="t" r="r" b="b"/>
            <a:pathLst>
              <a:path w="149" h="968">
                <a:moveTo>
                  <a:pt x="19893" y="2778"/>
                </a:moveTo>
                <a:cubicBezTo>
                  <a:pt x="19852" y="2737"/>
                  <a:pt x="19866" y="2718"/>
                  <a:pt x="19844" y="2679"/>
                </a:cubicBezTo>
                <a:cubicBezTo>
                  <a:pt x="19823" y="2641"/>
                  <a:pt x="19819" y="2628"/>
                  <a:pt x="19819" y="2580"/>
                </a:cubicBezTo>
                <a:cubicBezTo>
                  <a:pt x="19767" y="2665"/>
                  <a:pt x="19806" y="2850"/>
                  <a:pt x="19819" y="2952"/>
                </a:cubicBezTo>
                <a:cubicBezTo>
                  <a:pt x="19830" y="3039"/>
                  <a:pt x="19869" y="3114"/>
                  <a:pt x="19869" y="3200"/>
                </a:cubicBezTo>
                <a:cubicBezTo>
                  <a:pt x="19869" y="3225"/>
                  <a:pt x="19869" y="3233"/>
                  <a:pt x="19869" y="3249"/>
                </a:cubicBezTo>
                <a:cubicBezTo>
                  <a:pt x="19869" y="3290"/>
                  <a:pt x="19869" y="3216"/>
                  <a:pt x="19869" y="3175"/>
                </a:cubicBezTo>
                <a:cubicBezTo>
                  <a:pt x="19869" y="3020"/>
                  <a:pt x="19840" y="2874"/>
                  <a:pt x="19794" y="2729"/>
                </a:cubicBezTo>
                <a:cubicBezTo>
                  <a:pt x="19766" y="2640"/>
                  <a:pt x="19749" y="2548"/>
                  <a:pt x="19745" y="2456"/>
                </a:cubicBezTo>
                <a:cubicBezTo>
                  <a:pt x="19743" y="2407"/>
                  <a:pt x="19745" y="2356"/>
                  <a:pt x="19745" y="2307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86280" y="269712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6272" y="7640"/>
                </a:moveTo>
                <a:cubicBezTo>
                  <a:pt x="16230" y="7695"/>
                  <a:pt x="16249" y="7693"/>
                  <a:pt x="16297" y="7665"/>
                </a:cubicBezTo>
                <a:cubicBezTo>
                  <a:pt x="16353" y="7636"/>
                  <a:pt x="16377" y="7631"/>
                  <a:pt x="16421" y="7665"/>
                </a:cubicBezTo>
                <a:cubicBezTo>
                  <a:pt x="16467" y="7840"/>
                  <a:pt x="16392" y="8057"/>
                  <a:pt x="16222" y="8186"/>
                </a:cubicBezTo>
                <a:cubicBezTo>
                  <a:pt x="16138" y="8206"/>
                  <a:pt x="16119" y="8221"/>
                  <a:pt x="16073" y="8186"/>
                </a:cubicBezTo>
                <a:cubicBezTo>
                  <a:pt x="16136" y="8061"/>
                  <a:pt x="16211" y="7964"/>
                  <a:pt x="16371" y="8037"/>
                </a:cubicBezTo>
                <a:cubicBezTo>
                  <a:pt x="16437" y="8067"/>
                  <a:pt x="16421" y="8107"/>
                  <a:pt x="16421" y="8161"/>
                </a:cubicBezTo>
              </a:path>
              <a:path w="770" h="720">
                <a:moveTo>
                  <a:pt x="16520" y="7689"/>
                </a:moveTo>
                <a:cubicBezTo>
                  <a:pt x="16540" y="7788"/>
                  <a:pt x="16573" y="7820"/>
                  <a:pt x="16644" y="7888"/>
                </a:cubicBezTo>
                <a:cubicBezTo>
                  <a:pt x="16778" y="8016"/>
                  <a:pt x="16807" y="7885"/>
                  <a:pt x="16842" y="7764"/>
                </a:cubicBezTo>
              </a:path>
              <a:path w="770" h="720">
                <a:moveTo>
                  <a:pt x="16818" y="7491"/>
                </a:moveTo>
                <a:cubicBezTo>
                  <a:pt x="16767" y="7610"/>
                  <a:pt x="16775" y="7823"/>
                  <a:pt x="16768" y="7962"/>
                </a:cubicBezTo>
                <a:cubicBezTo>
                  <a:pt x="16763" y="8062"/>
                  <a:pt x="16759" y="8234"/>
                  <a:pt x="16743" y="813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4920" y="3759120"/>
            <a:ext cx="1465200" cy="1670040"/>
          </a:xfrm>
          <a:custGeom>
            <a:avLst/>
            <a:gdLst/>
            <a:ahLst/>
            <a:rect l="l" t="t" r="r" b="b"/>
            <a:pathLst>
              <a:path w="4069" h="4639">
                <a:moveTo>
                  <a:pt x="17735" y="11757"/>
                </a:moveTo>
                <a:cubicBezTo>
                  <a:pt x="17586" y="11819"/>
                  <a:pt x="17452" y="11852"/>
                  <a:pt x="17289" y="11857"/>
                </a:cubicBezTo>
                <a:cubicBezTo>
                  <a:pt x="17231" y="11857"/>
                  <a:pt x="17223" y="11857"/>
                  <a:pt x="17190" y="11857"/>
                </a:cubicBezTo>
                <a:cubicBezTo>
                  <a:pt x="17190" y="11976"/>
                  <a:pt x="17207" y="12087"/>
                  <a:pt x="17214" y="12204"/>
                </a:cubicBezTo>
                <a:cubicBezTo>
                  <a:pt x="17214" y="12303"/>
                  <a:pt x="17214" y="12320"/>
                  <a:pt x="17214" y="12378"/>
                </a:cubicBezTo>
                <a:cubicBezTo>
                  <a:pt x="17311" y="12366"/>
                  <a:pt x="17337" y="12310"/>
                  <a:pt x="17438" y="12278"/>
                </a:cubicBezTo>
                <a:cubicBezTo>
                  <a:pt x="17598" y="12227"/>
                  <a:pt x="17954" y="12273"/>
                  <a:pt x="17959" y="12502"/>
                </a:cubicBezTo>
                <a:cubicBezTo>
                  <a:pt x="17964" y="12756"/>
                  <a:pt x="17589" y="12892"/>
                  <a:pt x="17388" y="12849"/>
                </a:cubicBezTo>
                <a:cubicBezTo>
                  <a:pt x="17248" y="12765"/>
                  <a:pt x="17205" y="12721"/>
                  <a:pt x="17239" y="12576"/>
                </a:cubicBezTo>
              </a:path>
              <a:path w="4069" h="4639">
                <a:moveTo>
                  <a:pt x="18604" y="11410"/>
                </a:moveTo>
                <a:cubicBezTo>
                  <a:pt x="18604" y="11530"/>
                  <a:pt x="18606" y="11664"/>
                  <a:pt x="18628" y="11782"/>
                </a:cubicBezTo>
                <a:cubicBezTo>
                  <a:pt x="18636" y="11807"/>
                  <a:pt x="18645" y="11832"/>
                  <a:pt x="18653" y="11857"/>
                </a:cubicBezTo>
              </a:path>
              <a:path w="4069" h="4639">
                <a:moveTo>
                  <a:pt x="18951" y="11361"/>
                </a:moveTo>
                <a:cubicBezTo>
                  <a:pt x="18850" y="11433"/>
                  <a:pt x="18775" y="11472"/>
                  <a:pt x="18876" y="11584"/>
                </a:cubicBezTo>
                <a:cubicBezTo>
                  <a:pt x="18925" y="11638"/>
                  <a:pt x="19124" y="11793"/>
                  <a:pt x="19050" y="11881"/>
                </a:cubicBezTo>
                <a:cubicBezTo>
                  <a:pt x="18985" y="11925"/>
                  <a:pt x="18971" y="11936"/>
                  <a:pt x="18926" y="11956"/>
                </a:cubicBezTo>
                <a:cubicBezTo>
                  <a:pt x="18897" y="11797"/>
                  <a:pt x="18980" y="11682"/>
                  <a:pt x="19050" y="11534"/>
                </a:cubicBezTo>
                <a:cubicBezTo>
                  <a:pt x="19070" y="11494"/>
                  <a:pt x="19079" y="11488"/>
                  <a:pt x="19075" y="11460"/>
                </a:cubicBezTo>
              </a:path>
              <a:path w="4069" h="4639">
                <a:moveTo>
                  <a:pt x="18604" y="12204"/>
                </a:moveTo>
                <a:cubicBezTo>
                  <a:pt x="18789" y="12142"/>
                  <a:pt x="18923" y="12067"/>
                  <a:pt x="19100" y="12129"/>
                </a:cubicBezTo>
              </a:path>
              <a:path w="4069" h="4639">
                <a:moveTo>
                  <a:pt x="18604" y="12452"/>
                </a:moveTo>
                <a:cubicBezTo>
                  <a:pt x="18674" y="12466"/>
                  <a:pt x="18762" y="12511"/>
                  <a:pt x="18802" y="12576"/>
                </a:cubicBezTo>
                <a:cubicBezTo>
                  <a:pt x="18884" y="12709"/>
                  <a:pt x="18687" y="12799"/>
                  <a:pt x="18579" y="12799"/>
                </a:cubicBezTo>
                <a:cubicBezTo>
                  <a:pt x="18546" y="12791"/>
                  <a:pt x="18512" y="12782"/>
                  <a:pt x="18479" y="12774"/>
                </a:cubicBezTo>
                <a:cubicBezTo>
                  <a:pt x="18541" y="12713"/>
                  <a:pt x="18670" y="12666"/>
                  <a:pt x="18777" y="12700"/>
                </a:cubicBezTo>
                <a:cubicBezTo>
                  <a:pt x="18785" y="12708"/>
                  <a:pt x="18794" y="12717"/>
                  <a:pt x="18802" y="12725"/>
                </a:cubicBezTo>
              </a:path>
              <a:path w="4069" h="4639">
                <a:moveTo>
                  <a:pt x="18926" y="12502"/>
                </a:moveTo>
                <a:cubicBezTo>
                  <a:pt x="18952" y="12603"/>
                  <a:pt x="19011" y="12638"/>
                  <a:pt x="19124" y="12576"/>
                </a:cubicBezTo>
                <a:cubicBezTo>
                  <a:pt x="19187" y="12513"/>
                  <a:pt x="19203" y="12479"/>
                  <a:pt x="19174" y="12402"/>
                </a:cubicBezTo>
              </a:path>
              <a:path w="4069" h="4639">
                <a:moveTo>
                  <a:pt x="19124" y="12452"/>
                </a:moveTo>
                <a:cubicBezTo>
                  <a:pt x="19124" y="12616"/>
                  <a:pt x="19126" y="12762"/>
                  <a:pt x="19149" y="12923"/>
                </a:cubicBezTo>
              </a:path>
              <a:path w="4069" h="4639">
                <a:moveTo>
                  <a:pt x="16346" y="13990"/>
                </a:moveTo>
                <a:cubicBezTo>
                  <a:pt x="16435" y="13960"/>
                  <a:pt x="16475" y="13952"/>
                  <a:pt x="16545" y="13965"/>
                </a:cubicBezTo>
              </a:path>
              <a:path w="4069" h="4639">
                <a:moveTo>
                  <a:pt x="17338" y="13643"/>
                </a:moveTo>
                <a:cubicBezTo>
                  <a:pt x="17369" y="13560"/>
                  <a:pt x="17534" y="13441"/>
                  <a:pt x="17636" y="13543"/>
                </a:cubicBezTo>
                <a:cubicBezTo>
                  <a:pt x="17868" y="13774"/>
                  <a:pt x="17626" y="14134"/>
                  <a:pt x="17438" y="14288"/>
                </a:cubicBezTo>
                <a:cubicBezTo>
                  <a:pt x="17327" y="14379"/>
                  <a:pt x="17245" y="14395"/>
                  <a:pt x="17165" y="14337"/>
                </a:cubicBezTo>
                <a:cubicBezTo>
                  <a:pt x="17307" y="14111"/>
                  <a:pt x="17376" y="14079"/>
                  <a:pt x="17636" y="14139"/>
                </a:cubicBezTo>
                <a:cubicBezTo>
                  <a:pt x="17741" y="14163"/>
                  <a:pt x="17796" y="14239"/>
                  <a:pt x="17884" y="14213"/>
                </a:cubicBezTo>
              </a:path>
              <a:path w="4069" h="4639">
                <a:moveTo>
                  <a:pt x="18777" y="13221"/>
                </a:moveTo>
                <a:cubicBezTo>
                  <a:pt x="18827" y="13254"/>
                  <a:pt x="18872" y="13411"/>
                  <a:pt x="18852" y="13494"/>
                </a:cubicBezTo>
                <a:cubicBezTo>
                  <a:pt x="18821" y="13624"/>
                  <a:pt x="18612" y="13669"/>
                  <a:pt x="18529" y="13568"/>
                </a:cubicBezTo>
                <a:cubicBezTo>
                  <a:pt x="18529" y="13552"/>
                  <a:pt x="18529" y="13535"/>
                  <a:pt x="18529" y="13519"/>
                </a:cubicBezTo>
                <a:cubicBezTo>
                  <a:pt x="18663" y="13528"/>
                  <a:pt x="18798" y="13604"/>
                  <a:pt x="18926" y="13593"/>
                </a:cubicBezTo>
                <a:cubicBezTo>
                  <a:pt x="18959" y="13585"/>
                  <a:pt x="18992" y="13576"/>
                  <a:pt x="19025" y="13568"/>
                </a:cubicBezTo>
              </a:path>
              <a:path w="4069" h="4639">
                <a:moveTo>
                  <a:pt x="19124" y="13221"/>
                </a:moveTo>
                <a:cubicBezTo>
                  <a:pt x="19069" y="13377"/>
                  <a:pt x="19042" y="13453"/>
                  <a:pt x="19174" y="13568"/>
                </a:cubicBezTo>
                <a:cubicBezTo>
                  <a:pt x="19326" y="13485"/>
                  <a:pt x="19302" y="13443"/>
                  <a:pt x="19224" y="13295"/>
                </a:cubicBezTo>
              </a:path>
              <a:path w="4069" h="4639">
                <a:moveTo>
                  <a:pt x="18479" y="13866"/>
                </a:moveTo>
                <a:cubicBezTo>
                  <a:pt x="18726" y="13823"/>
                  <a:pt x="18979" y="13795"/>
                  <a:pt x="19224" y="13742"/>
                </a:cubicBezTo>
                <a:cubicBezTo>
                  <a:pt x="19249" y="13734"/>
                  <a:pt x="19273" y="13725"/>
                  <a:pt x="19298" y="13717"/>
                </a:cubicBezTo>
              </a:path>
              <a:path w="4069" h="4639">
                <a:moveTo>
                  <a:pt x="18604" y="14139"/>
                </a:moveTo>
                <a:cubicBezTo>
                  <a:pt x="18722" y="14149"/>
                  <a:pt x="18835" y="14163"/>
                  <a:pt x="18827" y="14312"/>
                </a:cubicBezTo>
                <a:cubicBezTo>
                  <a:pt x="18821" y="14419"/>
                  <a:pt x="18702" y="14652"/>
                  <a:pt x="18554" y="14610"/>
                </a:cubicBezTo>
                <a:cubicBezTo>
                  <a:pt x="18546" y="14593"/>
                  <a:pt x="18537" y="14577"/>
                  <a:pt x="18529" y="14560"/>
                </a:cubicBezTo>
                <a:cubicBezTo>
                  <a:pt x="18566" y="14431"/>
                  <a:pt x="18688" y="14509"/>
                  <a:pt x="18802" y="14536"/>
                </a:cubicBezTo>
                <a:cubicBezTo>
                  <a:pt x="18884" y="14556"/>
                  <a:pt x="18900" y="14564"/>
                  <a:pt x="18951" y="14560"/>
                </a:cubicBezTo>
              </a:path>
              <a:path w="4069" h="4639">
                <a:moveTo>
                  <a:pt x="19025" y="14139"/>
                </a:moveTo>
                <a:cubicBezTo>
                  <a:pt x="19043" y="14275"/>
                  <a:pt x="19042" y="14274"/>
                  <a:pt x="19149" y="14362"/>
                </a:cubicBezTo>
                <a:cubicBezTo>
                  <a:pt x="19313" y="14273"/>
                  <a:pt x="19285" y="14193"/>
                  <a:pt x="19273" y="14015"/>
                </a:cubicBezTo>
                <a:cubicBezTo>
                  <a:pt x="19273" y="13963"/>
                  <a:pt x="19272" y="13948"/>
                  <a:pt x="19248" y="14015"/>
                </a:cubicBezTo>
                <a:cubicBezTo>
                  <a:pt x="19259" y="14206"/>
                  <a:pt x="19280" y="14396"/>
                  <a:pt x="19298" y="14585"/>
                </a:cubicBezTo>
                <a:cubicBezTo>
                  <a:pt x="19298" y="14602"/>
                  <a:pt x="19298" y="14618"/>
                  <a:pt x="19298" y="14635"/>
                </a:cubicBezTo>
              </a:path>
              <a:path w="4069" h="4639">
                <a:moveTo>
                  <a:pt x="16495" y="15081"/>
                </a:moveTo>
                <a:cubicBezTo>
                  <a:pt x="17265" y="14967"/>
                  <a:pt x="18028" y="14796"/>
                  <a:pt x="18802" y="14709"/>
                </a:cubicBezTo>
                <a:cubicBezTo>
                  <a:pt x="19336" y="14649"/>
                  <a:pt x="19877" y="14610"/>
                  <a:pt x="20414" y="14610"/>
                </a:cubicBezTo>
              </a:path>
              <a:path w="4069" h="4639">
                <a:moveTo>
                  <a:pt x="17686" y="10567"/>
                </a:moveTo>
                <a:cubicBezTo>
                  <a:pt x="17686" y="10641"/>
                  <a:pt x="17686" y="10666"/>
                  <a:pt x="17686" y="10716"/>
                </a:cubicBezTo>
              </a:path>
              <a:path w="4069" h="4639">
                <a:moveTo>
                  <a:pt x="17884" y="11733"/>
                </a:moveTo>
                <a:lnTo>
                  <a:pt x="17884" y="11733"/>
                </a:lnTo>
                <a:lnTo>
                  <a:pt x="17884" y="11733"/>
                </a:lnTo>
              </a:path>
              <a:path w="4069" h="4639">
                <a:moveTo>
                  <a:pt x="17959" y="12204"/>
                </a:moveTo>
                <a:cubicBezTo>
                  <a:pt x="17967" y="12221"/>
                  <a:pt x="17975" y="12237"/>
                  <a:pt x="17983" y="12254"/>
                </a:cubicBezTo>
              </a:path>
              <a:path w="4069" h="4639">
                <a:moveTo>
                  <a:pt x="18083" y="12799"/>
                </a:moveTo>
                <a:cubicBezTo>
                  <a:pt x="18083" y="12839"/>
                  <a:pt x="18094" y="12858"/>
                  <a:pt x="18132" y="12874"/>
                </a:cubicBezTo>
              </a:path>
              <a:path w="4069" h="4639">
                <a:moveTo>
                  <a:pt x="18256" y="13444"/>
                </a:moveTo>
                <a:cubicBezTo>
                  <a:pt x="18256" y="13461"/>
                  <a:pt x="18256" y="13477"/>
                  <a:pt x="18256" y="13494"/>
                </a:cubicBezTo>
              </a:path>
              <a:path w="4069" h="4639">
                <a:moveTo>
                  <a:pt x="18256" y="13990"/>
                </a:moveTo>
                <a:cubicBezTo>
                  <a:pt x="18256" y="14031"/>
                  <a:pt x="18256" y="14039"/>
                  <a:pt x="18256" y="14064"/>
                </a:cubicBezTo>
              </a:path>
              <a:path w="4069" h="4639">
                <a:moveTo>
                  <a:pt x="18306" y="14610"/>
                </a:moveTo>
                <a:cubicBezTo>
                  <a:pt x="18306" y="14618"/>
                  <a:pt x="18306" y="14627"/>
                  <a:pt x="18306" y="14635"/>
                </a:cubicBezTo>
              </a:path>
              <a:path w="4069" h="4639">
                <a:moveTo>
                  <a:pt x="16743" y="11757"/>
                </a:moveTo>
                <a:cubicBezTo>
                  <a:pt x="16721" y="11692"/>
                  <a:pt x="16713" y="11677"/>
                  <a:pt x="16718" y="11633"/>
                </a:cubicBezTo>
                <a:cubicBezTo>
                  <a:pt x="16791" y="11706"/>
                  <a:pt x="16906" y="11802"/>
                  <a:pt x="16991" y="11881"/>
                </a:cubicBezTo>
                <a:cubicBezTo>
                  <a:pt x="17169" y="12047"/>
                  <a:pt x="17332" y="12240"/>
                  <a:pt x="17487" y="12427"/>
                </a:cubicBezTo>
                <a:cubicBezTo>
                  <a:pt x="17597" y="12559"/>
                  <a:pt x="17714" y="12678"/>
                  <a:pt x="17835" y="12799"/>
                </a:cubicBezTo>
                <a:cubicBezTo>
                  <a:pt x="17889" y="12853"/>
                  <a:pt x="17941" y="12923"/>
                  <a:pt x="17983" y="12973"/>
                </a:cubicBezTo>
                <a:cubicBezTo>
                  <a:pt x="18039" y="13040"/>
                  <a:pt x="18010" y="13010"/>
                  <a:pt x="18008" y="12998"/>
                </a:cubicBezTo>
                <a:cubicBezTo>
                  <a:pt x="18008" y="12990"/>
                  <a:pt x="18008" y="12981"/>
                  <a:pt x="18008" y="12973"/>
                </a:cubicBezTo>
              </a:path>
              <a:path w="4069" h="4639">
                <a:moveTo>
                  <a:pt x="16694" y="10666"/>
                </a:moveTo>
                <a:cubicBezTo>
                  <a:pt x="16694" y="10807"/>
                  <a:pt x="16694" y="10947"/>
                  <a:pt x="16694" y="11088"/>
                </a:cubicBezTo>
                <a:cubicBezTo>
                  <a:pt x="16846" y="11088"/>
                  <a:pt x="16970" y="11009"/>
                  <a:pt x="17115" y="10964"/>
                </a:cubicBezTo>
                <a:cubicBezTo>
                  <a:pt x="17190" y="10941"/>
                  <a:pt x="17278" y="11058"/>
                  <a:pt x="17314" y="10988"/>
                </a:cubicBezTo>
                <a:cubicBezTo>
                  <a:pt x="17314" y="10972"/>
                  <a:pt x="17314" y="10955"/>
                  <a:pt x="17314" y="10939"/>
                </a:cubicBezTo>
              </a:path>
              <a:path w="4069" h="4639">
                <a:moveTo>
                  <a:pt x="17140" y="10443"/>
                </a:moveTo>
                <a:cubicBezTo>
                  <a:pt x="17140" y="10648"/>
                  <a:pt x="17152" y="10859"/>
                  <a:pt x="17165" y="11063"/>
                </a:cubicBezTo>
                <a:cubicBezTo>
                  <a:pt x="17174" y="11200"/>
                  <a:pt x="17153" y="11482"/>
                  <a:pt x="17214" y="1160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03920" y="1027080"/>
            <a:ext cx="2286000" cy="2928960"/>
          </a:xfrm>
          <a:custGeom>
            <a:avLst/>
            <a:gdLst/>
            <a:ahLst/>
            <a:rect l="l" t="t" r="r" b="b"/>
            <a:pathLst>
              <a:path w="6351" h="8136">
                <a:moveTo>
                  <a:pt x="16321" y="5110"/>
                </a:moveTo>
                <a:cubicBezTo>
                  <a:pt x="16342" y="5191"/>
                  <a:pt x="16336" y="5118"/>
                  <a:pt x="16371" y="5135"/>
                </a:cubicBezTo>
                <a:cubicBezTo>
                  <a:pt x="16546" y="5221"/>
                  <a:pt x="16402" y="5450"/>
                  <a:pt x="16321" y="5556"/>
                </a:cubicBezTo>
                <a:cubicBezTo>
                  <a:pt x="16250" y="5648"/>
                  <a:pt x="16222" y="5663"/>
                  <a:pt x="16123" y="5680"/>
                </a:cubicBezTo>
                <a:cubicBezTo>
                  <a:pt x="16170" y="5577"/>
                  <a:pt x="16186" y="5511"/>
                  <a:pt x="16321" y="5531"/>
                </a:cubicBezTo>
                <a:cubicBezTo>
                  <a:pt x="16418" y="5546"/>
                  <a:pt x="16442" y="5614"/>
                  <a:pt x="16495" y="5680"/>
                </a:cubicBezTo>
              </a:path>
              <a:path w="6351" h="8136">
                <a:moveTo>
                  <a:pt x="16669" y="5209"/>
                </a:moveTo>
                <a:cubicBezTo>
                  <a:pt x="16683" y="5279"/>
                  <a:pt x="16687" y="5365"/>
                  <a:pt x="16718" y="5432"/>
                </a:cubicBezTo>
                <a:cubicBezTo>
                  <a:pt x="16759" y="5519"/>
                  <a:pt x="16927" y="5427"/>
                  <a:pt x="16966" y="5383"/>
                </a:cubicBezTo>
                <a:cubicBezTo>
                  <a:pt x="16974" y="5366"/>
                  <a:pt x="16983" y="5350"/>
                  <a:pt x="16991" y="5333"/>
                </a:cubicBezTo>
              </a:path>
              <a:path w="6351" h="8136">
                <a:moveTo>
                  <a:pt x="17016" y="5060"/>
                </a:moveTo>
                <a:cubicBezTo>
                  <a:pt x="16964" y="5217"/>
                  <a:pt x="16953" y="5390"/>
                  <a:pt x="16942" y="5556"/>
                </a:cubicBezTo>
                <a:cubicBezTo>
                  <a:pt x="16938" y="5614"/>
                  <a:pt x="16942" y="5738"/>
                  <a:pt x="16942" y="5680"/>
                </a:cubicBezTo>
              </a:path>
              <a:path w="6351" h="8136">
                <a:moveTo>
                  <a:pt x="16371" y="4837"/>
                </a:moveTo>
                <a:cubicBezTo>
                  <a:pt x="16522" y="4837"/>
                  <a:pt x="16668" y="4819"/>
                  <a:pt x="16818" y="4812"/>
                </a:cubicBezTo>
                <a:cubicBezTo>
                  <a:pt x="16838" y="4811"/>
                  <a:pt x="17170" y="4789"/>
                  <a:pt x="17165" y="4837"/>
                </a:cubicBezTo>
                <a:cubicBezTo>
                  <a:pt x="17157" y="4862"/>
                  <a:pt x="17148" y="4886"/>
                  <a:pt x="17140" y="4911"/>
                </a:cubicBezTo>
              </a:path>
              <a:path w="6351" h="8136">
                <a:moveTo>
                  <a:pt x="19745" y="4118"/>
                </a:moveTo>
                <a:cubicBezTo>
                  <a:pt x="19914" y="4025"/>
                  <a:pt x="19982" y="3969"/>
                  <a:pt x="20166" y="3969"/>
                </a:cubicBezTo>
                <a:cubicBezTo>
                  <a:pt x="20242" y="4254"/>
                  <a:pt x="20105" y="4396"/>
                  <a:pt x="19943" y="4638"/>
                </a:cubicBezTo>
                <a:cubicBezTo>
                  <a:pt x="19905" y="4695"/>
                  <a:pt x="19911" y="4720"/>
                  <a:pt x="19869" y="4713"/>
                </a:cubicBezTo>
                <a:cubicBezTo>
                  <a:pt x="20010" y="4626"/>
                  <a:pt x="20367" y="4473"/>
                  <a:pt x="20439" y="4762"/>
                </a:cubicBezTo>
                <a:cubicBezTo>
                  <a:pt x="20508" y="5039"/>
                  <a:pt x="20054" y="5280"/>
                  <a:pt x="19844" y="5283"/>
                </a:cubicBezTo>
                <a:cubicBezTo>
                  <a:pt x="19625" y="5229"/>
                  <a:pt x="19551" y="5193"/>
                  <a:pt x="19546" y="4986"/>
                </a:cubicBezTo>
              </a:path>
              <a:path w="6351" h="8136">
                <a:moveTo>
                  <a:pt x="21307" y="3150"/>
                </a:moveTo>
                <a:cubicBezTo>
                  <a:pt x="21261" y="3344"/>
                  <a:pt x="21187" y="3596"/>
                  <a:pt x="21208" y="3795"/>
                </a:cubicBezTo>
                <a:cubicBezTo>
                  <a:pt x="21216" y="3795"/>
                  <a:pt x="21225" y="3795"/>
                  <a:pt x="21233" y="3795"/>
                </a:cubicBezTo>
              </a:path>
              <a:path w="6351" h="8136">
                <a:moveTo>
                  <a:pt x="21679" y="3175"/>
                </a:moveTo>
                <a:cubicBezTo>
                  <a:pt x="21679" y="3339"/>
                  <a:pt x="21621" y="3623"/>
                  <a:pt x="21704" y="3770"/>
                </a:cubicBezTo>
                <a:cubicBezTo>
                  <a:pt x="21803" y="3945"/>
                  <a:pt x="22040" y="3732"/>
                  <a:pt x="22126" y="3671"/>
                </a:cubicBezTo>
                <a:cubicBezTo>
                  <a:pt x="22038" y="3539"/>
                  <a:pt x="21882" y="3813"/>
                  <a:pt x="21853" y="3870"/>
                </a:cubicBezTo>
                <a:cubicBezTo>
                  <a:pt x="21845" y="3903"/>
                  <a:pt x="21836" y="3936"/>
                  <a:pt x="21828" y="3969"/>
                </a:cubicBezTo>
              </a:path>
              <a:path w="6351" h="8136">
                <a:moveTo>
                  <a:pt x="21406" y="4242"/>
                </a:moveTo>
                <a:cubicBezTo>
                  <a:pt x="21635" y="4186"/>
                  <a:pt x="21845" y="4117"/>
                  <a:pt x="22076" y="4142"/>
                </a:cubicBezTo>
              </a:path>
              <a:path w="6351" h="8136">
                <a:moveTo>
                  <a:pt x="21332" y="4663"/>
                </a:moveTo>
                <a:cubicBezTo>
                  <a:pt x="21448" y="4640"/>
                  <a:pt x="21492" y="4597"/>
                  <a:pt x="21580" y="4738"/>
                </a:cubicBezTo>
                <a:cubicBezTo>
                  <a:pt x="21696" y="4924"/>
                  <a:pt x="21422" y="5092"/>
                  <a:pt x="21282" y="5135"/>
                </a:cubicBezTo>
                <a:cubicBezTo>
                  <a:pt x="21197" y="5135"/>
                  <a:pt x="21171" y="5148"/>
                  <a:pt x="21158" y="5085"/>
                </a:cubicBezTo>
                <a:cubicBezTo>
                  <a:pt x="21251" y="4982"/>
                  <a:pt x="21335" y="4950"/>
                  <a:pt x="21481" y="5011"/>
                </a:cubicBezTo>
                <a:cubicBezTo>
                  <a:pt x="21537" y="5048"/>
                  <a:pt x="21541" y="5065"/>
                  <a:pt x="21580" y="5060"/>
                </a:cubicBezTo>
              </a:path>
              <a:path w="6351" h="8136">
                <a:moveTo>
                  <a:pt x="21754" y="4589"/>
                </a:moveTo>
                <a:cubicBezTo>
                  <a:pt x="21769" y="4684"/>
                  <a:pt x="21794" y="4858"/>
                  <a:pt x="21927" y="4862"/>
                </a:cubicBezTo>
                <a:cubicBezTo>
                  <a:pt x="22132" y="4869"/>
                  <a:pt x="22162" y="4613"/>
                  <a:pt x="22151" y="4465"/>
                </a:cubicBezTo>
                <a:cubicBezTo>
                  <a:pt x="22131" y="4404"/>
                  <a:pt x="22133" y="4389"/>
                  <a:pt x="22101" y="4366"/>
                </a:cubicBezTo>
                <a:cubicBezTo>
                  <a:pt x="22050" y="4582"/>
                  <a:pt x="22029" y="4812"/>
                  <a:pt x="22051" y="5035"/>
                </a:cubicBezTo>
                <a:cubicBezTo>
                  <a:pt x="22053" y="5055"/>
                  <a:pt x="22102" y="5212"/>
                  <a:pt x="22051" y="5159"/>
                </a:cubicBezTo>
              </a:path>
              <a:path w="6351" h="8136">
                <a:moveTo>
                  <a:pt x="21754" y="6201"/>
                </a:moveTo>
                <a:cubicBezTo>
                  <a:pt x="21736" y="6341"/>
                  <a:pt x="21717" y="6482"/>
                  <a:pt x="21704" y="6623"/>
                </a:cubicBezTo>
                <a:cubicBezTo>
                  <a:pt x="21704" y="6639"/>
                  <a:pt x="21704" y="6656"/>
                  <a:pt x="21704" y="6672"/>
                </a:cubicBezTo>
              </a:path>
              <a:path w="6351" h="8136">
                <a:moveTo>
                  <a:pt x="21977" y="6176"/>
                </a:moveTo>
                <a:cubicBezTo>
                  <a:pt x="21919" y="6253"/>
                  <a:pt x="21999" y="6283"/>
                  <a:pt x="22051" y="6350"/>
                </a:cubicBezTo>
                <a:cubicBezTo>
                  <a:pt x="22104" y="6418"/>
                  <a:pt x="22178" y="6546"/>
                  <a:pt x="22051" y="6598"/>
                </a:cubicBezTo>
                <a:cubicBezTo>
                  <a:pt x="22026" y="6598"/>
                  <a:pt x="22002" y="6598"/>
                  <a:pt x="21977" y="6598"/>
                </a:cubicBezTo>
              </a:path>
              <a:path w="6351" h="8136">
                <a:moveTo>
                  <a:pt x="22126" y="6127"/>
                </a:moveTo>
                <a:cubicBezTo>
                  <a:pt x="22263" y="6068"/>
                  <a:pt x="22280" y="6076"/>
                  <a:pt x="22423" y="6127"/>
                </a:cubicBezTo>
              </a:path>
              <a:path w="6351" h="8136">
                <a:moveTo>
                  <a:pt x="21307" y="7119"/>
                </a:moveTo>
                <a:cubicBezTo>
                  <a:pt x="21581" y="7031"/>
                  <a:pt x="21842" y="6987"/>
                  <a:pt x="22126" y="6945"/>
                </a:cubicBezTo>
              </a:path>
              <a:path w="6351" h="8136">
                <a:moveTo>
                  <a:pt x="21555" y="7913"/>
                </a:moveTo>
                <a:cubicBezTo>
                  <a:pt x="21582" y="7859"/>
                  <a:pt x="21692" y="7828"/>
                  <a:pt x="21754" y="7888"/>
                </a:cubicBezTo>
                <a:cubicBezTo>
                  <a:pt x="21931" y="8058"/>
                  <a:pt x="21722" y="8243"/>
                  <a:pt x="21580" y="8310"/>
                </a:cubicBezTo>
                <a:cubicBezTo>
                  <a:pt x="21439" y="8376"/>
                  <a:pt x="21398" y="8375"/>
                  <a:pt x="21307" y="8285"/>
                </a:cubicBezTo>
                <a:cubicBezTo>
                  <a:pt x="21385" y="8173"/>
                  <a:pt x="21460" y="8164"/>
                  <a:pt x="21605" y="8210"/>
                </a:cubicBezTo>
                <a:cubicBezTo>
                  <a:pt x="21650" y="8224"/>
                  <a:pt x="21683" y="8251"/>
                  <a:pt x="21729" y="8260"/>
                </a:cubicBezTo>
              </a:path>
              <a:path w="6351" h="8136">
                <a:moveTo>
                  <a:pt x="21903" y="7813"/>
                </a:moveTo>
                <a:cubicBezTo>
                  <a:pt x="21961" y="7932"/>
                  <a:pt x="21983" y="7983"/>
                  <a:pt x="22101" y="8037"/>
                </a:cubicBezTo>
                <a:cubicBezTo>
                  <a:pt x="22133" y="7973"/>
                  <a:pt x="22145" y="7942"/>
                  <a:pt x="22151" y="7888"/>
                </a:cubicBezTo>
              </a:path>
              <a:path w="6351" h="8136">
                <a:moveTo>
                  <a:pt x="22126" y="7615"/>
                </a:moveTo>
                <a:cubicBezTo>
                  <a:pt x="22098" y="7828"/>
                  <a:pt x="22081" y="8044"/>
                  <a:pt x="22076" y="8260"/>
                </a:cubicBezTo>
                <a:cubicBezTo>
                  <a:pt x="22076" y="8293"/>
                  <a:pt x="22076" y="8326"/>
                  <a:pt x="22076" y="8359"/>
                </a:cubicBezTo>
              </a:path>
              <a:path w="6351" h="8136">
                <a:moveTo>
                  <a:pt x="18752" y="8855"/>
                </a:moveTo>
                <a:cubicBezTo>
                  <a:pt x="18962" y="8897"/>
                  <a:pt x="19180" y="8931"/>
                  <a:pt x="19397" y="8930"/>
                </a:cubicBezTo>
                <a:cubicBezTo>
                  <a:pt x="20125" y="8925"/>
                  <a:pt x="20855" y="8856"/>
                  <a:pt x="21580" y="8806"/>
                </a:cubicBezTo>
                <a:cubicBezTo>
                  <a:pt x="21864" y="8786"/>
                  <a:pt x="22141" y="8746"/>
                  <a:pt x="22423" y="8731"/>
                </a:cubicBezTo>
                <a:cubicBezTo>
                  <a:pt x="22448" y="8731"/>
                  <a:pt x="22456" y="8731"/>
                  <a:pt x="22473" y="8731"/>
                </a:cubicBezTo>
              </a:path>
              <a:path w="6351" h="8136">
                <a:moveTo>
                  <a:pt x="20489" y="2853"/>
                </a:moveTo>
                <a:cubicBezTo>
                  <a:pt x="20481" y="2861"/>
                  <a:pt x="20472" y="2869"/>
                  <a:pt x="20464" y="2877"/>
                </a:cubicBezTo>
              </a:path>
              <a:path w="6351" h="8136">
                <a:moveTo>
                  <a:pt x="20563" y="4043"/>
                </a:moveTo>
                <a:cubicBezTo>
                  <a:pt x="20580" y="4068"/>
                  <a:pt x="20596" y="4093"/>
                  <a:pt x="20613" y="4118"/>
                </a:cubicBezTo>
              </a:path>
              <a:path w="6351" h="8136">
                <a:moveTo>
                  <a:pt x="20662" y="4738"/>
                </a:moveTo>
                <a:cubicBezTo>
                  <a:pt x="20638" y="4787"/>
                  <a:pt x="20630" y="4804"/>
                  <a:pt x="20687" y="4812"/>
                </a:cubicBezTo>
              </a:path>
              <a:path w="6351" h="8136">
                <a:moveTo>
                  <a:pt x="20762" y="5779"/>
                </a:moveTo>
                <a:cubicBezTo>
                  <a:pt x="20735" y="5887"/>
                  <a:pt x="20728" y="5928"/>
                  <a:pt x="20762" y="6003"/>
                </a:cubicBezTo>
              </a:path>
              <a:path w="6351" h="8136">
                <a:moveTo>
                  <a:pt x="20662" y="6623"/>
                </a:moveTo>
                <a:cubicBezTo>
                  <a:pt x="20662" y="6656"/>
                  <a:pt x="20662" y="6689"/>
                  <a:pt x="20662" y="6722"/>
                </a:cubicBezTo>
              </a:path>
              <a:path w="6351" h="8136">
                <a:moveTo>
                  <a:pt x="20464" y="7243"/>
                </a:moveTo>
                <a:cubicBezTo>
                  <a:pt x="20464" y="7284"/>
                  <a:pt x="20464" y="7326"/>
                  <a:pt x="20464" y="7367"/>
                </a:cubicBezTo>
              </a:path>
              <a:path w="6351" h="8136">
                <a:moveTo>
                  <a:pt x="20439" y="8136"/>
                </a:moveTo>
                <a:cubicBezTo>
                  <a:pt x="20423" y="8296"/>
                  <a:pt x="20441" y="8403"/>
                  <a:pt x="20489" y="8558"/>
                </a:cubicBezTo>
              </a:path>
              <a:path w="6351" h="8136">
                <a:moveTo>
                  <a:pt x="21233" y="9203"/>
                </a:moveTo>
                <a:cubicBezTo>
                  <a:pt x="21271" y="9107"/>
                  <a:pt x="21360" y="9108"/>
                  <a:pt x="21456" y="9079"/>
                </a:cubicBezTo>
                <a:cubicBezTo>
                  <a:pt x="21540" y="9203"/>
                  <a:pt x="21494" y="9270"/>
                  <a:pt x="21406" y="9376"/>
                </a:cubicBezTo>
                <a:cubicBezTo>
                  <a:pt x="21390" y="9393"/>
                  <a:pt x="21373" y="9409"/>
                  <a:pt x="21357" y="9426"/>
                </a:cubicBezTo>
                <a:cubicBezTo>
                  <a:pt x="21444" y="9426"/>
                  <a:pt x="21530" y="9433"/>
                  <a:pt x="21530" y="9550"/>
                </a:cubicBezTo>
                <a:cubicBezTo>
                  <a:pt x="21530" y="9706"/>
                  <a:pt x="21396" y="9754"/>
                  <a:pt x="21258" y="9723"/>
                </a:cubicBezTo>
                <a:cubicBezTo>
                  <a:pt x="21206" y="9711"/>
                  <a:pt x="21114" y="9672"/>
                  <a:pt x="21158" y="9649"/>
                </a:cubicBezTo>
              </a:path>
              <a:path w="6351" h="8136">
                <a:moveTo>
                  <a:pt x="21903" y="9079"/>
                </a:moveTo>
                <a:cubicBezTo>
                  <a:pt x="21866" y="9275"/>
                  <a:pt x="21921" y="9452"/>
                  <a:pt x="21903" y="9649"/>
                </a:cubicBezTo>
                <a:cubicBezTo>
                  <a:pt x="21882" y="9731"/>
                  <a:pt x="21874" y="9747"/>
                  <a:pt x="21878" y="9798"/>
                </a:cubicBezTo>
              </a:path>
              <a:path w="6351" h="8136">
                <a:moveTo>
                  <a:pt x="21034" y="10170"/>
                </a:moveTo>
                <a:cubicBezTo>
                  <a:pt x="21306" y="10131"/>
                  <a:pt x="21579" y="10073"/>
                  <a:pt x="21853" y="10046"/>
                </a:cubicBezTo>
                <a:cubicBezTo>
                  <a:pt x="21878" y="10046"/>
                  <a:pt x="21902" y="10046"/>
                  <a:pt x="21927" y="10046"/>
                </a:cubicBezTo>
              </a:path>
              <a:path w="6351" h="8136">
                <a:moveTo>
                  <a:pt x="21084" y="10468"/>
                </a:moveTo>
                <a:cubicBezTo>
                  <a:pt x="21239" y="10390"/>
                  <a:pt x="21348" y="10401"/>
                  <a:pt x="21456" y="10542"/>
                </a:cubicBezTo>
                <a:cubicBezTo>
                  <a:pt x="21593" y="10723"/>
                  <a:pt x="21307" y="10836"/>
                  <a:pt x="21158" y="10840"/>
                </a:cubicBezTo>
                <a:cubicBezTo>
                  <a:pt x="21133" y="10832"/>
                  <a:pt x="21109" y="10823"/>
                  <a:pt x="21084" y="10815"/>
                </a:cubicBezTo>
                <a:cubicBezTo>
                  <a:pt x="21161" y="10719"/>
                  <a:pt x="21221" y="10702"/>
                  <a:pt x="21357" y="10716"/>
                </a:cubicBezTo>
                <a:cubicBezTo>
                  <a:pt x="21446" y="10738"/>
                  <a:pt x="21472" y="10738"/>
                  <a:pt x="21506" y="10790"/>
                </a:cubicBezTo>
              </a:path>
              <a:path w="6351" h="8136">
                <a:moveTo>
                  <a:pt x="21654" y="10294"/>
                </a:moveTo>
                <a:cubicBezTo>
                  <a:pt x="21647" y="10408"/>
                  <a:pt x="21578" y="10562"/>
                  <a:pt x="21729" y="10592"/>
                </a:cubicBezTo>
                <a:cubicBezTo>
                  <a:pt x="21837" y="10614"/>
                  <a:pt x="21898" y="10572"/>
                  <a:pt x="21977" y="10517"/>
                </a:cubicBezTo>
              </a:path>
              <a:path w="6351" h="8136">
                <a:moveTo>
                  <a:pt x="21903" y="10269"/>
                </a:moveTo>
                <a:cubicBezTo>
                  <a:pt x="21877" y="10477"/>
                  <a:pt x="21888" y="10657"/>
                  <a:pt x="21903" y="10864"/>
                </a:cubicBezTo>
                <a:cubicBezTo>
                  <a:pt x="21907" y="10922"/>
                  <a:pt x="21903" y="10997"/>
                  <a:pt x="21903" y="1093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2920" y="2490840"/>
            <a:ext cx="3589200" cy="3108240"/>
          </a:xfrm>
          <a:custGeom>
            <a:avLst/>
            <a:gdLst/>
            <a:ahLst/>
            <a:rect l="l" t="t" r="r" b="b"/>
            <a:pathLst>
              <a:path w="9973" h="8633">
                <a:moveTo>
                  <a:pt x="18604" y="7144"/>
                </a:moveTo>
                <a:cubicBezTo>
                  <a:pt x="18636" y="7259"/>
                  <a:pt x="18657" y="7372"/>
                  <a:pt x="18678" y="7491"/>
                </a:cubicBezTo>
              </a:path>
              <a:path w="9973" h="8633">
                <a:moveTo>
                  <a:pt x="18628" y="7466"/>
                </a:moveTo>
                <a:cubicBezTo>
                  <a:pt x="18792" y="7412"/>
                  <a:pt x="18858" y="7392"/>
                  <a:pt x="18976" y="7367"/>
                </a:cubicBezTo>
              </a:path>
              <a:path w="9973" h="8633">
                <a:moveTo>
                  <a:pt x="19521" y="7144"/>
                </a:moveTo>
                <a:cubicBezTo>
                  <a:pt x="19553" y="7292"/>
                  <a:pt x="19499" y="7420"/>
                  <a:pt x="19521" y="7565"/>
                </a:cubicBezTo>
                <a:cubicBezTo>
                  <a:pt x="19529" y="7582"/>
                  <a:pt x="19538" y="7598"/>
                  <a:pt x="19546" y="7615"/>
                </a:cubicBezTo>
                <a:cubicBezTo>
                  <a:pt x="19763" y="7595"/>
                  <a:pt x="19925" y="7542"/>
                  <a:pt x="20117" y="7441"/>
                </a:cubicBezTo>
              </a:path>
              <a:path w="9973" h="8633">
                <a:moveTo>
                  <a:pt x="19918" y="6921"/>
                </a:moveTo>
                <a:cubicBezTo>
                  <a:pt x="19909" y="7271"/>
                  <a:pt x="19913" y="7612"/>
                  <a:pt x="19918" y="7962"/>
                </a:cubicBezTo>
                <a:cubicBezTo>
                  <a:pt x="19919" y="8045"/>
                  <a:pt x="19918" y="8127"/>
                  <a:pt x="19918" y="8210"/>
                </a:cubicBezTo>
              </a:path>
              <a:path w="9973" h="8633">
                <a:moveTo>
                  <a:pt x="19993" y="9599"/>
                </a:moveTo>
                <a:cubicBezTo>
                  <a:pt x="19855" y="9622"/>
                  <a:pt x="19742" y="9653"/>
                  <a:pt x="19621" y="9748"/>
                </a:cubicBezTo>
                <a:cubicBezTo>
                  <a:pt x="19461" y="9874"/>
                  <a:pt x="19407" y="9990"/>
                  <a:pt x="19348" y="10170"/>
                </a:cubicBezTo>
                <a:cubicBezTo>
                  <a:pt x="19498" y="10275"/>
                  <a:pt x="19843" y="10308"/>
                  <a:pt x="19943" y="10468"/>
                </a:cubicBezTo>
                <a:cubicBezTo>
                  <a:pt x="20026" y="10601"/>
                  <a:pt x="19838" y="10659"/>
                  <a:pt x="19769" y="10691"/>
                </a:cubicBezTo>
                <a:cubicBezTo>
                  <a:pt x="19557" y="10494"/>
                  <a:pt x="19684" y="10260"/>
                  <a:pt x="19794" y="9996"/>
                </a:cubicBezTo>
                <a:cubicBezTo>
                  <a:pt x="19852" y="9880"/>
                  <a:pt x="19861" y="9864"/>
                  <a:pt x="19893" y="9798"/>
                </a:cubicBezTo>
              </a:path>
              <a:path w="9973" h="8633">
                <a:moveTo>
                  <a:pt x="14486" y="10344"/>
                </a:moveTo>
                <a:cubicBezTo>
                  <a:pt x="14361" y="10218"/>
                  <a:pt x="14207" y="10284"/>
                  <a:pt x="14064" y="10393"/>
                </a:cubicBezTo>
                <a:cubicBezTo>
                  <a:pt x="13914" y="10508"/>
                  <a:pt x="13854" y="10602"/>
                  <a:pt x="13816" y="10765"/>
                </a:cubicBezTo>
                <a:cubicBezTo>
                  <a:pt x="14006" y="10875"/>
                  <a:pt x="14331" y="10899"/>
                  <a:pt x="14412" y="11137"/>
                </a:cubicBezTo>
                <a:cubicBezTo>
                  <a:pt x="14387" y="11261"/>
                  <a:pt x="14379" y="11301"/>
                  <a:pt x="14312" y="11361"/>
                </a:cubicBezTo>
                <a:cubicBezTo>
                  <a:pt x="14088" y="11265"/>
                  <a:pt x="14139" y="11036"/>
                  <a:pt x="14188" y="10790"/>
                </a:cubicBezTo>
                <a:cubicBezTo>
                  <a:pt x="14218" y="10641"/>
                  <a:pt x="14261" y="10539"/>
                  <a:pt x="14337" y="10443"/>
                </a:cubicBezTo>
              </a:path>
              <a:path w="9973" h="8633">
                <a:moveTo>
                  <a:pt x="14635" y="10046"/>
                </a:moveTo>
                <a:cubicBezTo>
                  <a:pt x="14671" y="9972"/>
                  <a:pt x="14826" y="9925"/>
                  <a:pt x="14908" y="9897"/>
                </a:cubicBezTo>
                <a:cubicBezTo>
                  <a:pt x="14995" y="9868"/>
                  <a:pt x="15099" y="9835"/>
                  <a:pt x="15131" y="9947"/>
                </a:cubicBezTo>
                <a:cubicBezTo>
                  <a:pt x="15165" y="10066"/>
                  <a:pt x="15118" y="10209"/>
                  <a:pt x="15156" y="10319"/>
                </a:cubicBezTo>
                <a:cubicBezTo>
                  <a:pt x="15164" y="10327"/>
                  <a:pt x="15172" y="10336"/>
                  <a:pt x="15180" y="10344"/>
                </a:cubicBezTo>
              </a:path>
              <a:path w="9973" h="8633">
                <a:moveTo>
                  <a:pt x="14982" y="10666"/>
                </a:moveTo>
                <a:cubicBezTo>
                  <a:pt x="15169" y="10538"/>
                  <a:pt x="15339" y="10464"/>
                  <a:pt x="15553" y="10393"/>
                </a:cubicBezTo>
              </a:path>
              <a:path w="9973" h="8633">
                <a:moveTo>
                  <a:pt x="14982" y="10988"/>
                </a:moveTo>
                <a:cubicBezTo>
                  <a:pt x="15056" y="10914"/>
                  <a:pt x="15080" y="10890"/>
                  <a:pt x="15156" y="10939"/>
                </a:cubicBezTo>
                <a:cubicBezTo>
                  <a:pt x="15261" y="11089"/>
                  <a:pt x="15232" y="11212"/>
                  <a:pt x="15081" y="11336"/>
                </a:cubicBezTo>
                <a:cubicBezTo>
                  <a:pt x="14992" y="11380"/>
                  <a:pt x="14969" y="11400"/>
                  <a:pt x="14908" y="11361"/>
                </a:cubicBezTo>
                <a:cubicBezTo>
                  <a:pt x="14895" y="11216"/>
                  <a:pt x="14962" y="11145"/>
                  <a:pt x="15131" y="11162"/>
                </a:cubicBezTo>
                <a:cubicBezTo>
                  <a:pt x="15191" y="11182"/>
                  <a:pt x="15206" y="11181"/>
                  <a:pt x="15230" y="11212"/>
                </a:cubicBezTo>
              </a:path>
              <a:path w="9973" h="8633">
                <a:moveTo>
                  <a:pt x="15304" y="10889"/>
                </a:moveTo>
                <a:cubicBezTo>
                  <a:pt x="15314" y="11011"/>
                  <a:pt x="15313" y="11007"/>
                  <a:pt x="15404" y="11088"/>
                </a:cubicBezTo>
                <a:cubicBezTo>
                  <a:pt x="15518" y="11025"/>
                  <a:pt x="15609" y="10912"/>
                  <a:pt x="15528" y="10765"/>
                </a:cubicBezTo>
                <a:cubicBezTo>
                  <a:pt x="15511" y="10757"/>
                  <a:pt x="15495" y="10748"/>
                  <a:pt x="15478" y="10740"/>
                </a:cubicBezTo>
                <a:cubicBezTo>
                  <a:pt x="15494" y="10952"/>
                  <a:pt x="15608" y="11130"/>
                  <a:pt x="15627" y="11336"/>
                </a:cubicBezTo>
                <a:cubicBezTo>
                  <a:pt x="15619" y="11361"/>
                  <a:pt x="15610" y="11385"/>
                  <a:pt x="15602" y="11410"/>
                </a:cubicBezTo>
              </a:path>
              <a:path w="9973" h="8633">
                <a:moveTo>
                  <a:pt x="13866" y="11931"/>
                </a:moveTo>
                <a:cubicBezTo>
                  <a:pt x="14675" y="11961"/>
                  <a:pt x="15348" y="11783"/>
                  <a:pt x="16049" y="11361"/>
                </a:cubicBezTo>
                <a:cubicBezTo>
                  <a:pt x="16477" y="11104"/>
                  <a:pt x="16942" y="10653"/>
                  <a:pt x="16917" y="10096"/>
                </a:cubicBezTo>
                <a:cubicBezTo>
                  <a:pt x="16888" y="9456"/>
                  <a:pt x="15802" y="9251"/>
                  <a:pt x="15354" y="9178"/>
                </a:cubicBezTo>
                <a:cubicBezTo>
                  <a:pt x="14416" y="9025"/>
                  <a:pt x="13344" y="9256"/>
                  <a:pt x="12898" y="10195"/>
                </a:cubicBezTo>
                <a:cubicBezTo>
                  <a:pt x="12383" y="11281"/>
                  <a:pt x="13030" y="11649"/>
                  <a:pt x="13891" y="11708"/>
                </a:cubicBezTo>
              </a:path>
              <a:path w="9973" h="8633">
                <a:moveTo>
                  <a:pt x="11460" y="11435"/>
                </a:moveTo>
                <a:cubicBezTo>
                  <a:pt x="11361" y="11457"/>
                  <a:pt x="11261" y="11516"/>
                  <a:pt x="11162" y="11559"/>
                </a:cubicBezTo>
                <a:cubicBezTo>
                  <a:pt x="11064" y="11602"/>
                  <a:pt x="11103" y="11574"/>
                  <a:pt x="11088" y="11683"/>
                </a:cubicBezTo>
                <a:cubicBezTo>
                  <a:pt x="11062" y="11875"/>
                  <a:pt x="11063" y="12061"/>
                  <a:pt x="11063" y="12254"/>
                </a:cubicBezTo>
                <a:cubicBezTo>
                  <a:pt x="11114" y="12151"/>
                  <a:pt x="11146" y="12076"/>
                  <a:pt x="11261" y="12005"/>
                </a:cubicBezTo>
                <a:cubicBezTo>
                  <a:pt x="11376" y="11960"/>
                  <a:pt x="11407" y="11941"/>
                  <a:pt x="11485" y="11981"/>
                </a:cubicBezTo>
                <a:cubicBezTo>
                  <a:pt x="11585" y="12194"/>
                  <a:pt x="11565" y="12461"/>
                  <a:pt x="11336" y="12626"/>
                </a:cubicBezTo>
                <a:cubicBezTo>
                  <a:pt x="11027" y="12848"/>
                  <a:pt x="10946" y="12533"/>
                  <a:pt x="10939" y="12328"/>
                </a:cubicBezTo>
              </a:path>
              <a:path w="9973" h="8633">
                <a:moveTo>
                  <a:pt x="11931" y="11187"/>
                </a:moveTo>
                <a:cubicBezTo>
                  <a:pt x="11971" y="11147"/>
                  <a:pt x="12056" y="11130"/>
                  <a:pt x="12129" y="11112"/>
                </a:cubicBezTo>
                <a:cubicBezTo>
                  <a:pt x="12225" y="11290"/>
                  <a:pt x="12202" y="11390"/>
                  <a:pt x="12080" y="11559"/>
                </a:cubicBezTo>
                <a:cubicBezTo>
                  <a:pt x="12041" y="11598"/>
                  <a:pt x="12024" y="11630"/>
                  <a:pt x="12030" y="11584"/>
                </a:cubicBezTo>
                <a:cubicBezTo>
                  <a:pt x="12116" y="11454"/>
                  <a:pt x="12127" y="11460"/>
                  <a:pt x="12278" y="11460"/>
                </a:cubicBezTo>
                <a:cubicBezTo>
                  <a:pt x="12391" y="11596"/>
                  <a:pt x="12368" y="11695"/>
                  <a:pt x="12204" y="11807"/>
                </a:cubicBezTo>
                <a:cubicBezTo>
                  <a:pt x="12114" y="11852"/>
                  <a:pt x="12092" y="11872"/>
                  <a:pt x="12030" y="11832"/>
                </a:cubicBezTo>
              </a:path>
              <a:path w="9973" h="8633">
                <a:moveTo>
                  <a:pt x="12055" y="12179"/>
                </a:moveTo>
                <a:cubicBezTo>
                  <a:pt x="12257" y="12050"/>
                  <a:pt x="12386" y="11969"/>
                  <a:pt x="12626" y="11956"/>
                </a:cubicBezTo>
              </a:path>
              <a:path w="9973" h="8633">
                <a:moveTo>
                  <a:pt x="12254" y="12353"/>
                </a:moveTo>
                <a:cubicBezTo>
                  <a:pt x="12239" y="12502"/>
                  <a:pt x="12237" y="12542"/>
                  <a:pt x="12303" y="12675"/>
                </a:cubicBezTo>
                <a:cubicBezTo>
                  <a:pt x="12502" y="12605"/>
                  <a:pt x="12499" y="12581"/>
                  <a:pt x="12626" y="12402"/>
                </a:cubicBezTo>
              </a:path>
              <a:path w="9973" h="8633">
                <a:moveTo>
                  <a:pt x="12427" y="12278"/>
                </a:moveTo>
                <a:cubicBezTo>
                  <a:pt x="12446" y="12527"/>
                  <a:pt x="12464" y="12774"/>
                  <a:pt x="12477" y="13022"/>
                </a:cubicBezTo>
              </a:path>
              <a:path w="9973" h="8633">
                <a:moveTo>
                  <a:pt x="10145" y="14387"/>
                </a:moveTo>
                <a:cubicBezTo>
                  <a:pt x="10253" y="14295"/>
                  <a:pt x="10279" y="14280"/>
                  <a:pt x="10418" y="14263"/>
                </a:cubicBezTo>
              </a:path>
              <a:path w="9973" h="8633">
                <a:moveTo>
                  <a:pt x="11187" y="14114"/>
                </a:moveTo>
                <a:cubicBezTo>
                  <a:pt x="11116" y="14224"/>
                  <a:pt x="11060" y="14314"/>
                  <a:pt x="11162" y="14064"/>
                </a:cubicBezTo>
                <a:cubicBezTo>
                  <a:pt x="11179" y="14031"/>
                  <a:pt x="11195" y="13998"/>
                  <a:pt x="11212" y="13965"/>
                </a:cubicBezTo>
                <a:cubicBezTo>
                  <a:pt x="11475" y="14088"/>
                  <a:pt x="11411" y="14448"/>
                  <a:pt x="11336" y="14734"/>
                </a:cubicBezTo>
                <a:cubicBezTo>
                  <a:pt x="11259" y="15025"/>
                  <a:pt x="11161" y="15067"/>
                  <a:pt x="10914" y="15156"/>
                </a:cubicBezTo>
                <a:cubicBezTo>
                  <a:pt x="10850" y="14950"/>
                  <a:pt x="10921" y="14866"/>
                  <a:pt x="11162" y="14833"/>
                </a:cubicBezTo>
                <a:cubicBezTo>
                  <a:pt x="11346" y="14807"/>
                  <a:pt x="11601" y="14846"/>
                  <a:pt x="11609" y="15081"/>
                </a:cubicBezTo>
                <a:cubicBezTo>
                  <a:pt x="11601" y="15106"/>
                  <a:pt x="11592" y="15131"/>
                  <a:pt x="11584" y="15156"/>
                </a:cubicBezTo>
              </a:path>
              <a:path w="9973" h="8633">
                <a:moveTo>
                  <a:pt x="12378" y="13519"/>
                </a:moveTo>
                <a:cubicBezTo>
                  <a:pt x="12328" y="13529"/>
                  <a:pt x="12271" y="13560"/>
                  <a:pt x="12229" y="13568"/>
                </a:cubicBezTo>
                <a:cubicBezTo>
                  <a:pt x="12174" y="13579"/>
                  <a:pt x="12140" y="13611"/>
                  <a:pt x="12154" y="13692"/>
                </a:cubicBezTo>
                <a:cubicBezTo>
                  <a:pt x="12164" y="13747"/>
                  <a:pt x="12176" y="13798"/>
                  <a:pt x="12204" y="13816"/>
                </a:cubicBezTo>
                <a:cubicBezTo>
                  <a:pt x="12292" y="13790"/>
                  <a:pt x="12417" y="13674"/>
                  <a:pt x="12526" y="13717"/>
                </a:cubicBezTo>
                <a:cubicBezTo>
                  <a:pt x="12543" y="13734"/>
                  <a:pt x="12559" y="13750"/>
                  <a:pt x="12576" y="13767"/>
                </a:cubicBezTo>
                <a:cubicBezTo>
                  <a:pt x="12544" y="13863"/>
                  <a:pt x="12497" y="14050"/>
                  <a:pt x="12353" y="13965"/>
                </a:cubicBezTo>
                <a:cubicBezTo>
                  <a:pt x="12328" y="13940"/>
                  <a:pt x="12303" y="13916"/>
                  <a:pt x="12278" y="13891"/>
                </a:cubicBezTo>
              </a:path>
              <a:path w="9973" h="8633">
                <a:moveTo>
                  <a:pt x="12303" y="13519"/>
                </a:moveTo>
                <a:cubicBezTo>
                  <a:pt x="12391" y="13464"/>
                  <a:pt x="12556" y="13349"/>
                  <a:pt x="12675" y="13395"/>
                </a:cubicBezTo>
                <a:cubicBezTo>
                  <a:pt x="12692" y="13411"/>
                  <a:pt x="12708" y="13428"/>
                  <a:pt x="12725" y="13444"/>
                </a:cubicBezTo>
              </a:path>
              <a:path w="9973" h="8633">
                <a:moveTo>
                  <a:pt x="12179" y="14263"/>
                </a:moveTo>
                <a:cubicBezTo>
                  <a:pt x="12416" y="14190"/>
                  <a:pt x="12626" y="14145"/>
                  <a:pt x="12874" y="14139"/>
                </a:cubicBezTo>
                <a:cubicBezTo>
                  <a:pt x="12932" y="14139"/>
                  <a:pt x="12940" y="14139"/>
                  <a:pt x="12973" y="14139"/>
                </a:cubicBezTo>
              </a:path>
              <a:path w="9973" h="8633">
                <a:moveTo>
                  <a:pt x="12353" y="14536"/>
                </a:moveTo>
                <a:cubicBezTo>
                  <a:pt x="12353" y="14734"/>
                  <a:pt x="12311" y="14935"/>
                  <a:pt x="12328" y="15131"/>
                </a:cubicBezTo>
                <a:cubicBezTo>
                  <a:pt x="12336" y="15164"/>
                  <a:pt x="12345" y="15197"/>
                  <a:pt x="12353" y="15230"/>
                </a:cubicBezTo>
                <a:cubicBezTo>
                  <a:pt x="12531" y="15230"/>
                  <a:pt x="12664" y="15099"/>
                  <a:pt x="12725" y="14908"/>
                </a:cubicBezTo>
                <a:cubicBezTo>
                  <a:pt x="12725" y="14875"/>
                  <a:pt x="12725" y="14841"/>
                  <a:pt x="12725" y="14808"/>
                </a:cubicBezTo>
                <a:cubicBezTo>
                  <a:pt x="12588" y="14888"/>
                  <a:pt x="12503" y="14983"/>
                  <a:pt x="12551" y="15156"/>
                </a:cubicBezTo>
                <a:cubicBezTo>
                  <a:pt x="12579" y="15183"/>
                  <a:pt x="12588" y="15187"/>
                  <a:pt x="12576" y="15131"/>
                </a:cubicBezTo>
              </a:path>
              <a:path w="9973" h="8633">
                <a:moveTo>
                  <a:pt x="10616" y="15553"/>
                </a:moveTo>
                <a:cubicBezTo>
                  <a:pt x="10987" y="15374"/>
                  <a:pt x="11410" y="15273"/>
                  <a:pt x="11807" y="15156"/>
                </a:cubicBezTo>
                <a:cubicBezTo>
                  <a:pt x="12423" y="14974"/>
                  <a:pt x="13001" y="14833"/>
                  <a:pt x="13643" y="14833"/>
                </a:cubicBezTo>
                <a:cubicBezTo>
                  <a:pt x="13651" y="14833"/>
                  <a:pt x="13659" y="14833"/>
                  <a:pt x="13667" y="14833"/>
                </a:cubicBezTo>
              </a:path>
              <a:path w="9973" h="8633">
                <a:moveTo>
                  <a:pt x="12353" y="14486"/>
                </a:moveTo>
                <a:cubicBezTo>
                  <a:pt x="12414" y="14486"/>
                  <a:pt x="12364" y="14416"/>
                  <a:pt x="12427" y="14511"/>
                </a:cubicBezTo>
              </a:path>
              <a:path w="9973" h="8633">
                <a:moveTo>
                  <a:pt x="13891" y="14114"/>
                </a:moveTo>
                <a:cubicBezTo>
                  <a:pt x="13903" y="14213"/>
                  <a:pt x="13915" y="14307"/>
                  <a:pt x="13915" y="14412"/>
                </a:cubicBezTo>
                <a:cubicBezTo>
                  <a:pt x="13915" y="14420"/>
                  <a:pt x="13915" y="14428"/>
                  <a:pt x="13915" y="14436"/>
                </a:cubicBezTo>
                <a:cubicBezTo>
                  <a:pt x="13935" y="14317"/>
                  <a:pt x="13988" y="14253"/>
                  <a:pt x="14064" y="14163"/>
                </a:cubicBezTo>
                <a:cubicBezTo>
                  <a:pt x="14256" y="14301"/>
                  <a:pt x="14246" y="14468"/>
                  <a:pt x="14114" y="14684"/>
                </a:cubicBezTo>
                <a:cubicBezTo>
                  <a:pt x="14024" y="14775"/>
                  <a:pt x="14003" y="14805"/>
                  <a:pt x="13915" y="14808"/>
                </a:cubicBezTo>
                <a:cubicBezTo>
                  <a:pt x="13877" y="14671"/>
                  <a:pt x="13986" y="14575"/>
                  <a:pt x="14139" y="14560"/>
                </a:cubicBezTo>
                <a:cubicBezTo>
                  <a:pt x="14259" y="14548"/>
                  <a:pt x="14297" y="14642"/>
                  <a:pt x="14312" y="14734"/>
                </a:cubicBezTo>
              </a:path>
              <a:path w="9973" h="8633">
                <a:moveTo>
                  <a:pt x="14436" y="14213"/>
                </a:moveTo>
                <a:cubicBezTo>
                  <a:pt x="14464" y="14295"/>
                  <a:pt x="14523" y="14513"/>
                  <a:pt x="14660" y="14412"/>
                </a:cubicBezTo>
                <a:cubicBezTo>
                  <a:pt x="14676" y="14387"/>
                  <a:pt x="14693" y="14362"/>
                  <a:pt x="14709" y="14337"/>
                </a:cubicBezTo>
              </a:path>
              <a:path w="9973" h="8633">
                <a:moveTo>
                  <a:pt x="14585" y="14188"/>
                </a:moveTo>
                <a:cubicBezTo>
                  <a:pt x="14585" y="14361"/>
                  <a:pt x="14605" y="14546"/>
                  <a:pt x="14560" y="14709"/>
                </a:cubicBezTo>
              </a:path>
              <a:path w="9973" h="8633">
                <a:moveTo>
                  <a:pt x="13915" y="12402"/>
                </a:moveTo>
                <a:cubicBezTo>
                  <a:pt x="13915" y="12326"/>
                  <a:pt x="13917" y="12301"/>
                  <a:pt x="13990" y="12303"/>
                </a:cubicBezTo>
                <a:cubicBezTo>
                  <a:pt x="14120" y="12339"/>
                  <a:pt x="14182" y="12447"/>
                  <a:pt x="14114" y="12601"/>
                </a:cubicBezTo>
                <a:cubicBezTo>
                  <a:pt x="14063" y="12716"/>
                  <a:pt x="14008" y="12735"/>
                  <a:pt x="13915" y="12725"/>
                </a:cubicBezTo>
                <a:cubicBezTo>
                  <a:pt x="13930" y="12609"/>
                  <a:pt x="13989" y="12584"/>
                  <a:pt x="14114" y="12601"/>
                </a:cubicBezTo>
                <a:cubicBezTo>
                  <a:pt x="14167" y="12608"/>
                  <a:pt x="14212" y="12640"/>
                  <a:pt x="14263" y="12650"/>
                </a:cubicBezTo>
              </a:path>
              <a:path w="9973" h="8633">
                <a:moveTo>
                  <a:pt x="14288" y="12204"/>
                </a:moveTo>
                <a:cubicBezTo>
                  <a:pt x="14333" y="12341"/>
                  <a:pt x="14359" y="12382"/>
                  <a:pt x="14486" y="12452"/>
                </a:cubicBezTo>
                <a:cubicBezTo>
                  <a:pt x="14554" y="12350"/>
                  <a:pt x="14521" y="12292"/>
                  <a:pt x="14486" y="12179"/>
                </a:cubicBezTo>
                <a:cubicBezTo>
                  <a:pt x="14425" y="12220"/>
                  <a:pt x="14500" y="12502"/>
                  <a:pt x="14511" y="12576"/>
                </a:cubicBezTo>
                <a:cubicBezTo>
                  <a:pt x="14523" y="12658"/>
                  <a:pt x="14542" y="12775"/>
                  <a:pt x="14560" y="12774"/>
                </a:cubicBezTo>
              </a:path>
              <a:path w="9973" h="8633">
                <a:moveTo>
                  <a:pt x="13791" y="12129"/>
                </a:moveTo>
                <a:cubicBezTo>
                  <a:pt x="13957" y="12114"/>
                  <a:pt x="14122" y="12103"/>
                  <a:pt x="14288" y="12080"/>
                </a:cubicBezTo>
                <a:cubicBezTo>
                  <a:pt x="14411" y="12059"/>
                  <a:pt x="14436" y="12051"/>
                  <a:pt x="14511" y="12055"/>
                </a:cubicBezTo>
              </a:path>
              <a:path w="9973" h="8633">
                <a:moveTo>
                  <a:pt x="12601" y="11832"/>
                </a:moveTo>
                <a:cubicBezTo>
                  <a:pt x="12577" y="11844"/>
                  <a:pt x="12648" y="11949"/>
                  <a:pt x="12675" y="12005"/>
                </a:cubicBezTo>
                <a:cubicBezTo>
                  <a:pt x="12692" y="12038"/>
                  <a:pt x="12708" y="12072"/>
                  <a:pt x="12725" y="12105"/>
                </a:cubicBezTo>
              </a:path>
              <a:path w="9973" h="8633">
                <a:moveTo>
                  <a:pt x="12700" y="11857"/>
                </a:moveTo>
                <a:cubicBezTo>
                  <a:pt x="12677" y="11972"/>
                  <a:pt x="12644" y="12090"/>
                  <a:pt x="12626" y="12204"/>
                </a:cubicBezTo>
              </a:path>
              <a:path w="9973" h="8633">
                <a:moveTo>
                  <a:pt x="12973" y="12179"/>
                </a:moveTo>
                <a:cubicBezTo>
                  <a:pt x="12973" y="12315"/>
                  <a:pt x="12947" y="12484"/>
                  <a:pt x="12998" y="12601"/>
                </a:cubicBezTo>
                <a:cubicBezTo>
                  <a:pt x="13111" y="12529"/>
                  <a:pt x="13131" y="12455"/>
                  <a:pt x="13171" y="12328"/>
                </a:cubicBezTo>
                <a:cubicBezTo>
                  <a:pt x="13132" y="12407"/>
                  <a:pt x="13057" y="12537"/>
                  <a:pt x="13097" y="12626"/>
                </a:cubicBezTo>
                <a:cubicBezTo>
                  <a:pt x="13105" y="12618"/>
                  <a:pt x="13114" y="12609"/>
                  <a:pt x="13122" y="12601"/>
                </a:cubicBezTo>
              </a:path>
              <a:path w="9973" h="8633">
                <a:moveTo>
                  <a:pt x="12923" y="12080"/>
                </a:moveTo>
                <a:cubicBezTo>
                  <a:pt x="13021" y="12064"/>
                  <a:pt x="13046" y="12036"/>
                  <a:pt x="13097" y="11956"/>
                </a:cubicBezTo>
              </a:path>
              <a:path w="9973" h="8633">
                <a:moveTo>
                  <a:pt x="12874" y="11559"/>
                </a:moveTo>
                <a:cubicBezTo>
                  <a:pt x="12874" y="11678"/>
                  <a:pt x="12868" y="11822"/>
                  <a:pt x="12923" y="11931"/>
                </a:cubicBezTo>
                <a:cubicBezTo>
                  <a:pt x="12980" y="12045"/>
                  <a:pt x="13080" y="11923"/>
                  <a:pt x="13097" y="11857"/>
                </a:cubicBezTo>
                <a:cubicBezTo>
                  <a:pt x="13119" y="11768"/>
                  <a:pt x="13077" y="11945"/>
                  <a:pt x="13097" y="12030"/>
                </a:cubicBezTo>
              </a:path>
              <a:path w="9973" h="8633">
                <a:moveTo>
                  <a:pt x="13742" y="11584"/>
                </a:moveTo>
                <a:cubicBezTo>
                  <a:pt x="13742" y="11532"/>
                  <a:pt x="13728" y="11531"/>
                  <a:pt x="13717" y="11509"/>
                </a:cubicBezTo>
                <a:cubicBezTo>
                  <a:pt x="13694" y="11464"/>
                  <a:pt x="13716" y="11671"/>
                  <a:pt x="13717" y="11683"/>
                </a:cubicBezTo>
                <a:cubicBezTo>
                  <a:pt x="13724" y="11745"/>
                  <a:pt x="13727" y="11954"/>
                  <a:pt x="13767" y="11981"/>
                </a:cubicBezTo>
              </a:path>
              <a:path w="9973" h="8633">
                <a:moveTo>
                  <a:pt x="14213" y="11336"/>
                </a:moveTo>
                <a:cubicBezTo>
                  <a:pt x="14115" y="11418"/>
                  <a:pt x="13997" y="11512"/>
                  <a:pt x="14015" y="11658"/>
                </a:cubicBezTo>
                <a:cubicBezTo>
                  <a:pt x="14031" y="11787"/>
                  <a:pt x="14286" y="11719"/>
                  <a:pt x="14362" y="11782"/>
                </a:cubicBezTo>
                <a:cubicBezTo>
                  <a:pt x="14455" y="11859"/>
                  <a:pt x="14215" y="11951"/>
                  <a:pt x="14188" y="11956"/>
                </a:cubicBezTo>
                <a:cubicBezTo>
                  <a:pt x="14165" y="11793"/>
                  <a:pt x="14263" y="11690"/>
                  <a:pt x="14263" y="11534"/>
                </a:cubicBezTo>
                <a:cubicBezTo>
                  <a:pt x="14240" y="11467"/>
                  <a:pt x="14239" y="11439"/>
                  <a:pt x="14188" y="11485"/>
                </a:cubicBezTo>
              </a:path>
              <a:path w="9973" h="8633">
                <a:moveTo>
                  <a:pt x="12923" y="14039"/>
                </a:moveTo>
                <a:cubicBezTo>
                  <a:pt x="12994" y="14181"/>
                  <a:pt x="13100" y="14334"/>
                  <a:pt x="13146" y="14486"/>
                </a:cubicBezTo>
                <a:cubicBezTo>
                  <a:pt x="13146" y="14503"/>
                  <a:pt x="13146" y="14519"/>
                  <a:pt x="13146" y="14536"/>
                </a:cubicBezTo>
              </a:path>
              <a:path w="9973" h="8633">
                <a:moveTo>
                  <a:pt x="13097" y="14213"/>
                </a:moveTo>
                <a:cubicBezTo>
                  <a:pt x="13070" y="14346"/>
                  <a:pt x="13054" y="14484"/>
                  <a:pt x="13022" y="14610"/>
                </a:cubicBezTo>
              </a:path>
              <a:path w="9973" h="8633">
                <a:moveTo>
                  <a:pt x="13965" y="13965"/>
                </a:moveTo>
                <a:cubicBezTo>
                  <a:pt x="13986" y="13902"/>
                  <a:pt x="14231" y="13899"/>
                  <a:pt x="14288" y="13891"/>
                </a:cubicBezTo>
                <a:cubicBezTo>
                  <a:pt x="14480" y="13865"/>
                  <a:pt x="14665" y="13866"/>
                  <a:pt x="14858" y="13866"/>
                </a:cubicBezTo>
              </a:path>
              <a:path w="9973" h="8633">
                <a:moveTo>
                  <a:pt x="13370" y="14436"/>
                </a:moveTo>
                <a:cubicBezTo>
                  <a:pt x="13370" y="14428"/>
                  <a:pt x="13370" y="14420"/>
                  <a:pt x="13370" y="14412"/>
                </a:cubicBezTo>
                <a:cubicBezTo>
                  <a:pt x="13349" y="14453"/>
                  <a:pt x="13311" y="14588"/>
                  <a:pt x="13345" y="14635"/>
                </a:cubicBezTo>
                <a:cubicBezTo>
                  <a:pt x="13385" y="14691"/>
                  <a:pt x="13436" y="14572"/>
                  <a:pt x="13469" y="14511"/>
                </a:cubicBezTo>
              </a:path>
              <a:path w="9973" h="8633">
                <a:moveTo>
                  <a:pt x="13444" y="14288"/>
                </a:moveTo>
                <a:cubicBezTo>
                  <a:pt x="13408" y="14461"/>
                  <a:pt x="13378" y="14632"/>
                  <a:pt x="13370" y="14808"/>
                </a:cubicBezTo>
                <a:cubicBezTo>
                  <a:pt x="13370" y="14816"/>
                  <a:pt x="13370" y="14825"/>
                  <a:pt x="13370" y="14833"/>
                </a:cubicBezTo>
              </a:path>
              <a:path w="9973" h="8633">
                <a:moveTo>
                  <a:pt x="13271" y="14263"/>
                </a:moveTo>
                <a:cubicBezTo>
                  <a:pt x="13367" y="14243"/>
                  <a:pt x="13420" y="14204"/>
                  <a:pt x="13494" y="14139"/>
                </a:cubicBezTo>
                <a:cubicBezTo>
                  <a:pt x="13502" y="14131"/>
                  <a:pt x="13511" y="14122"/>
                  <a:pt x="13519" y="14114"/>
                </a:cubicBezTo>
              </a:path>
              <a:path w="9973" h="8633">
                <a:moveTo>
                  <a:pt x="13171" y="13692"/>
                </a:moveTo>
                <a:cubicBezTo>
                  <a:pt x="13171" y="13635"/>
                  <a:pt x="13153" y="13767"/>
                  <a:pt x="13146" y="13791"/>
                </a:cubicBezTo>
                <a:cubicBezTo>
                  <a:pt x="13146" y="13799"/>
                  <a:pt x="13146" y="13808"/>
                  <a:pt x="13146" y="13816"/>
                </a:cubicBezTo>
                <a:cubicBezTo>
                  <a:pt x="13198" y="13806"/>
                  <a:pt x="13243" y="13777"/>
                  <a:pt x="13295" y="13767"/>
                </a:cubicBezTo>
              </a:path>
              <a:path w="9973" h="8633">
                <a:moveTo>
                  <a:pt x="13295" y="13543"/>
                </a:moveTo>
                <a:cubicBezTo>
                  <a:pt x="13261" y="13671"/>
                  <a:pt x="13256" y="13808"/>
                  <a:pt x="13295" y="13940"/>
                </a:cubicBezTo>
                <a:cubicBezTo>
                  <a:pt x="13303" y="13957"/>
                  <a:pt x="13312" y="13973"/>
                  <a:pt x="13320" y="13990"/>
                </a:cubicBezTo>
              </a:path>
              <a:path w="9973" h="8633">
                <a:moveTo>
                  <a:pt x="14089" y="13221"/>
                </a:moveTo>
                <a:cubicBezTo>
                  <a:pt x="14057" y="13261"/>
                  <a:pt x="14038" y="13298"/>
                  <a:pt x="14015" y="13345"/>
                </a:cubicBezTo>
                <a:cubicBezTo>
                  <a:pt x="14028" y="13290"/>
                  <a:pt x="14129" y="13188"/>
                  <a:pt x="14188" y="13271"/>
                </a:cubicBezTo>
                <a:cubicBezTo>
                  <a:pt x="14281" y="13401"/>
                  <a:pt x="14225" y="13706"/>
                  <a:pt x="14114" y="13816"/>
                </a:cubicBezTo>
                <a:cubicBezTo>
                  <a:pt x="14089" y="13824"/>
                  <a:pt x="14064" y="13833"/>
                  <a:pt x="14039" y="13841"/>
                </a:cubicBezTo>
                <a:cubicBezTo>
                  <a:pt x="14011" y="13780"/>
                  <a:pt x="13931" y="13523"/>
                  <a:pt x="14114" y="13593"/>
                </a:cubicBezTo>
                <a:cubicBezTo>
                  <a:pt x="14249" y="13645"/>
                  <a:pt x="14271" y="13792"/>
                  <a:pt x="14387" y="13791"/>
                </a:cubicBezTo>
              </a:path>
              <a:path w="9973" h="8633">
                <a:moveTo>
                  <a:pt x="14461" y="13419"/>
                </a:moveTo>
                <a:cubicBezTo>
                  <a:pt x="14444" y="13643"/>
                  <a:pt x="14422" y="13657"/>
                  <a:pt x="14560" y="13816"/>
                </a:cubicBezTo>
                <a:cubicBezTo>
                  <a:pt x="14724" y="13744"/>
                  <a:pt x="14920" y="13593"/>
                  <a:pt x="14734" y="13395"/>
                </a:cubicBezTo>
                <a:cubicBezTo>
                  <a:pt x="14644" y="13299"/>
                  <a:pt x="14490" y="13349"/>
                  <a:pt x="14387" y="13370"/>
                </a:cubicBezTo>
              </a:path>
              <a:path w="9973" h="8633">
                <a:moveTo>
                  <a:pt x="15453" y="12576"/>
                </a:moveTo>
                <a:cubicBezTo>
                  <a:pt x="15470" y="12576"/>
                  <a:pt x="15486" y="12576"/>
                  <a:pt x="15503" y="12576"/>
                </a:cubicBezTo>
              </a:path>
              <a:path w="9973" h="8633">
                <a:moveTo>
                  <a:pt x="18380" y="10393"/>
                </a:moveTo>
                <a:cubicBezTo>
                  <a:pt x="18388" y="10393"/>
                  <a:pt x="18397" y="10393"/>
                  <a:pt x="18405" y="1039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91200" y="3187800"/>
            <a:ext cx="1492560" cy="1447560"/>
          </a:xfrm>
          <a:custGeom>
            <a:avLst/>
            <a:gdLst/>
            <a:ahLst/>
            <a:rect l="l" t="t" r="r" b="b"/>
            <a:pathLst>
              <a:path w="4143" h="4020">
                <a:moveTo>
                  <a:pt x="22126" y="8880"/>
                </a:moveTo>
                <a:cubicBezTo>
                  <a:pt x="22067" y="8928"/>
                  <a:pt x="21999" y="9044"/>
                  <a:pt x="21903" y="9252"/>
                </a:cubicBezTo>
                <a:cubicBezTo>
                  <a:pt x="21663" y="9771"/>
                  <a:pt x="21399" y="10272"/>
                  <a:pt x="21109" y="10765"/>
                </a:cubicBezTo>
                <a:cubicBezTo>
                  <a:pt x="21028" y="10903"/>
                  <a:pt x="20980" y="11031"/>
                  <a:pt x="21084" y="10790"/>
                </a:cubicBezTo>
              </a:path>
              <a:path w="4143" h="4020">
                <a:moveTo>
                  <a:pt x="22746" y="9054"/>
                </a:moveTo>
                <a:cubicBezTo>
                  <a:pt x="22883" y="9011"/>
                  <a:pt x="23026" y="8974"/>
                  <a:pt x="23168" y="8954"/>
                </a:cubicBezTo>
                <a:cubicBezTo>
                  <a:pt x="23184" y="8954"/>
                  <a:pt x="23201" y="8954"/>
                  <a:pt x="23217" y="8954"/>
                </a:cubicBezTo>
                <a:cubicBezTo>
                  <a:pt x="23217" y="9104"/>
                  <a:pt x="23159" y="9208"/>
                  <a:pt x="23118" y="9351"/>
                </a:cubicBezTo>
                <a:cubicBezTo>
                  <a:pt x="23085" y="9467"/>
                  <a:pt x="23058" y="9581"/>
                  <a:pt x="23044" y="9699"/>
                </a:cubicBezTo>
              </a:path>
              <a:path w="4143" h="4020">
                <a:moveTo>
                  <a:pt x="22721" y="10021"/>
                </a:moveTo>
                <a:cubicBezTo>
                  <a:pt x="22962" y="9941"/>
                  <a:pt x="23217" y="9875"/>
                  <a:pt x="23465" y="9823"/>
                </a:cubicBezTo>
                <a:cubicBezTo>
                  <a:pt x="23507" y="9823"/>
                  <a:pt x="23515" y="9823"/>
                  <a:pt x="23540" y="9823"/>
                </a:cubicBezTo>
              </a:path>
              <a:path w="4143" h="4020">
                <a:moveTo>
                  <a:pt x="22597" y="10468"/>
                </a:moveTo>
                <a:cubicBezTo>
                  <a:pt x="22708" y="10375"/>
                  <a:pt x="22757" y="10392"/>
                  <a:pt x="22895" y="10418"/>
                </a:cubicBezTo>
                <a:cubicBezTo>
                  <a:pt x="22910" y="10662"/>
                  <a:pt x="22823" y="10773"/>
                  <a:pt x="22622" y="10914"/>
                </a:cubicBezTo>
                <a:cubicBezTo>
                  <a:pt x="22517" y="10977"/>
                  <a:pt x="22496" y="10995"/>
                  <a:pt x="22423" y="11013"/>
                </a:cubicBezTo>
                <a:cubicBezTo>
                  <a:pt x="22424" y="10854"/>
                  <a:pt x="22563" y="10775"/>
                  <a:pt x="22721" y="10716"/>
                </a:cubicBezTo>
                <a:cubicBezTo>
                  <a:pt x="22851" y="10667"/>
                  <a:pt x="22904" y="10711"/>
                  <a:pt x="22969" y="10815"/>
                </a:cubicBezTo>
              </a:path>
              <a:path w="4143" h="4020">
                <a:moveTo>
                  <a:pt x="23143" y="10319"/>
                </a:moveTo>
                <a:cubicBezTo>
                  <a:pt x="23118" y="10481"/>
                  <a:pt x="23160" y="10562"/>
                  <a:pt x="23341" y="10592"/>
                </a:cubicBezTo>
                <a:cubicBezTo>
                  <a:pt x="23499" y="10619"/>
                  <a:pt x="23503" y="10534"/>
                  <a:pt x="23564" y="10418"/>
                </a:cubicBezTo>
              </a:path>
              <a:path w="4143" h="4020">
                <a:moveTo>
                  <a:pt x="23391" y="10170"/>
                </a:moveTo>
                <a:cubicBezTo>
                  <a:pt x="23391" y="10370"/>
                  <a:pt x="23411" y="10566"/>
                  <a:pt x="23416" y="10765"/>
                </a:cubicBezTo>
                <a:cubicBezTo>
                  <a:pt x="23417" y="10829"/>
                  <a:pt x="23433" y="10896"/>
                  <a:pt x="23416" y="10914"/>
                </a:cubicBezTo>
              </a:path>
              <a:path w="4143" h="4020">
                <a:moveTo>
                  <a:pt x="19521" y="12080"/>
                </a:moveTo>
                <a:cubicBezTo>
                  <a:pt x="19585" y="12191"/>
                  <a:pt x="19552" y="12276"/>
                  <a:pt x="19546" y="12402"/>
                </a:cubicBezTo>
                <a:cubicBezTo>
                  <a:pt x="19546" y="12410"/>
                  <a:pt x="19546" y="12419"/>
                  <a:pt x="19546" y="12427"/>
                </a:cubicBezTo>
              </a:path>
              <a:path w="4143" h="4020">
                <a:moveTo>
                  <a:pt x="19422" y="12328"/>
                </a:moveTo>
                <a:cubicBezTo>
                  <a:pt x="19542" y="12298"/>
                  <a:pt x="19594" y="12280"/>
                  <a:pt x="19670" y="12229"/>
                </a:cubicBezTo>
              </a:path>
              <a:path w="4143" h="4020">
                <a:moveTo>
                  <a:pt x="20141" y="11658"/>
                </a:moveTo>
                <a:cubicBezTo>
                  <a:pt x="20230" y="11614"/>
                  <a:pt x="20412" y="11565"/>
                  <a:pt x="20439" y="11733"/>
                </a:cubicBezTo>
                <a:cubicBezTo>
                  <a:pt x="20466" y="11898"/>
                  <a:pt x="20244" y="12001"/>
                  <a:pt x="20117" y="12005"/>
                </a:cubicBezTo>
                <a:cubicBezTo>
                  <a:pt x="20049" y="11983"/>
                  <a:pt x="20028" y="11982"/>
                  <a:pt x="20017" y="11931"/>
                </a:cubicBezTo>
                <a:cubicBezTo>
                  <a:pt x="20151" y="11837"/>
                  <a:pt x="20236" y="11844"/>
                  <a:pt x="20389" y="11906"/>
                </a:cubicBezTo>
                <a:cubicBezTo>
                  <a:pt x="20439" y="11931"/>
                  <a:pt x="20456" y="11939"/>
                  <a:pt x="20489" y="11906"/>
                </a:cubicBezTo>
              </a:path>
              <a:path w="4143" h="4020">
                <a:moveTo>
                  <a:pt x="20513" y="11534"/>
                </a:moveTo>
                <a:cubicBezTo>
                  <a:pt x="20513" y="11587"/>
                  <a:pt x="20504" y="11729"/>
                  <a:pt x="20563" y="11757"/>
                </a:cubicBezTo>
                <a:cubicBezTo>
                  <a:pt x="20636" y="11757"/>
                  <a:pt x="20660" y="11758"/>
                  <a:pt x="20687" y="11708"/>
                </a:cubicBezTo>
              </a:path>
              <a:path w="4143" h="4020">
                <a:moveTo>
                  <a:pt x="20687" y="11509"/>
                </a:moveTo>
                <a:cubicBezTo>
                  <a:pt x="20687" y="11708"/>
                  <a:pt x="20687" y="11906"/>
                  <a:pt x="20687" y="12105"/>
                </a:cubicBezTo>
              </a:path>
              <a:path w="4143" h="4020">
                <a:moveTo>
                  <a:pt x="19819" y="12278"/>
                </a:moveTo>
                <a:cubicBezTo>
                  <a:pt x="20041" y="12238"/>
                  <a:pt x="20259" y="12184"/>
                  <a:pt x="20489" y="12154"/>
                </a:cubicBezTo>
                <a:cubicBezTo>
                  <a:pt x="20490" y="12154"/>
                  <a:pt x="20834" y="12078"/>
                  <a:pt x="20811" y="12154"/>
                </a:cubicBezTo>
                <a:cubicBezTo>
                  <a:pt x="20803" y="12171"/>
                  <a:pt x="20794" y="12187"/>
                  <a:pt x="20786" y="12204"/>
                </a:cubicBezTo>
              </a:path>
              <a:path w="4143" h="4020">
                <a:moveTo>
                  <a:pt x="20067" y="12477"/>
                </a:moveTo>
                <a:cubicBezTo>
                  <a:pt x="20215" y="12458"/>
                  <a:pt x="20259" y="12441"/>
                  <a:pt x="20389" y="12502"/>
                </a:cubicBezTo>
                <a:cubicBezTo>
                  <a:pt x="20378" y="12655"/>
                  <a:pt x="20336" y="12757"/>
                  <a:pt x="20166" y="12799"/>
                </a:cubicBezTo>
                <a:cubicBezTo>
                  <a:pt x="20133" y="12799"/>
                  <a:pt x="20100" y="12799"/>
                  <a:pt x="20067" y="12799"/>
                </a:cubicBezTo>
                <a:cubicBezTo>
                  <a:pt x="20086" y="12707"/>
                  <a:pt x="20143" y="12666"/>
                  <a:pt x="20241" y="12675"/>
                </a:cubicBezTo>
                <a:cubicBezTo>
                  <a:pt x="20324" y="12683"/>
                  <a:pt x="20395" y="12722"/>
                  <a:pt x="20414" y="12799"/>
                </a:cubicBezTo>
              </a:path>
              <a:path w="4143" h="4020">
                <a:moveTo>
                  <a:pt x="20513" y="12427"/>
                </a:moveTo>
                <a:cubicBezTo>
                  <a:pt x="20513" y="12512"/>
                  <a:pt x="20489" y="12616"/>
                  <a:pt x="20588" y="12650"/>
                </a:cubicBezTo>
                <a:cubicBezTo>
                  <a:pt x="20692" y="12686"/>
                  <a:pt x="20708" y="12560"/>
                  <a:pt x="20737" y="12502"/>
                </a:cubicBezTo>
              </a:path>
              <a:path w="4143" h="4020">
                <a:moveTo>
                  <a:pt x="20737" y="12278"/>
                </a:moveTo>
                <a:cubicBezTo>
                  <a:pt x="20699" y="12456"/>
                  <a:pt x="20743" y="12594"/>
                  <a:pt x="20762" y="12774"/>
                </a:cubicBezTo>
                <a:cubicBezTo>
                  <a:pt x="20762" y="12832"/>
                  <a:pt x="20762" y="12841"/>
                  <a:pt x="20762" y="12874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2960" y="1455840"/>
            <a:ext cx="392040" cy="446040"/>
          </a:xfrm>
          <a:custGeom>
            <a:avLst/>
            <a:gdLst/>
            <a:ahLst/>
            <a:rect l="l" t="t" r="r" b="b"/>
            <a:pathLst>
              <a:path w="1092" h="1241">
                <a:moveTo>
                  <a:pt x="14808" y="4762"/>
                </a:moveTo>
                <a:cubicBezTo>
                  <a:pt x="14797" y="4831"/>
                  <a:pt x="14870" y="4948"/>
                  <a:pt x="14908" y="5035"/>
                </a:cubicBezTo>
                <a:cubicBezTo>
                  <a:pt x="14916" y="5052"/>
                  <a:pt x="14924" y="5068"/>
                  <a:pt x="14932" y="5085"/>
                </a:cubicBezTo>
              </a:path>
              <a:path w="1092" h="1241">
                <a:moveTo>
                  <a:pt x="14932" y="4738"/>
                </a:moveTo>
                <a:cubicBezTo>
                  <a:pt x="14885" y="4880"/>
                  <a:pt x="14884" y="5042"/>
                  <a:pt x="14833" y="5184"/>
                </a:cubicBezTo>
                <a:cubicBezTo>
                  <a:pt x="14825" y="5192"/>
                  <a:pt x="14816" y="5201"/>
                  <a:pt x="14808" y="5209"/>
                </a:cubicBezTo>
              </a:path>
              <a:path w="1092" h="1241">
                <a:moveTo>
                  <a:pt x="15602" y="4812"/>
                </a:moveTo>
                <a:cubicBezTo>
                  <a:pt x="15502" y="4841"/>
                  <a:pt x="15434" y="4893"/>
                  <a:pt x="15354" y="4961"/>
                </a:cubicBezTo>
                <a:cubicBezTo>
                  <a:pt x="15429" y="5021"/>
                  <a:pt x="15577" y="5028"/>
                  <a:pt x="15627" y="5110"/>
                </a:cubicBezTo>
                <a:cubicBezTo>
                  <a:pt x="15702" y="5233"/>
                  <a:pt x="15521" y="5277"/>
                  <a:pt x="15453" y="5283"/>
                </a:cubicBezTo>
                <a:cubicBezTo>
                  <a:pt x="15437" y="5258"/>
                  <a:pt x="15420" y="5234"/>
                  <a:pt x="15404" y="5209"/>
                </a:cubicBezTo>
                <a:cubicBezTo>
                  <a:pt x="15443" y="5117"/>
                  <a:pt x="15480" y="5006"/>
                  <a:pt x="15577" y="4961"/>
                </a:cubicBezTo>
                <a:cubicBezTo>
                  <a:pt x="15585" y="4961"/>
                  <a:pt x="15594" y="4961"/>
                  <a:pt x="15602" y="4961"/>
                </a:cubicBezTo>
              </a:path>
              <a:path w="1092" h="1241">
                <a:moveTo>
                  <a:pt x="15404" y="4738"/>
                </a:moveTo>
                <a:cubicBezTo>
                  <a:pt x="15551" y="4694"/>
                  <a:pt x="15713" y="4692"/>
                  <a:pt x="15850" y="4638"/>
                </a:cubicBezTo>
                <a:cubicBezTo>
                  <a:pt x="15858" y="4630"/>
                  <a:pt x="15867" y="4622"/>
                  <a:pt x="15875" y="4614"/>
                </a:cubicBezTo>
              </a:path>
              <a:path w="1092" h="1241">
                <a:moveTo>
                  <a:pt x="15577" y="4043"/>
                </a:moveTo>
                <a:cubicBezTo>
                  <a:pt x="15501" y="4069"/>
                  <a:pt x="15428" y="4126"/>
                  <a:pt x="15354" y="4167"/>
                </a:cubicBezTo>
                <a:cubicBezTo>
                  <a:pt x="15374" y="4267"/>
                  <a:pt x="15472" y="4309"/>
                  <a:pt x="15553" y="4366"/>
                </a:cubicBezTo>
                <a:cubicBezTo>
                  <a:pt x="15623" y="4415"/>
                  <a:pt x="15755" y="4512"/>
                  <a:pt x="15602" y="4589"/>
                </a:cubicBezTo>
                <a:cubicBezTo>
                  <a:pt x="15577" y="4589"/>
                  <a:pt x="15553" y="4589"/>
                  <a:pt x="15528" y="4589"/>
                </a:cubicBezTo>
                <a:cubicBezTo>
                  <a:pt x="15421" y="4482"/>
                  <a:pt x="15453" y="4378"/>
                  <a:pt x="15528" y="4242"/>
                </a:cubicBezTo>
                <a:cubicBezTo>
                  <a:pt x="15551" y="4219"/>
                  <a:pt x="15559" y="4215"/>
                  <a:pt x="15553" y="419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6840" y="1366920"/>
            <a:ext cx="233280" cy="330120"/>
          </a:xfrm>
          <a:custGeom>
            <a:avLst/>
            <a:gdLst/>
            <a:ahLst/>
            <a:rect l="l" t="t" r="r" b="b"/>
            <a:pathLst>
              <a:path w="646" h="919">
                <a:moveTo>
                  <a:pt x="16520" y="3795"/>
                </a:moveTo>
                <a:cubicBezTo>
                  <a:pt x="16563" y="4096"/>
                  <a:pt x="16613" y="4414"/>
                  <a:pt x="16520" y="4713"/>
                </a:cubicBezTo>
                <a:cubicBezTo>
                  <a:pt x="16520" y="4696"/>
                  <a:pt x="16520" y="4680"/>
                  <a:pt x="16520" y="4663"/>
                </a:cubicBezTo>
              </a:path>
              <a:path w="646" h="919">
                <a:moveTo>
                  <a:pt x="16917" y="3795"/>
                </a:moveTo>
                <a:cubicBezTo>
                  <a:pt x="16884" y="3994"/>
                  <a:pt x="16827" y="4181"/>
                  <a:pt x="16842" y="4390"/>
                </a:cubicBezTo>
                <a:cubicBezTo>
                  <a:pt x="16865" y="4502"/>
                  <a:pt x="16866" y="4533"/>
                  <a:pt x="16917" y="4589"/>
                </a:cubicBezTo>
                <a:cubicBezTo>
                  <a:pt x="17094" y="4544"/>
                  <a:pt x="17132" y="4425"/>
                  <a:pt x="17165" y="4242"/>
                </a:cubicBezTo>
                <a:cubicBezTo>
                  <a:pt x="17165" y="4200"/>
                  <a:pt x="17173" y="4184"/>
                  <a:pt x="17140" y="4192"/>
                </a:cubicBezTo>
                <a:cubicBezTo>
                  <a:pt x="17039" y="4374"/>
                  <a:pt x="17011" y="4490"/>
                  <a:pt x="17066" y="468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9240" y="2340000"/>
            <a:ext cx="920880" cy="517680"/>
          </a:xfrm>
          <a:custGeom>
            <a:avLst/>
            <a:gdLst/>
            <a:ahLst/>
            <a:rect l="l" t="t" r="r" b="b"/>
            <a:pathLst>
              <a:path w="2556" h="1440">
                <a:moveTo>
                  <a:pt x="14610" y="7293"/>
                </a:moveTo>
                <a:cubicBezTo>
                  <a:pt x="14672" y="7323"/>
                  <a:pt x="14743" y="7474"/>
                  <a:pt x="14784" y="7541"/>
                </a:cubicBezTo>
                <a:cubicBezTo>
                  <a:pt x="14804" y="7581"/>
                  <a:pt x="14812" y="7588"/>
                  <a:pt x="14808" y="7615"/>
                </a:cubicBezTo>
              </a:path>
              <a:path w="2556" h="1440">
                <a:moveTo>
                  <a:pt x="14734" y="7392"/>
                </a:moveTo>
                <a:cubicBezTo>
                  <a:pt x="14691" y="7533"/>
                  <a:pt x="14657" y="7674"/>
                  <a:pt x="14610" y="7813"/>
                </a:cubicBezTo>
              </a:path>
              <a:path w="2556" h="1440">
                <a:moveTo>
                  <a:pt x="15429" y="7466"/>
                </a:moveTo>
                <a:cubicBezTo>
                  <a:pt x="15510" y="7449"/>
                  <a:pt x="15593" y="7407"/>
                  <a:pt x="15677" y="7392"/>
                </a:cubicBezTo>
                <a:cubicBezTo>
                  <a:pt x="15693" y="7392"/>
                  <a:pt x="15710" y="7392"/>
                  <a:pt x="15726" y="7392"/>
                </a:cubicBezTo>
                <a:cubicBezTo>
                  <a:pt x="15726" y="7557"/>
                  <a:pt x="15705" y="7593"/>
                  <a:pt x="15602" y="7714"/>
                </a:cubicBezTo>
                <a:cubicBezTo>
                  <a:pt x="15602" y="7750"/>
                  <a:pt x="15588" y="7681"/>
                  <a:pt x="15652" y="7665"/>
                </a:cubicBezTo>
                <a:cubicBezTo>
                  <a:pt x="15790" y="7631"/>
                  <a:pt x="15624" y="7873"/>
                  <a:pt x="15602" y="7888"/>
                </a:cubicBezTo>
                <a:cubicBezTo>
                  <a:pt x="15445" y="8000"/>
                  <a:pt x="15341" y="7947"/>
                  <a:pt x="15280" y="7813"/>
                </a:cubicBezTo>
              </a:path>
              <a:path w="2556" h="1440">
                <a:moveTo>
                  <a:pt x="15404" y="7243"/>
                </a:moveTo>
                <a:cubicBezTo>
                  <a:pt x="15564" y="7243"/>
                  <a:pt x="15717" y="7229"/>
                  <a:pt x="15875" y="7218"/>
                </a:cubicBezTo>
              </a:path>
              <a:path w="2556" h="1440">
                <a:moveTo>
                  <a:pt x="15528" y="6722"/>
                </a:moveTo>
                <a:cubicBezTo>
                  <a:pt x="15486" y="6764"/>
                  <a:pt x="15479" y="6772"/>
                  <a:pt x="15453" y="6796"/>
                </a:cubicBezTo>
                <a:cubicBezTo>
                  <a:pt x="15466" y="6784"/>
                  <a:pt x="15581" y="6659"/>
                  <a:pt x="15602" y="6697"/>
                </a:cubicBezTo>
                <a:cubicBezTo>
                  <a:pt x="15667" y="6815"/>
                  <a:pt x="15553" y="6910"/>
                  <a:pt x="15478" y="6970"/>
                </a:cubicBezTo>
                <a:cubicBezTo>
                  <a:pt x="15420" y="7009"/>
                  <a:pt x="15520" y="6935"/>
                  <a:pt x="15602" y="6945"/>
                </a:cubicBezTo>
                <a:cubicBezTo>
                  <a:pt x="15686" y="6966"/>
                  <a:pt x="15712" y="6961"/>
                  <a:pt x="15726" y="7020"/>
                </a:cubicBezTo>
                <a:cubicBezTo>
                  <a:pt x="15637" y="7159"/>
                  <a:pt x="15547" y="7159"/>
                  <a:pt x="15379" y="7169"/>
                </a:cubicBezTo>
              </a:path>
              <a:path w="2556" h="1440">
                <a:moveTo>
                  <a:pt x="16073" y="7466"/>
                </a:moveTo>
                <a:cubicBezTo>
                  <a:pt x="16312" y="7393"/>
                  <a:pt x="16594" y="7361"/>
                  <a:pt x="16842" y="7317"/>
                </a:cubicBezTo>
                <a:cubicBezTo>
                  <a:pt x="16920" y="7303"/>
                  <a:pt x="17178" y="7206"/>
                  <a:pt x="17140" y="7317"/>
                </a:cubicBezTo>
              </a:path>
              <a:path w="2556" h="1440">
                <a:moveTo>
                  <a:pt x="16247" y="6648"/>
                </a:moveTo>
                <a:cubicBezTo>
                  <a:pt x="16247" y="6819"/>
                  <a:pt x="16255" y="6976"/>
                  <a:pt x="16247" y="7144"/>
                </a:cubicBezTo>
                <a:cubicBezTo>
                  <a:pt x="16243" y="7234"/>
                  <a:pt x="16223" y="7300"/>
                  <a:pt x="16272" y="7218"/>
                </a:cubicBezTo>
              </a:path>
              <a:path w="2556" h="1440">
                <a:moveTo>
                  <a:pt x="16594" y="6747"/>
                </a:moveTo>
                <a:cubicBezTo>
                  <a:pt x="16574" y="6787"/>
                  <a:pt x="16566" y="6794"/>
                  <a:pt x="16570" y="6821"/>
                </a:cubicBezTo>
                <a:cubicBezTo>
                  <a:pt x="16671" y="6850"/>
                  <a:pt x="16839" y="6917"/>
                  <a:pt x="16892" y="7020"/>
                </a:cubicBezTo>
                <a:cubicBezTo>
                  <a:pt x="16974" y="7179"/>
                  <a:pt x="16775" y="7209"/>
                  <a:pt x="16694" y="7218"/>
                </a:cubicBezTo>
              </a:path>
              <a:path w="2556" h="1440">
                <a:moveTo>
                  <a:pt x="16644" y="6722"/>
                </a:moveTo>
                <a:cubicBezTo>
                  <a:pt x="16826" y="6613"/>
                  <a:pt x="16960" y="6558"/>
                  <a:pt x="17165" y="649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96160" y="4133880"/>
            <a:ext cx="374760" cy="536400"/>
          </a:xfrm>
          <a:custGeom>
            <a:avLst/>
            <a:gdLst/>
            <a:ahLst/>
            <a:rect l="l" t="t" r="r" b="b"/>
            <a:pathLst>
              <a:path w="1043" h="1489">
                <a:moveTo>
                  <a:pt x="21704" y="11633"/>
                </a:moveTo>
                <a:cubicBezTo>
                  <a:pt x="21738" y="11601"/>
                  <a:pt x="21755" y="11584"/>
                  <a:pt x="21779" y="11559"/>
                </a:cubicBezTo>
                <a:cubicBezTo>
                  <a:pt x="21833" y="11642"/>
                  <a:pt x="21828" y="11709"/>
                  <a:pt x="21828" y="11807"/>
                </a:cubicBezTo>
                <a:cubicBezTo>
                  <a:pt x="21828" y="11815"/>
                  <a:pt x="21828" y="11824"/>
                  <a:pt x="21828" y="11832"/>
                </a:cubicBezTo>
                <a:cubicBezTo>
                  <a:pt x="22004" y="11823"/>
                  <a:pt x="22128" y="11805"/>
                  <a:pt x="22275" y="11708"/>
                </a:cubicBezTo>
              </a:path>
              <a:path w="1043" h="1489">
                <a:moveTo>
                  <a:pt x="22051" y="11485"/>
                </a:moveTo>
                <a:cubicBezTo>
                  <a:pt x="22044" y="11664"/>
                  <a:pt x="21990" y="11878"/>
                  <a:pt x="22027" y="12055"/>
                </a:cubicBezTo>
                <a:cubicBezTo>
                  <a:pt x="22035" y="12063"/>
                  <a:pt x="22043" y="12072"/>
                  <a:pt x="22051" y="12080"/>
                </a:cubicBezTo>
              </a:path>
              <a:path w="1043" h="1489">
                <a:moveTo>
                  <a:pt x="22250" y="11509"/>
                </a:moveTo>
                <a:cubicBezTo>
                  <a:pt x="22358" y="11485"/>
                  <a:pt x="22412" y="11489"/>
                  <a:pt x="22523" y="11509"/>
                </a:cubicBezTo>
                <a:cubicBezTo>
                  <a:pt x="22553" y="11711"/>
                  <a:pt x="22453" y="11801"/>
                  <a:pt x="22299" y="11931"/>
                </a:cubicBezTo>
                <a:cubicBezTo>
                  <a:pt x="22218" y="11991"/>
                  <a:pt x="22206" y="12006"/>
                  <a:pt x="22151" y="12030"/>
                </a:cubicBezTo>
                <a:cubicBezTo>
                  <a:pt x="22322" y="12030"/>
                  <a:pt x="22484" y="11956"/>
                  <a:pt x="22647" y="11956"/>
                </a:cubicBezTo>
                <a:cubicBezTo>
                  <a:pt x="22655" y="11964"/>
                  <a:pt x="22663" y="11973"/>
                  <a:pt x="22671" y="11981"/>
                </a:cubicBezTo>
              </a:path>
              <a:path w="1043" h="1489">
                <a:moveTo>
                  <a:pt x="21654" y="12254"/>
                </a:moveTo>
                <a:cubicBezTo>
                  <a:pt x="21933" y="12171"/>
                  <a:pt x="22229" y="12101"/>
                  <a:pt x="22523" y="12105"/>
                </a:cubicBezTo>
                <a:cubicBezTo>
                  <a:pt x="22624" y="12124"/>
                  <a:pt x="22644" y="12122"/>
                  <a:pt x="22696" y="12154"/>
                </a:cubicBezTo>
              </a:path>
              <a:path w="1043" h="1489">
                <a:moveTo>
                  <a:pt x="21903" y="12551"/>
                </a:moveTo>
                <a:cubicBezTo>
                  <a:pt x="21912" y="12523"/>
                  <a:pt x="21940" y="12466"/>
                  <a:pt x="22002" y="12502"/>
                </a:cubicBezTo>
                <a:cubicBezTo>
                  <a:pt x="22168" y="12599"/>
                  <a:pt x="22038" y="12838"/>
                  <a:pt x="21927" y="12923"/>
                </a:cubicBezTo>
                <a:cubicBezTo>
                  <a:pt x="21814" y="12969"/>
                  <a:pt x="21784" y="12985"/>
                  <a:pt x="21704" y="12973"/>
                </a:cubicBezTo>
                <a:cubicBezTo>
                  <a:pt x="21704" y="12833"/>
                  <a:pt x="21831" y="12732"/>
                  <a:pt x="22002" y="12750"/>
                </a:cubicBezTo>
                <a:cubicBezTo>
                  <a:pt x="22098" y="12760"/>
                  <a:pt x="22172" y="12812"/>
                  <a:pt x="22225" y="12874"/>
                </a:cubicBezTo>
              </a:path>
              <a:path w="1043" h="1489">
                <a:moveTo>
                  <a:pt x="22349" y="12502"/>
                </a:moveTo>
                <a:cubicBezTo>
                  <a:pt x="22368" y="12598"/>
                  <a:pt x="22419" y="12771"/>
                  <a:pt x="22572" y="12725"/>
                </a:cubicBezTo>
                <a:cubicBezTo>
                  <a:pt x="22653" y="12671"/>
                  <a:pt x="22681" y="12649"/>
                  <a:pt x="22696" y="12576"/>
                </a:cubicBezTo>
              </a:path>
              <a:path w="1043" h="1489">
                <a:moveTo>
                  <a:pt x="22647" y="12526"/>
                </a:moveTo>
                <a:cubicBezTo>
                  <a:pt x="22641" y="12667"/>
                  <a:pt x="22647" y="12821"/>
                  <a:pt x="22622" y="12948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76960" y="5027760"/>
            <a:ext cx="2376360" cy="1223640"/>
          </a:xfrm>
          <a:custGeom>
            <a:avLst/>
            <a:gdLst/>
            <a:ahLst/>
            <a:rect l="l" t="t" r="r" b="b"/>
            <a:pathLst>
              <a:path w="6599" h="3399">
                <a:moveTo>
                  <a:pt x="19248" y="15056"/>
                </a:moveTo>
                <a:cubicBezTo>
                  <a:pt x="19409" y="15180"/>
                  <a:pt x="19509" y="15257"/>
                  <a:pt x="19372" y="15453"/>
                </a:cubicBezTo>
                <a:cubicBezTo>
                  <a:pt x="19277" y="15590"/>
                  <a:pt x="19152" y="15636"/>
                  <a:pt x="19025" y="15553"/>
                </a:cubicBezTo>
                <a:cubicBezTo>
                  <a:pt x="19073" y="15363"/>
                  <a:pt x="19200" y="15376"/>
                  <a:pt x="19397" y="15429"/>
                </a:cubicBezTo>
                <a:cubicBezTo>
                  <a:pt x="19480" y="15470"/>
                  <a:pt x="19496" y="15478"/>
                  <a:pt x="19546" y="15503"/>
                </a:cubicBezTo>
              </a:path>
              <a:path w="6599" h="3399">
                <a:moveTo>
                  <a:pt x="19645" y="15056"/>
                </a:moveTo>
                <a:cubicBezTo>
                  <a:pt x="19760" y="15050"/>
                  <a:pt x="20067" y="15073"/>
                  <a:pt x="20042" y="15280"/>
                </a:cubicBezTo>
                <a:cubicBezTo>
                  <a:pt x="20020" y="15463"/>
                  <a:pt x="19744" y="15566"/>
                  <a:pt x="19596" y="15503"/>
                </a:cubicBezTo>
                <a:cubicBezTo>
                  <a:pt x="19588" y="15486"/>
                  <a:pt x="19579" y="15470"/>
                  <a:pt x="19571" y="15453"/>
                </a:cubicBezTo>
                <a:cubicBezTo>
                  <a:pt x="19730" y="15328"/>
                  <a:pt x="19857" y="15291"/>
                  <a:pt x="20042" y="15429"/>
                </a:cubicBezTo>
                <a:cubicBezTo>
                  <a:pt x="20066" y="15477"/>
                  <a:pt x="20075" y="15491"/>
                  <a:pt x="20067" y="15528"/>
                </a:cubicBezTo>
              </a:path>
              <a:path w="6599" h="3399">
                <a:moveTo>
                  <a:pt x="18951" y="15850"/>
                </a:moveTo>
                <a:cubicBezTo>
                  <a:pt x="19249" y="15837"/>
                  <a:pt x="19544" y="15805"/>
                  <a:pt x="19844" y="15801"/>
                </a:cubicBezTo>
                <a:cubicBezTo>
                  <a:pt x="19910" y="15800"/>
                  <a:pt x="20178" y="15770"/>
                  <a:pt x="20216" y="15825"/>
                </a:cubicBezTo>
              </a:path>
              <a:path w="6599" h="3399">
                <a:moveTo>
                  <a:pt x="19100" y="15974"/>
                </a:moveTo>
                <a:cubicBezTo>
                  <a:pt x="19236" y="15974"/>
                  <a:pt x="19311" y="15990"/>
                  <a:pt x="19422" y="16073"/>
                </a:cubicBezTo>
                <a:cubicBezTo>
                  <a:pt x="19584" y="16193"/>
                  <a:pt x="19307" y="16369"/>
                  <a:pt x="19224" y="16421"/>
                </a:cubicBezTo>
                <a:cubicBezTo>
                  <a:pt x="19127" y="16469"/>
                  <a:pt x="19097" y="16486"/>
                  <a:pt x="19025" y="16446"/>
                </a:cubicBezTo>
                <a:cubicBezTo>
                  <a:pt x="19042" y="16328"/>
                  <a:pt x="19071" y="16250"/>
                  <a:pt x="19199" y="16222"/>
                </a:cubicBezTo>
                <a:cubicBezTo>
                  <a:pt x="19298" y="16200"/>
                  <a:pt x="19356" y="16297"/>
                  <a:pt x="19397" y="16371"/>
                </a:cubicBezTo>
                <a:cubicBezTo>
                  <a:pt x="19405" y="16388"/>
                  <a:pt x="19414" y="16404"/>
                  <a:pt x="19422" y="16421"/>
                </a:cubicBezTo>
              </a:path>
              <a:path w="6599" h="3399">
                <a:moveTo>
                  <a:pt x="19596" y="15974"/>
                </a:moveTo>
                <a:cubicBezTo>
                  <a:pt x="19596" y="16058"/>
                  <a:pt x="19607" y="16146"/>
                  <a:pt x="19645" y="16222"/>
                </a:cubicBezTo>
                <a:cubicBezTo>
                  <a:pt x="19705" y="16342"/>
                  <a:pt x="19879" y="16354"/>
                  <a:pt x="19993" y="16297"/>
                </a:cubicBezTo>
                <a:cubicBezTo>
                  <a:pt x="20083" y="16229"/>
                  <a:pt x="20109" y="16214"/>
                  <a:pt x="20141" y="16148"/>
                </a:cubicBezTo>
              </a:path>
              <a:path w="6599" h="3399">
                <a:moveTo>
                  <a:pt x="19968" y="16049"/>
                </a:moveTo>
                <a:cubicBezTo>
                  <a:pt x="19968" y="16234"/>
                  <a:pt x="19976" y="16412"/>
                  <a:pt x="19993" y="16594"/>
                </a:cubicBezTo>
                <a:cubicBezTo>
                  <a:pt x="19993" y="16652"/>
                  <a:pt x="19993" y="16661"/>
                  <a:pt x="19993" y="16694"/>
                </a:cubicBezTo>
              </a:path>
              <a:path w="6599" h="3399">
                <a:moveTo>
                  <a:pt x="17487" y="15180"/>
                </a:moveTo>
                <a:cubicBezTo>
                  <a:pt x="17561" y="15254"/>
                  <a:pt x="17451" y="15203"/>
                  <a:pt x="17562" y="15156"/>
                </a:cubicBezTo>
                <a:cubicBezTo>
                  <a:pt x="17686" y="15104"/>
                  <a:pt x="17900" y="15009"/>
                  <a:pt x="17959" y="15205"/>
                </a:cubicBezTo>
                <a:cubicBezTo>
                  <a:pt x="18036" y="15458"/>
                  <a:pt x="17811" y="15736"/>
                  <a:pt x="17686" y="15925"/>
                </a:cubicBezTo>
                <a:cubicBezTo>
                  <a:pt x="17586" y="16077"/>
                  <a:pt x="17522" y="16188"/>
                  <a:pt x="17462" y="16346"/>
                </a:cubicBezTo>
                <a:cubicBezTo>
                  <a:pt x="17454" y="16354"/>
                  <a:pt x="17446" y="16363"/>
                  <a:pt x="17438" y="16371"/>
                </a:cubicBezTo>
                <a:cubicBezTo>
                  <a:pt x="17447" y="16282"/>
                  <a:pt x="17455" y="16173"/>
                  <a:pt x="17512" y="16098"/>
                </a:cubicBezTo>
                <a:cubicBezTo>
                  <a:pt x="17583" y="16005"/>
                  <a:pt x="17691" y="15987"/>
                  <a:pt x="17785" y="16049"/>
                </a:cubicBezTo>
                <a:cubicBezTo>
                  <a:pt x="17853" y="16094"/>
                  <a:pt x="17918" y="16158"/>
                  <a:pt x="18008" y="16148"/>
                </a:cubicBezTo>
                <a:cubicBezTo>
                  <a:pt x="18118" y="16135"/>
                  <a:pt x="18279" y="16099"/>
                  <a:pt x="18380" y="16049"/>
                </a:cubicBezTo>
                <a:cubicBezTo>
                  <a:pt x="18403" y="16026"/>
                  <a:pt x="18414" y="16018"/>
                  <a:pt x="18380" y="16024"/>
                </a:cubicBezTo>
              </a:path>
              <a:path w="6599" h="3399">
                <a:moveTo>
                  <a:pt x="20638" y="15701"/>
                </a:moveTo>
                <a:cubicBezTo>
                  <a:pt x="20610" y="15701"/>
                  <a:pt x="20599" y="15699"/>
                  <a:pt x="20588" y="15677"/>
                </a:cubicBezTo>
                <a:cubicBezTo>
                  <a:pt x="20657" y="15660"/>
                  <a:pt x="20732" y="15648"/>
                  <a:pt x="20811" y="15627"/>
                </a:cubicBezTo>
                <a:cubicBezTo>
                  <a:pt x="20873" y="15610"/>
                  <a:pt x="20899" y="15602"/>
                  <a:pt x="20960" y="15602"/>
                </a:cubicBezTo>
              </a:path>
              <a:path w="6599" h="3399">
                <a:moveTo>
                  <a:pt x="20588" y="15949"/>
                </a:moveTo>
                <a:cubicBezTo>
                  <a:pt x="20651" y="15903"/>
                  <a:pt x="20755" y="15918"/>
                  <a:pt x="20836" y="15900"/>
                </a:cubicBezTo>
                <a:cubicBezTo>
                  <a:pt x="20907" y="15884"/>
                  <a:pt x="20942" y="15875"/>
                  <a:pt x="21010" y="15875"/>
                </a:cubicBezTo>
              </a:path>
              <a:path w="6599" h="3399">
                <a:moveTo>
                  <a:pt x="20315" y="14784"/>
                </a:moveTo>
                <a:cubicBezTo>
                  <a:pt x="20354" y="14755"/>
                  <a:pt x="20394" y="14752"/>
                  <a:pt x="20439" y="14734"/>
                </a:cubicBezTo>
                <a:cubicBezTo>
                  <a:pt x="20485" y="14716"/>
                  <a:pt x="20551" y="14693"/>
                  <a:pt x="20563" y="14660"/>
                </a:cubicBezTo>
              </a:path>
              <a:path w="6599" h="3399">
                <a:moveTo>
                  <a:pt x="20340" y="14610"/>
                </a:moveTo>
                <a:lnTo>
                  <a:pt x="20340" y="14610"/>
                </a:lnTo>
              </a:path>
              <a:path w="6599" h="3399">
                <a:moveTo>
                  <a:pt x="20563" y="15156"/>
                </a:moveTo>
                <a:cubicBezTo>
                  <a:pt x="20563" y="15148"/>
                  <a:pt x="20563" y="15139"/>
                  <a:pt x="20563" y="15131"/>
                </a:cubicBezTo>
              </a:path>
              <a:path w="6599" h="3399">
                <a:moveTo>
                  <a:pt x="20613" y="14511"/>
                </a:moveTo>
                <a:cubicBezTo>
                  <a:pt x="20654" y="14478"/>
                  <a:pt x="20713" y="14424"/>
                  <a:pt x="20737" y="14486"/>
                </a:cubicBezTo>
                <a:cubicBezTo>
                  <a:pt x="20782" y="14601"/>
                  <a:pt x="20722" y="14682"/>
                  <a:pt x="20687" y="14784"/>
                </a:cubicBezTo>
                <a:cubicBezTo>
                  <a:pt x="20687" y="14792"/>
                  <a:pt x="20687" y="14800"/>
                  <a:pt x="20687" y="14808"/>
                </a:cubicBezTo>
                <a:cubicBezTo>
                  <a:pt x="20744" y="14794"/>
                  <a:pt x="20795" y="14766"/>
                  <a:pt x="20861" y="14759"/>
                </a:cubicBezTo>
              </a:path>
              <a:path w="6599" h="3399">
                <a:moveTo>
                  <a:pt x="20216" y="16842"/>
                </a:moveTo>
                <a:cubicBezTo>
                  <a:pt x="20216" y="16834"/>
                  <a:pt x="20216" y="16826"/>
                  <a:pt x="20216" y="16818"/>
                </a:cubicBezTo>
                <a:cubicBezTo>
                  <a:pt x="20282" y="16834"/>
                  <a:pt x="20267" y="16880"/>
                  <a:pt x="20315" y="16917"/>
                </a:cubicBezTo>
                <a:cubicBezTo>
                  <a:pt x="20340" y="16917"/>
                  <a:pt x="20348" y="16917"/>
                  <a:pt x="20340" y="16892"/>
                </a:cubicBezTo>
              </a:path>
              <a:path w="6599" h="3399">
                <a:moveTo>
                  <a:pt x="20290" y="16570"/>
                </a:moveTo>
                <a:cubicBezTo>
                  <a:pt x="20298" y="16578"/>
                  <a:pt x="20307" y="16586"/>
                  <a:pt x="20315" y="16594"/>
                </a:cubicBezTo>
              </a:path>
              <a:path w="6599" h="3399">
                <a:moveTo>
                  <a:pt x="20166" y="17115"/>
                </a:moveTo>
                <a:lnTo>
                  <a:pt x="20166" y="17115"/>
                </a:lnTo>
              </a:path>
              <a:path w="6599" h="3399">
                <a:moveTo>
                  <a:pt x="20489" y="17066"/>
                </a:moveTo>
                <a:cubicBezTo>
                  <a:pt x="20547" y="17066"/>
                  <a:pt x="20604" y="17066"/>
                  <a:pt x="20662" y="17066"/>
                </a:cubicBezTo>
                <a:cubicBezTo>
                  <a:pt x="20640" y="17167"/>
                  <a:pt x="20585" y="17236"/>
                  <a:pt x="20513" y="17314"/>
                </a:cubicBezTo>
                <a:cubicBezTo>
                  <a:pt x="20491" y="17336"/>
                  <a:pt x="20483" y="17341"/>
                  <a:pt x="20489" y="17363"/>
                </a:cubicBezTo>
                <a:cubicBezTo>
                  <a:pt x="20544" y="17363"/>
                  <a:pt x="20647" y="17384"/>
                  <a:pt x="20662" y="17338"/>
                </a:cubicBezTo>
              </a:path>
              <a:path w="6599" h="3399">
                <a:moveTo>
                  <a:pt x="22845" y="14511"/>
                </a:moveTo>
                <a:cubicBezTo>
                  <a:pt x="22845" y="14403"/>
                  <a:pt x="22825" y="14676"/>
                  <a:pt x="22820" y="14784"/>
                </a:cubicBezTo>
                <a:cubicBezTo>
                  <a:pt x="22814" y="14920"/>
                  <a:pt x="22805" y="15046"/>
                  <a:pt x="22796" y="15180"/>
                </a:cubicBezTo>
              </a:path>
              <a:path w="6599" h="3399">
                <a:moveTo>
                  <a:pt x="23242" y="14436"/>
                </a:moveTo>
                <a:cubicBezTo>
                  <a:pt x="23242" y="14654"/>
                  <a:pt x="23235" y="14869"/>
                  <a:pt x="23217" y="15081"/>
                </a:cubicBezTo>
                <a:cubicBezTo>
                  <a:pt x="23217" y="15165"/>
                  <a:pt x="23230" y="15192"/>
                  <a:pt x="23168" y="15205"/>
                </a:cubicBezTo>
              </a:path>
              <a:path w="6599" h="3399">
                <a:moveTo>
                  <a:pt x="22498" y="15453"/>
                </a:moveTo>
                <a:cubicBezTo>
                  <a:pt x="22698" y="15388"/>
                  <a:pt x="22932" y="15387"/>
                  <a:pt x="23143" y="15379"/>
                </a:cubicBezTo>
                <a:cubicBezTo>
                  <a:pt x="23297" y="15373"/>
                  <a:pt x="23445" y="15375"/>
                  <a:pt x="23589" y="15404"/>
                </a:cubicBezTo>
              </a:path>
              <a:path w="6599" h="3399">
                <a:moveTo>
                  <a:pt x="22895" y="15677"/>
                </a:moveTo>
                <a:cubicBezTo>
                  <a:pt x="22870" y="15677"/>
                  <a:pt x="22862" y="15677"/>
                  <a:pt x="22870" y="15652"/>
                </a:cubicBezTo>
                <a:cubicBezTo>
                  <a:pt x="22870" y="15787"/>
                  <a:pt x="22832" y="15915"/>
                  <a:pt x="22820" y="16049"/>
                </a:cubicBezTo>
                <a:cubicBezTo>
                  <a:pt x="22819" y="16059"/>
                  <a:pt x="22830" y="16218"/>
                  <a:pt x="22796" y="16148"/>
                </a:cubicBezTo>
              </a:path>
              <a:path w="6599" h="3399">
                <a:moveTo>
                  <a:pt x="23242" y="15627"/>
                </a:moveTo>
                <a:cubicBezTo>
                  <a:pt x="23356" y="15593"/>
                  <a:pt x="23470" y="15590"/>
                  <a:pt x="23589" y="15627"/>
                </a:cubicBezTo>
                <a:cubicBezTo>
                  <a:pt x="23606" y="15635"/>
                  <a:pt x="23622" y="15644"/>
                  <a:pt x="23639" y="15652"/>
                </a:cubicBezTo>
                <a:cubicBezTo>
                  <a:pt x="23611" y="15829"/>
                  <a:pt x="23529" y="15935"/>
                  <a:pt x="23366" y="16024"/>
                </a:cubicBezTo>
                <a:cubicBezTo>
                  <a:pt x="23350" y="16032"/>
                  <a:pt x="23178" y="16073"/>
                  <a:pt x="23242" y="16073"/>
                </a:cubicBezTo>
                <a:cubicBezTo>
                  <a:pt x="23316" y="16028"/>
                  <a:pt x="23488" y="15977"/>
                  <a:pt x="23540" y="15925"/>
                </a:cubicBezTo>
                <a:cubicBezTo>
                  <a:pt x="23540" y="15917"/>
                  <a:pt x="23540" y="15908"/>
                  <a:pt x="23540" y="15900"/>
                </a:cubicBezTo>
              </a:path>
              <a:path w="6599" h="3399">
                <a:moveTo>
                  <a:pt x="21779" y="15304"/>
                </a:moveTo>
                <a:cubicBezTo>
                  <a:pt x="21834" y="15305"/>
                  <a:pt x="21785" y="15349"/>
                  <a:pt x="21803" y="15255"/>
                </a:cubicBezTo>
                <a:cubicBezTo>
                  <a:pt x="21831" y="15110"/>
                  <a:pt x="21919" y="14973"/>
                  <a:pt x="22076" y="14982"/>
                </a:cubicBezTo>
                <a:cubicBezTo>
                  <a:pt x="22339" y="14998"/>
                  <a:pt x="22203" y="15342"/>
                  <a:pt x="22151" y="15478"/>
                </a:cubicBezTo>
                <a:cubicBezTo>
                  <a:pt x="22062" y="15709"/>
                  <a:pt x="21929" y="15914"/>
                  <a:pt x="21803" y="16123"/>
                </a:cubicBezTo>
                <a:cubicBezTo>
                  <a:pt x="21748" y="16215"/>
                  <a:pt x="21810" y="16172"/>
                  <a:pt x="21754" y="16173"/>
                </a:cubicBezTo>
                <a:cubicBezTo>
                  <a:pt x="21797" y="16033"/>
                  <a:pt x="21790" y="15943"/>
                  <a:pt x="21952" y="15974"/>
                </a:cubicBezTo>
                <a:cubicBezTo>
                  <a:pt x="22152" y="16012"/>
                  <a:pt x="22245" y="16073"/>
                  <a:pt x="22448" y="15999"/>
                </a:cubicBezTo>
                <a:cubicBezTo>
                  <a:pt x="22612" y="15939"/>
                  <a:pt x="22555" y="15968"/>
                  <a:pt x="22622" y="15974"/>
                </a:cubicBezTo>
              </a:path>
              <a:path w="6599" h="3399">
                <a:moveTo>
                  <a:pt x="21654" y="16644"/>
                </a:moveTo>
                <a:cubicBezTo>
                  <a:pt x="21813" y="16702"/>
                  <a:pt x="21944" y="16726"/>
                  <a:pt x="22126" y="16743"/>
                </a:cubicBezTo>
                <a:cubicBezTo>
                  <a:pt x="22425" y="16771"/>
                  <a:pt x="22698" y="16726"/>
                  <a:pt x="22994" y="16669"/>
                </a:cubicBezTo>
                <a:cubicBezTo>
                  <a:pt x="23261" y="16618"/>
                  <a:pt x="23522" y="16576"/>
                  <a:pt x="23738" y="16396"/>
                </a:cubicBezTo>
                <a:cubicBezTo>
                  <a:pt x="23869" y="16287"/>
                  <a:pt x="24079" y="16070"/>
                  <a:pt x="24036" y="15875"/>
                </a:cubicBezTo>
                <a:cubicBezTo>
                  <a:pt x="24013" y="15768"/>
                  <a:pt x="23964" y="15700"/>
                  <a:pt x="23961" y="15577"/>
                </a:cubicBezTo>
                <a:cubicBezTo>
                  <a:pt x="23957" y="15401"/>
                  <a:pt x="23941" y="15231"/>
                  <a:pt x="23937" y="15056"/>
                </a:cubicBezTo>
                <a:cubicBezTo>
                  <a:pt x="23932" y="14800"/>
                  <a:pt x="23918" y="14717"/>
                  <a:pt x="23763" y="14511"/>
                </a:cubicBezTo>
                <a:cubicBezTo>
                  <a:pt x="23640" y="14348"/>
                  <a:pt x="23544" y="14176"/>
                  <a:pt x="23366" y="14064"/>
                </a:cubicBezTo>
                <a:cubicBezTo>
                  <a:pt x="23189" y="13952"/>
                  <a:pt x="22974" y="13949"/>
                  <a:pt x="22771" y="13965"/>
                </a:cubicBezTo>
                <a:cubicBezTo>
                  <a:pt x="22457" y="13989"/>
                  <a:pt x="22098" y="14068"/>
                  <a:pt x="21828" y="14238"/>
                </a:cubicBezTo>
                <a:cubicBezTo>
                  <a:pt x="21652" y="14349"/>
                  <a:pt x="21349" y="14582"/>
                  <a:pt x="21233" y="14759"/>
                </a:cubicBezTo>
                <a:cubicBezTo>
                  <a:pt x="21087" y="14981"/>
                  <a:pt x="21093" y="15276"/>
                  <a:pt x="21059" y="15528"/>
                </a:cubicBezTo>
                <a:cubicBezTo>
                  <a:pt x="21021" y="15809"/>
                  <a:pt x="21101" y="16126"/>
                  <a:pt x="21357" y="16297"/>
                </a:cubicBezTo>
                <a:cubicBezTo>
                  <a:pt x="21568" y="16438"/>
                  <a:pt x="21812" y="16450"/>
                  <a:pt x="22051" y="16495"/>
                </a:cubicBezTo>
                <a:cubicBezTo>
                  <a:pt x="22147" y="16519"/>
                  <a:pt x="22176" y="16525"/>
                  <a:pt x="22225" y="16570"/>
                </a:cubicBezTo>
              </a:path>
              <a:path w="6599" h="3399">
                <a:moveTo>
                  <a:pt x="23614" y="15974"/>
                </a:moveTo>
                <a:lnTo>
                  <a:pt x="23614" y="15974"/>
                </a:lnTo>
                <a:lnTo>
                  <a:pt x="23614" y="15974"/>
                </a:lnTo>
              </a:path>
              <a:path w="6599" h="3399">
                <a:moveTo>
                  <a:pt x="23490" y="15974"/>
                </a:moveTo>
                <a:cubicBezTo>
                  <a:pt x="23422" y="15991"/>
                  <a:pt x="23349" y="16056"/>
                  <a:pt x="23292" y="16098"/>
                </a:cubicBezTo>
                <a:cubicBezTo>
                  <a:pt x="23218" y="16152"/>
                  <a:pt x="22992" y="16298"/>
                  <a:pt x="23068" y="16247"/>
                </a:cubicBezTo>
                <a:cubicBezTo>
                  <a:pt x="23175" y="16176"/>
                  <a:pt x="23283" y="16077"/>
                  <a:pt x="23416" y="16049"/>
                </a:cubicBezTo>
                <a:cubicBezTo>
                  <a:pt x="23462" y="16039"/>
                  <a:pt x="23626" y="16008"/>
                  <a:pt x="23664" y="16049"/>
                </a:cubicBezTo>
                <a:cubicBezTo>
                  <a:pt x="23745" y="16136"/>
                  <a:pt x="23710" y="16179"/>
                  <a:pt x="23837" y="16197"/>
                </a:cubicBezTo>
                <a:cubicBezTo>
                  <a:pt x="23884" y="16204"/>
                  <a:pt x="23925" y="16207"/>
                  <a:pt x="23937" y="1617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03800" y="3197160"/>
            <a:ext cx="1689120" cy="133560"/>
          </a:xfrm>
          <a:custGeom>
            <a:avLst/>
            <a:gdLst/>
            <a:ahLst/>
            <a:rect l="l" t="t" r="r" b="b"/>
            <a:pathLst>
              <a:path w="4689" h="373">
                <a:moveTo>
                  <a:pt x="11956" y="9252"/>
                </a:moveTo>
                <a:cubicBezTo>
                  <a:pt x="12435" y="9204"/>
                  <a:pt x="12914" y="9157"/>
                  <a:pt x="13395" y="9103"/>
                </a:cubicBezTo>
                <a:cubicBezTo>
                  <a:pt x="14230" y="9009"/>
                  <a:pt x="15083" y="8880"/>
                  <a:pt x="15925" y="8880"/>
                </a:cubicBezTo>
                <a:cubicBezTo>
                  <a:pt x="16129" y="8880"/>
                  <a:pt x="16599" y="8872"/>
                  <a:pt x="16619" y="910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 Workbook pg. 8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 pg.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840" y="4714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993" y="13097"/>
                </a:moveTo>
                <a:lnTo>
                  <a:pt x="19993" y="13097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0760" y="5929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891" y="16470"/>
                </a:moveTo>
                <a:lnTo>
                  <a:pt x="13891" y="16470"/>
                </a:ln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37:29Z</dcterms:created>
  <dc:creator>Brian McGrath</dc:creator>
  <dc:description/>
  <dc:language>en-US</dc:language>
  <cp:lastModifiedBy>ccps</cp:lastModifiedBy>
  <dcterms:modified xsi:type="dcterms:W3CDTF">2010-04-06T17:39:54Z</dcterms:modified>
  <cp:revision>4</cp:revision>
  <dc:subject/>
  <dc:title>Tuesday, April 6, 2010</dc:title>
</cp:coreProperties>
</file>